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FC3-053E-4936-8E53-2CE4E959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2BE-8A5F-4181-87CF-3BE01DEE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A46-8530-4CD7-9B10-90DEF635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CDB-7FCB-4330-A741-6188F449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C6F-E384-4003-8D35-DEA72D01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963-384D-4B37-B066-F6A1A434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405-F48B-4AE8-9E76-CCE652A3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929-D4F2-4DAD-910C-9A7409C9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6CA-466F-49CB-94D6-E0A58397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0DC-E242-4E47-B2AA-BF5C587A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56B-A665-4D40-9BBC-7FC5B917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18E-EBE1-44CA-A1D0-AEB2211E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12E8-89D8-4169-B581-B89C6AE37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919080" y="960480"/>
            <a:ext cx="7324920" cy="4881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00"/>
                </a:solidFill>
                <a:latin typeface="Arial"/>
              </a:rPr>
              <a:t>Weihnachtsvorlesung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04080" y="368136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Zurück in die 1. K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atische Suche nach Lösu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7040" y="1747800"/>
            <a:ext cx="3009960" cy="3943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48560" y="16765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 wird hochgezäh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20640" y="23004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läuft dann von 1 bis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6480" y="29592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läuft dann von 1 bi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75560" y="36655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: z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3006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01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7260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4388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50133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61080" y="472428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9800" y="472284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61080" y="443700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9800" y="4435560"/>
            <a:ext cx="28728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8880" y="443376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9960" y="4722840"/>
            <a:ext cx="4546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1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4000" y="56610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1..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3789360"/>
            <a:ext cx="203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 „z-Schicht“ ist eine Dreiecksz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40560" y="5032440"/>
            <a:ext cx="2108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Schichten für z = 1 bis z = z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ilden eine Tetraederz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rot="19851600">
            <a:off x="2968560" y="646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851600">
            <a:off x="2666880" y="1168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851600">
            <a:off x="3263760" y="1168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851600">
            <a:off x="2981160" y="1700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851600">
            <a:off x="2679840" y="222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851600">
            <a:off x="3276720" y="222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851600">
            <a:off x="3568320" y="17013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851600">
            <a:off x="2387160" y="17013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9851600">
            <a:off x="3873600" y="2235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51600">
            <a:off x="2082600" y="22093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9851600">
            <a:off x="1787040" y="27284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9851600">
            <a:off x="1486080" y="3251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851600">
            <a:off x="2082960" y="3251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851600">
            <a:off x="1800000" y="37825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851600">
            <a:off x="1498320" y="43048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851600">
            <a:off x="2095200" y="43048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851600">
            <a:off x="2387520" y="3784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851600">
            <a:off x="1206360" y="3784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9851600">
            <a:off x="2692080" y="4317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51600">
            <a:off x="901800" y="429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851600">
            <a:off x="4162320" y="2768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851600">
            <a:off x="3860280" y="3290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851600">
            <a:off x="4457520" y="3290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9851600">
            <a:off x="4162320" y="382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9851600">
            <a:off x="3873240" y="4344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851600">
            <a:off x="4470120" y="4344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851600">
            <a:off x="4762440" y="3824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851600">
            <a:off x="3568680" y="3811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9851600">
            <a:off x="5067360" y="4357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851600">
            <a:off x="3276720" y="4332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851600">
            <a:off x="2981160" y="275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851600">
            <a:off x="2679840" y="3276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9851600">
            <a:off x="3276720" y="3276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9851600">
            <a:off x="3568320" y="27554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9851600">
            <a:off x="2374920" y="2743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9851600">
            <a:off x="2984400" y="3797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9851600">
            <a:off x="1193760" y="482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9851600">
            <a:off x="1790640" y="482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9851600">
            <a:off x="2387160" y="4836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9851600">
            <a:off x="596880" y="4811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9851600">
            <a:off x="3568320" y="4863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9851600">
            <a:off x="4165200" y="4863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9851600">
            <a:off x="4762440" y="4876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851600">
            <a:off x="2971800" y="4851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851600">
            <a:off x="901800" y="5345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851600">
            <a:off x="1498680" y="5345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851600">
            <a:off x="2095560" y="5357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851600">
            <a:off x="304560" y="5331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9851600">
            <a:off x="3276720" y="5384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851600">
            <a:off x="3873600" y="5384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9851600">
            <a:off x="4470480" y="5397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9851600">
            <a:off x="2679840" y="5372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851600">
            <a:off x="596880" y="5853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9851600">
            <a:off x="1193760" y="5853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9851600">
            <a:off x="1790640" y="5865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9851600">
            <a:off x="0" y="58399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9851600">
            <a:off x="2971800" y="589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851600">
            <a:off x="3568680" y="589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851600">
            <a:off x="4165200" y="5905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851600">
            <a:off x="2374920" y="5880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851600">
            <a:off x="4762440" y="5931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851600">
            <a:off x="5359320" y="5931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851600">
            <a:off x="5956200" y="5943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9851600">
            <a:off x="5054760" y="5397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851600">
            <a:off x="5651280" y="54097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9851600">
            <a:off x="5346360" y="49017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37560" y="422280"/>
            <a:ext cx="33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reiecks-Zah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00560" y="1576440"/>
            <a:ext cx="347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y-te Dreieckszahl findet man im Pascalschen Dreieck in der „Spalte“ mi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2 und der Zeile mi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156360" y="3068640"/>
          <a:ext cx="201600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3068640"/>
                    <a:ext cx="20160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880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0816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4348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5144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468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0524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7664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0696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5280" y="33274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3584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8702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69080" y="288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24130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65760" y="37846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86680" y="37846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07240" y="3797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0696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15280" y="36320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3584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1748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69080" y="318780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27176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95560" y="306072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4680" y="325116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17840" y="32511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4040" y="27939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51440" y="311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61120" y="3441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94640" y="3441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4048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27880" y="33019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4800" y="4844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54480" y="330120"/>
            <a:ext cx="45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ie Tetraederzah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82880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0816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4348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5144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468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0524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7664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0696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15280" y="33274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3584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28702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288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40480" y="24130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65760" y="37846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86680" y="37846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7240" y="3797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1520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0696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5280" y="36320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3584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31748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69080" y="318780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40480" y="27176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95560" y="306072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84680" y="325116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17840" y="32511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4040" y="27939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51440" y="311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61120" y="3441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4640" y="3441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4048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33019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1600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16002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0816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16128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4480" y="48448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+ 3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2880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0816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4348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5144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8468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0524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7664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0696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15280" y="33274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3584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28702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69080" y="288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40480" y="24130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65760" y="37846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86680" y="37846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07240" y="3797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0696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15280" y="36320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3584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31748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69080" y="318780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40480" y="27176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95560" y="306072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84680" y="325116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17840" y="32511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64040" y="27939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51440" y="311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61120" y="3441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94640" y="3441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4048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27880" y="33019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43480" y="1828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51440" y="1828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18288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84680" y="1371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05240" y="1384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76640" y="91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18288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18288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41880" y="1371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58360" y="48448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4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+ 6 =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828800" y="3200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32004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08160" y="27432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4348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51440" y="34290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3429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4680" y="29718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0524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7664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0696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515280" y="33274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035840" y="33274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48520" y="28702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69080" y="2882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540480" y="24130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65760" y="37846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86680" y="378468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07240" y="3797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15200" y="380988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0696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515280" y="36320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35840" y="36320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8520" y="317484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769080" y="318780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40480" y="27176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95560" y="306072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84680" y="325116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17840" y="32511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64040" y="27939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51440" y="311148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61120" y="3441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94640" y="3441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29844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27880" y="33019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32520" y="1219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540480" y="1219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61040" y="12193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73720" y="762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94640" y="7747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66040" y="30492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91320" y="1676520"/>
            <a:ext cx="53316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11880" y="16765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32440" y="168912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40760" y="170172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1036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81680" y="1752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26444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89720" y="1219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10280" y="1219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756480" y="8128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465800" y="484488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10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+ 10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rot="19851600">
            <a:off x="2968560" y="646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9851600">
            <a:off x="2666880" y="1168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9851600">
            <a:off x="3263760" y="11685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9851600">
            <a:off x="2981160" y="1700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9851600">
            <a:off x="2679840" y="222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9851600">
            <a:off x="3276720" y="222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9851600">
            <a:off x="3568320" y="17013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9851600">
            <a:off x="2387160" y="17013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851600">
            <a:off x="3873600" y="2235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9851600">
            <a:off x="2082600" y="22093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9851600">
            <a:off x="1787040" y="27284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9851600">
            <a:off x="1486080" y="3251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851600">
            <a:off x="2082960" y="32511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9851600">
            <a:off x="1800000" y="37825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9851600">
            <a:off x="1498320" y="43048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9851600">
            <a:off x="2095200" y="43048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9851600">
            <a:off x="2387520" y="3784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9851600">
            <a:off x="1206360" y="3784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9851600">
            <a:off x="2692080" y="4317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9851600">
            <a:off x="901800" y="42926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9851600">
            <a:off x="4162320" y="2768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9851600">
            <a:off x="3860280" y="3290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9851600">
            <a:off x="4457520" y="32904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9851600">
            <a:off x="4162320" y="382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9851600">
            <a:off x="3873240" y="4344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9851600">
            <a:off x="4470120" y="43444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9851600">
            <a:off x="4762440" y="3824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9851600">
            <a:off x="3568680" y="38116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9851600">
            <a:off x="5067360" y="43578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9851600">
            <a:off x="3276720" y="4332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9851600">
            <a:off x="2981160" y="275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9851600">
            <a:off x="2679840" y="3276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9851600">
            <a:off x="3276720" y="32767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9851600">
            <a:off x="3568320" y="275544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851600">
            <a:off x="2374920" y="27432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9851600">
            <a:off x="2984400" y="3797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9851600">
            <a:off x="1193760" y="482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9851600">
            <a:off x="1790640" y="4824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9851600">
            <a:off x="2387160" y="4836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851600">
            <a:off x="596880" y="48117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9851600">
            <a:off x="3568320" y="4863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9851600">
            <a:off x="4165200" y="486360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9851600">
            <a:off x="4762440" y="4876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9851600">
            <a:off x="2971800" y="485136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9851600">
            <a:off x="901800" y="5345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19851600">
            <a:off x="1498680" y="5345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851600">
            <a:off x="2095560" y="5357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851600">
            <a:off x="304560" y="53319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9851600">
            <a:off x="3276720" y="5384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9851600">
            <a:off x="3873600" y="53848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9851600">
            <a:off x="4470480" y="5397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9851600">
            <a:off x="2679840" y="53722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9851600">
            <a:off x="596880" y="5853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9851600">
            <a:off x="1193760" y="5853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9851600">
            <a:off x="1790640" y="5865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e3595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9851600">
            <a:off x="0" y="58399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9851600">
            <a:off x="2971800" y="589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9851600">
            <a:off x="3568680" y="58928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9851600">
            <a:off x="4165200" y="590508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9851600">
            <a:off x="2374920" y="588024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9851600">
            <a:off x="4762440" y="5931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9851600">
            <a:off x="5359320" y="59310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9851600">
            <a:off x="5956200" y="594360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9851600">
            <a:off x="5054760" y="539748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9851600">
            <a:off x="5651280" y="540972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9851600">
            <a:off x="5346360" y="4901760"/>
            <a:ext cx="685800" cy="609840"/>
          </a:xfrm>
          <a:prstGeom prst="hexagon">
            <a:avLst>
              <a:gd name="adj" fmla="val 28114"/>
              <a:gd name="vf" fmla="val 11547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75360" y="42228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etraeder-Zah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00560" y="1576440"/>
            <a:ext cx="347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-te Tetraederzahl findet man im Pascalschen Dreieck in der „Spalte“ mi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3 und der Zeile mi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875200" y="2844720"/>
          <a:ext cx="294480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0" y="2844720"/>
                    <a:ext cx="294480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atische Suche nach Lösu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1628640"/>
            <a:ext cx="780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viele erfolglose Tests muss man durchlaufen, bis man zur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.8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17.5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14.5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22.48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komm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4360" y="2924280"/>
            <a:ext cx="79419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traeder bis z = 414.559 Das s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∙414.56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∙ 414.560 ∙ 414.559 = 11.874.379.824.400.2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wa 12 Billiarden Möglichkeit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ür z = 414.560 Dreieck bis y = 217.518 ebenfalls erfolg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∙ 217.519 ∙ 217.518 = 23.657.148.921  „nur“ ca. 24 Millia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55360" y="5041800"/>
            <a:ext cx="71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illiarden Sekunden sind ca. 376 Millionen Ja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29440" cy="56847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050640" y="5516640"/>
            <a:ext cx="46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ust exactly, how many is a brazillion?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44880" y="4581360"/>
            <a:ext cx="4533840" cy="1727280"/>
            <a:chOff x="3044880" y="4581360"/>
            <a:chExt cx="4533840" cy="1727280"/>
          </a:xfrm>
        </p:grpSpPr>
        <p:sp>
          <p:nvSpPr>
            <p:cNvPr id="433" name=""/>
            <p:cNvSpPr/>
            <p:nvPr/>
          </p:nvSpPr>
          <p:spPr>
            <a:xfrm>
              <a:off x="3044880" y="4581360"/>
              <a:ext cx="4533840" cy="1727280"/>
            </a:xfrm>
            <a:prstGeom prst="triangle">
              <a:avLst>
                <a:gd name="adj" fmla="val 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64560" y="5929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59280" y="527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044880" y="1775880"/>
            <a:ext cx="1727280" cy="4534200"/>
            <a:chOff x="3044880" y="1775880"/>
            <a:chExt cx="1727280" cy="4534200"/>
          </a:xfrm>
        </p:grpSpPr>
        <p:sp>
          <p:nvSpPr>
            <p:cNvPr id="437" name=""/>
            <p:cNvSpPr/>
            <p:nvPr/>
          </p:nvSpPr>
          <p:spPr>
            <a:xfrm rot="16200000">
              <a:off x="1641240" y="3179160"/>
              <a:ext cx="4534200" cy="1727280"/>
            </a:xfrm>
            <a:prstGeom prst="triangle">
              <a:avLst>
                <a:gd name="adj" fmla="val 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40400" y="593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63520" y="3500280"/>
            <a:ext cx="2808360" cy="2808360"/>
            <a:chOff x="263520" y="3500280"/>
            <a:chExt cx="2808360" cy="2808360"/>
          </a:xfrm>
        </p:grpSpPr>
        <p:grpSp>
          <p:nvGrpSpPr>
            <p:cNvPr id="440" name=""/>
            <p:cNvGrpSpPr/>
            <p:nvPr/>
          </p:nvGrpSpPr>
          <p:grpSpPr>
            <a:xfrm>
              <a:off x="263520" y="3500280"/>
              <a:ext cx="2808360" cy="2808360"/>
              <a:chOff x="263520" y="3500280"/>
              <a:chExt cx="2808360" cy="2808360"/>
            </a:xfrm>
          </p:grpSpPr>
          <p:sp>
            <p:nvSpPr>
              <p:cNvPr id="441" name=""/>
              <p:cNvSpPr/>
              <p:nvPr/>
            </p:nvSpPr>
            <p:spPr>
              <a:xfrm>
                <a:off x="263520" y="4581360"/>
                <a:ext cx="2806560" cy="17272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63520" y="3500280"/>
                <a:ext cx="2808360" cy="1079640"/>
              </a:xfrm>
              <a:prstGeom prst="triangle">
                <a:avLst>
                  <a:gd name="adj" fmla="val 0"/>
                </a:avLst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1232640" y="5900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65800" y="529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2280" y="4738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044880" y="1774800"/>
            <a:ext cx="1727280" cy="4533840"/>
            <a:chOff x="3044880" y="1774800"/>
            <a:chExt cx="1727280" cy="4533840"/>
          </a:xfrm>
        </p:grpSpPr>
        <p:sp>
          <p:nvSpPr>
            <p:cNvPr id="447" name=""/>
            <p:cNvSpPr/>
            <p:nvPr/>
          </p:nvSpPr>
          <p:spPr>
            <a:xfrm rot="5400000">
              <a:off x="1641240" y="3178080"/>
              <a:ext cx="4533840" cy="1727280"/>
            </a:xfrm>
            <a:prstGeom prst="triangle">
              <a:avLst>
                <a:gd name="adj" fmla="val 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81720" y="1866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36520" y="3498840"/>
            <a:ext cx="4533840" cy="1727280"/>
            <a:chOff x="236520" y="3498840"/>
            <a:chExt cx="4533840" cy="1727280"/>
          </a:xfrm>
        </p:grpSpPr>
        <p:sp>
          <p:nvSpPr>
            <p:cNvPr id="450" name=""/>
            <p:cNvSpPr/>
            <p:nvPr/>
          </p:nvSpPr>
          <p:spPr>
            <a:xfrm rot="10800000">
              <a:off x="236520" y="3498840"/>
              <a:ext cx="4533840" cy="1727280"/>
            </a:xfrm>
            <a:prstGeom prst="triangle">
              <a:avLst>
                <a:gd name="adj" fmla="val 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51760" y="3764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50560" y="1773720"/>
            <a:ext cx="2808360" cy="2807640"/>
            <a:chOff x="250560" y="1773720"/>
            <a:chExt cx="2808360" cy="2807640"/>
          </a:xfrm>
        </p:grpSpPr>
        <p:grpSp>
          <p:nvGrpSpPr>
            <p:cNvPr id="453" name=""/>
            <p:cNvGrpSpPr/>
            <p:nvPr/>
          </p:nvGrpSpPr>
          <p:grpSpPr>
            <a:xfrm>
              <a:off x="250560" y="1773720"/>
              <a:ext cx="2808360" cy="2807640"/>
              <a:chOff x="250560" y="1773720"/>
              <a:chExt cx="2808360" cy="2807640"/>
            </a:xfrm>
          </p:grpSpPr>
          <p:sp>
            <p:nvSpPr>
              <p:cNvPr id="454" name=""/>
              <p:cNvSpPr/>
              <p:nvPr/>
            </p:nvSpPr>
            <p:spPr>
              <a:xfrm rot="10800000">
                <a:off x="252360" y="1773360"/>
                <a:ext cx="2806560" cy="17269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0800000">
                <a:off x="250560" y="3502080"/>
                <a:ext cx="2808360" cy="1079280"/>
              </a:xfrm>
              <a:prstGeom prst="triangle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1451520" y="1836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69320" y="28209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9040" y="2563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46821E-006 L 0.49444 0.25271 E">
                                      <p:cBhvr>
                                        <p:cTn id="58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4440" y="2066760"/>
            <a:ext cx="5619960" cy="2457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ählen im Stellenwert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4014720"/>
            <a:ext cx="381240" cy="6098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014720"/>
            <a:ext cx="914400" cy="114300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4014720"/>
            <a:ext cx="1447920" cy="167652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4014720"/>
            <a:ext cx="2057400" cy="22100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3280" y="43959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2920" y="494496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h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3280" y="54943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nd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3640" y="60436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u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109960"/>
            <a:ext cx="22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im Wechsel von 9 auf 0 schickt ein Zählrad einen Übertrag an das linke Neben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86040" y="2897280"/>
            <a:ext cx="2508480" cy="90324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6880" y="133524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 Kilometerzäh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00000" y="1989000"/>
            <a:ext cx="2592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140360" y="1989000"/>
            <a:ext cx="403200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81280" y="481644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t: 21 x 21 = 4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006160" y="37893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teck: 34 x 13 = 4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57240" y="3500280"/>
            <a:ext cx="2820960" cy="2808360"/>
            <a:chOff x="957240" y="3500280"/>
            <a:chExt cx="2820960" cy="2808360"/>
          </a:xfrm>
        </p:grpSpPr>
        <p:sp>
          <p:nvSpPr>
            <p:cNvPr id="466" name=""/>
            <p:cNvSpPr/>
            <p:nvPr/>
          </p:nvSpPr>
          <p:spPr>
            <a:xfrm>
              <a:off x="971640" y="4581360"/>
              <a:ext cx="2806560" cy="172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57240" y="3500280"/>
              <a:ext cx="2808360" cy="1079640"/>
            </a:xfrm>
            <a:prstGeom prst="triangle">
              <a:avLst>
                <a:gd name="adj" fmla="val 0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40400" y="5900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73920" y="529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40400" y="4738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80000" y="4581360"/>
            <a:ext cx="4533840" cy="1727280"/>
            <a:chOff x="3780000" y="4581360"/>
            <a:chExt cx="4533840" cy="1727280"/>
          </a:xfrm>
        </p:grpSpPr>
        <p:sp>
          <p:nvSpPr>
            <p:cNvPr id="472" name=""/>
            <p:cNvSpPr/>
            <p:nvPr/>
          </p:nvSpPr>
          <p:spPr>
            <a:xfrm>
              <a:off x="3780000" y="4581360"/>
              <a:ext cx="4533840" cy="1727280"/>
            </a:xfrm>
            <a:prstGeom prst="triangle">
              <a:avLst>
                <a:gd name="adj" fmla="val 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99680" y="5929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94400" y="527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971640" y="3513240"/>
            <a:ext cx="2808360" cy="1079280"/>
            <a:chOff x="971640" y="3513240"/>
            <a:chExt cx="2808360" cy="1079280"/>
          </a:xfrm>
        </p:grpSpPr>
        <p:sp>
          <p:nvSpPr>
            <p:cNvPr id="476" name=""/>
            <p:cNvSpPr/>
            <p:nvPr/>
          </p:nvSpPr>
          <p:spPr>
            <a:xfrm>
              <a:off x="971640" y="3513240"/>
              <a:ext cx="2808360" cy="1079280"/>
            </a:xfrm>
            <a:prstGeom prst="triangle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41840" y="3881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96040" y="4171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9" name=""/>
          <p:cNvGraphicFramePr/>
          <p:nvPr/>
        </p:nvGraphicFramePr>
        <p:xfrm>
          <a:off x="1146240" y="2171880"/>
          <a:ext cx="258264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171880"/>
                    <a:ext cx="258264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4903920" y="3521160"/>
          <a:ext cx="2584440" cy="11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3920" y="3521160"/>
                    <a:ext cx="258444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957240" y="3500280"/>
            <a:ext cx="2820960" cy="2808360"/>
            <a:chOff x="957240" y="3500280"/>
            <a:chExt cx="2820960" cy="2808360"/>
          </a:xfrm>
        </p:grpSpPr>
        <p:sp>
          <p:nvSpPr>
            <p:cNvPr id="485" name=""/>
            <p:cNvSpPr/>
            <p:nvPr/>
          </p:nvSpPr>
          <p:spPr>
            <a:xfrm>
              <a:off x="971640" y="4581360"/>
              <a:ext cx="2806560" cy="172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57240" y="3500280"/>
              <a:ext cx="2808360" cy="1079640"/>
            </a:xfrm>
            <a:prstGeom prst="triangle">
              <a:avLst>
                <a:gd name="adj" fmla="val 0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40400" y="59007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73920" y="529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40400" y="4738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780000" y="4581360"/>
            <a:ext cx="4533840" cy="1727280"/>
            <a:chOff x="3780000" y="4581360"/>
            <a:chExt cx="4533840" cy="1727280"/>
          </a:xfrm>
        </p:grpSpPr>
        <p:sp>
          <p:nvSpPr>
            <p:cNvPr id="491" name=""/>
            <p:cNvSpPr/>
            <p:nvPr/>
          </p:nvSpPr>
          <p:spPr>
            <a:xfrm>
              <a:off x="3780000" y="4581360"/>
              <a:ext cx="4533840" cy="1727280"/>
            </a:xfrm>
            <a:prstGeom prst="triangle">
              <a:avLst>
                <a:gd name="adj" fmla="val 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9680" y="5929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94400" y="527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4" name=""/>
          <p:cNvGraphicFramePr/>
          <p:nvPr/>
        </p:nvGraphicFramePr>
        <p:xfrm>
          <a:off x="1378080" y="4189320"/>
          <a:ext cx="158112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4189320"/>
                    <a:ext cx="15811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4381560" y="5248440"/>
          <a:ext cx="153828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560" y="5248440"/>
                    <a:ext cx="15382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957240" y="3497400"/>
            <a:ext cx="7388280" cy="2801880"/>
          </a:xfrm>
          <a:prstGeom prst="rect">
            <a:avLst/>
          </a:prstGeom>
          <a:solidFill>
            <a:srgbClr val="bbe0e3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96920" y="2066760"/>
            <a:ext cx="716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echteck hat in der Mitte eine Lücke der Fäche 1, die nicht mitgezählt werden dar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nteilung ohne Kn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960480" y="3500280"/>
            <a:ext cx="2808360" cy="2808360"/>
            <a:chOff x="960480" y="3500280"/>
            <a:chExt cx="2808360" cy="2808360"/>
          </a:xfrm>
        </p:grpSpPr>
        <p:sp>
          <p:nvSpPr>
            <p:cNvPr id="502" name=""/>
            <p:cNvSpPr/>
            <p:nvPr/>
          </p:nvSpPr>
          <p:spPr>
            <a:xfrm>
              <a:off x="960480" y="4581360"/>
              <a:ext cx="2806560" cy="172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60480" y="3500280"/>
              <a:ext cx="2808360" cy="1079640"/>
            </a:xfrm>
            <a:prstGeom prst="triangle">
              <a:avLst>
                <a:gd name="adj" fmla="val 0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148200" y="5275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85920" y="5945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2355840" y="3165480"/>
            <a:ext cx="4533840" cy="1727280"/>
          </a:xfrm>
          <a:prstGeom prst="triangle">
            <a:avLst>
              <a:gd name="adj" fmla="val 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54640" y="5916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9292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070640" y="3940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40040" y="5264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956880" y="4586400"/>
            <a:ext cx="28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81040" y="3497040"/>
            <a:ext cx="0" cy="278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6040" y="4826160"/>
            <a:ext cx="29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697360" y="1841400"/>
          <a:ext cx="327204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7360" y="1841400"/>
                    <a:ext cx="327204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5831640" y="47386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goldene Schn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8200" y="196920"/>
            <a:ext cx="673272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nn man ohne Stellenwert rechnet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09840" y="1920960"/>
            <a:ext cx="610056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4440" y="1709640"/>
            <a:ext cx="5619960" cy="2457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kaputte km-Zäh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657600"/>
            <a:ext cx="381240" cy="60948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657600"/>
            <a:ext cx="914400" cy="114300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657600"/>
            <a:ext cx="1447920" cy="167652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3657600"/>
            <a:ext cx="2057400" cy="220968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3280" y="4038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2920" y="45878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eh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3280" y="51372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und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3640" y="56865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u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752480"/>
            <a:ext cx="245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 Übertragsräder sind defekt. Beim Wechsel von 9 auf 0 ist der Übertrag an das linke Nebenrad immer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686040" y="2354400"/>
            <a:ext cx="2451240" cy="18576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kaputte km-Zäh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3080" y="1654200"/>
            <a:ext cx="8486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lometerzähler in anderen Basissyst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66760" y="1952640"/>
            <a:ext cx="3375000" cy="3848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067360" y="1401840"/>
            <a:ext cx="35830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 Simpsons haben an jeder Hand nur vier Finger. Logischerweise zählen und rechnen sie daher im Achter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r hat auch einen kaputten  Kilometerzähler, der nach jeder Um-drehung 3 Zahlen in den Übertrag schic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hnen mit dem kaputten km-Zäh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wärts zä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ückwärts zä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 Zähler [(10,3)-Sytem] zeigt zu Beginn 327. Ich fahre 3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rmal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ilometer. Was zeigt dann der Kilometerstand am kaputten km-Zäh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 Zähler [(9,4)-System] zeigt zu Beginn einer Fahrt 8275 und am Ende 43118. Wie viele Kilometer ist man gefah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7280" y="1704960"/>
            <a:ext cx="29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z von Pytha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1720" y="3257640"/>
            <a:ext cx="431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ürliche 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ythagoräische Zahlentri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(3, 4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730680" y="3287880"/>
          <a:ext cx="144936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0680" y="3287880"/>
                    <a:ext cx="144936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591880" y="1747800"/>
            <a:ext cx="26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oßer Ferma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, 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9400" y="3257640"/>
            <a:ext cx="29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ürliche 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um muss immer alles bewiesen we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5120" y="1631880"/>
            <a:ext cx="66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lersche Vermutung (speziell) 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6960" y="2368440"/>
            <a:ext cx="65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ler 1769: Es gibt keine natürlichen 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5120" y="4038480"/>
            <a:ext cx="78087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4520" indent="-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am Elkies 1988: Es gibt unendlich viele natürliche 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4520" indent="-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84520" indent="-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ger Frye 1988: Die kleinste Lösung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4520" indent="-2684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95.80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217.519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414.56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422.481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8000" y="317196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y 1981: Es gibt keine Lösung mit d &lt; 22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9:36:01Z</dcterms:created>
  <dc:creator>Reimund</dc:creator>
  <dc:description/>
  <dc:language>en-US</dc:language>
  <cp:lastModifiedBy>Reimund</cp:lastModifiedBy>
  <dcterms:modified xsi:type="dcterms:W3CDTF">2007-12-20T17:15:59Z</dcterms:modified>
  <cp:revision>31</cp:revision>
  <dc:subject/>
  <dc:title>Weihnachtsvorlesung 2007</dc:title>
</cp:coreProperties>
</file>