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9CE-2466-4CE1-B954-46002E88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670-188F-42ED-B734-6CA48E0A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046-0FA6-4F8E-ACD2-683BCE21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4C8-EE70-4390-981F-EB2DD57E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A83-7060-4A0A-8F86-6E648B9F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B83-CDFD-4BC7-B9D0-DC1AABC0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582-CA6E-4B51-AF11-37DA5C2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3FA-0990-416D-9FD2-FDC5C812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89E-C5F9-48D8-9705-CC22221B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5EB-9396-414C-89F6-6A86B62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32D-94F8-4EF1-8405-6C082F58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5EC-5F9C-4B60-B83A-8ADDE669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9FFD-6420-4AEF-96F4-E86C5BA9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520" y="1422360"/>
            <a:ext cx="85852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Snap ITC"/>
              </a:rPr>
              <a:t>Kongruenzabbildu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52680" y="4356000"/>
            <a:ext cx="1930680" cy="1409760"/>
          </a:xfrm>
          <a:custGeom>
            <a:avLst/>
            <a:gdLst/>
            <a:ahLst/>
            <a:rect l="l" t="t" r="r" b="b"/>
            <a:pathLst>
              <a:path w="1216" h="888">
                <a:moveTo>
                  <a:pt x="0" y="0"/>
                </a:moveTo>
                <a:lnTo>
                  <a:pt x="8" y="888"/>
                </a:lnTo>
                <a:lnTo>
                  <a:pt x="1216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2527200"/>
            <a:ext cx="1371600" cy="1930680"/>
          </a:xfrm>
          <a:custGeom>
            <a:avLst/>
            <a:gdLst/>
            <a:ahLst/>
            <a:rect l="l" t="t" r="r" b="b"/>
            <a:pathLst>
              <a:path w="864" h="1216">
                <a:moveTo>
                  <a:pt x="0" y="0"/>
                </a:moveTo>
                <a:lnTo>
                  <a:pt x="864" y="0"/>
                </a:lnTo>
                <a:lnTo>
                  <a:pt x="424" y="1216"/>
                </a:lnTo>
                <a:lnTo>
                  <a:pt x="0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iederholung: Achsenspiegel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1628640"/>
            <a:ext cx="475308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5000" y="41115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1480" y="414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7840" y="5950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633400">
            <a:off x="3658680" y="3222360"/>
            <a:ext cx="96840" cy="1243080"/>
          </a:xfrm>
          <a:custGeom>
            <a:avLst/>
            <a:gdLst>
              <a:gd name="textAreaLeft" fmla="*/ 61920 w 96840"/>
              <a:gd name="textAreaRight" fmla="*/ 97200 w 96840"/>
              <a:gd name="textAreaTop" fmla="*/ 32400 h 1243080"/>
              <a:gd name="textAreaBottom" fmla="*/ 1210680 h 12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37760" y="2136600"/>
            <a:ext cx="366480" cy="567000"/>
            <a:chOff x="4937760" y="2136600"/>
            <a:chExt cx="366480" cy="567000"/>
          </a:xfrm>
        </p:grpSpPr>
        <p:sp>
          <p:nvSpPr>
            <p:cNvPr id="51" name=""/>
            <p:cNvSpPr/>
            <p:nvPr/>
          </p:nvSpPr>
          <p:spPr>
            <a:xfrm>
              <a:off x="4955760" y="2335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37760" y="2136600"/>
              <a:ext cx="36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619280" y="1326960"/>
            <a:ext cx="4665600" cy="4824360"/>
            <a:chOff x="1619280" y="1326960"/>
            <a:chExt cx="4665600" cy="4824360"/>
          </a:xfrm>
        </p:grpSpPr>
        <p:sp>
          <p:nvSpPr>
            <p:cNvPr id="54" name=""/>
            <p:cNvSpPr/>
            <p:nvPr/>
          </p:nvSpPr>
          <p:spPr>
            <a:xfrm flipV="1">
              <a:off x="1619280" y="1326960"/>
              <a:ext cx="4665600" cy="48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56000" y="3324240"/>
              <a:ext cx="85680" cy="21600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18" y="0"/>
                  </a:moveTo>
                  <a:lnTo>
                    <a:pt x="64" y="45"/>
                  </a:lnTo>
                  <a:lnTo>
                    <a:pt x="0" y="1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05240" y="341136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2876400" y="1441080"/>
            <a:ext cx="466596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41920" y="1644480"/>
            <a:ext cx="466560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40520" y="2282760"/>
            <a:ext cx="486360" cy="406440"/>
            <a:chOff x="6140520" y="2282760"/>
            <a:chExt cx="486360" cy="406440"/>
          </a:xfrm>
        </p:grpSpPr>
        <p:sp>
          <p:nvSpPr>
            <p:cNvPr id="60" name=""/>
            <p:cNvSpPr/>
            <p:nvPr/>
          </p:nvSpPr>
          <p:spPr>
            <a:xfrm>
              <a:off x="6140520" y="22827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25920" y="23209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627160" y="4264200"/>
            <a:ext cx="500400" cy="482400"/>
            <a:chOff x="5627160" y="4264200"/>
            <a:chExt cx="500400" cy="482400"/>
          </a:xfrm>
        </p:grpSpPr>
        <p:sp>
          <p:nvSpPr>
            <p:cNvPr id="63" name=""/>
            <p:cNvSpPr/>
            <p:nvPr/>
          </p:nvSpPr>
          <p:spPr>
            <a:xfrm>
              <a:off x="5762520" y="437832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27160" y="42642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025800" y="55339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14440" y="5559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0960" y="4924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4760" y="4759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697000">
            <a:off x="4546080" y="2315880"/>
            <a:ext cx="115920" cy="1222200"/>
          </a:xfrm>
          <a:custGeom>
            <a:avLst/>
            <a:gdLst>
              <a:gd name="textAreaLeft" fmla="*/ 74160 w 115920"/>
              <a:gd name="textAreaRight" fmla="*/ 116280 w 115920"/>
              <a:gd name="textAreaTop" fmla="*/ 31680 h 1222200"/>
              <a:gd name="textAreaBottom" fmla="*/ 1190520 h 122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99 0.13318 L 6.11111E-006 -4.56647E-006 E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55720" y="2090880"/>
            <a:ext cx="1117440" cy="1493640"/>
          </a:xfrm>
          <a:custGeom>
            <a:avLst/>
            <a:gdLst/>
            <a:ahLst/>
            <a:rect l="l" t="t" r="r" b="b"/>
            <a:pathLst>
              <a:path w="704" h="941">
                <a:moveTo>
                  <a:pt x="668" y="0"/>
                </a:moveTo>
                <a:lnTo>
                  <a:pt x="0" y="786"/>
                </a:lnTo>
                <a:lnTo>
                  <a:pt x="704" y="941"/>
                </a:lnTo>
                <a:lnTo>
                  <a:pt x="668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iederholung: Dreh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62760" y="1889280"/>
            <a:ext cx="515880" cy="422280"/>
            <a:chOff x="1562760" y="1889280"/>
            <a:chExt cx="515880" cy="422280"/>
          </a:xfrm>
        </p:grpSpPr>
        <p:sp>
          <p:nvSpPr>
            <p:cNvPr id="73" name=""/>
            <p:cNvSpPr/>
            <p:nvPr/>
          </p:nvSpPr>
          <p:spPr>
            <a:xfrm>
              <a:off x="1777680" y="1889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62760" y="1943280"/>
              <a:ext cx="36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V="1" rot="19588800">
            <a:off x="2534400" y="1920600"/>
            <a:ext cx="312840" cy="3281400"/>
          </a:xfrm>
          <a:custGeom>
            <a:avLst/>
            <a:gdLst>
              <a:gd name="textAreaLeft" fmla="*/ 199800 w 312840"/>
              <a:gd name="textAreaRight" fmla="*/ 313200 w 312840"/>
              <a:gd name="textAreaTop" fmla="*/ 85320 h 3281400"/>
              <a:gd name="textAreaBottom" fmla="*/ 3196080 h 328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94680" y="2857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1400" y="26416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4038200">
            <a:off x="4993560" y="2322360"/>
            <a:ext cx="312840" cy="3281760"/>
          </a:xfrm>
          <a:custGeom>
            <a:avLst/>
            <a:gdLst>
              <a:gd name="textAreaLeft" fmla="*/ 199800 w 312840"/>
              <a:gd name="textAreaRight" fmla="*/ 313200 w 312840"/>
              <a:gd name="textAreaTop" fmla="*/ 85320 h 3281760"/>
              <a:gd name="textAreaBottom" fmla="*/ 3196440 h 328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606480" y="4611600"/>
            <a:ext cx="474480" cy="501840"/>
            <a:chOff x="3606480" y="4611600"/>
            <a:chExt cx="474480" cy="501840"/>
          </a:xfrm>
        </p:grpSpPr>
        <p:sp>
          <p:nvSpPr>
            <p:cNvPr id="80" name=""/>
            <p:cNvSpPr/>
            <p:nvPr/>
          </p:nvSpPr>
          <p:spPr>
            <a:xfrm>
              <a:off x="3769200" y="4745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6480" y="46116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3483000" y="2540160"/>
            <a:ext cx="332424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616040" y="1645920"/>
            <a:ext cx="2311200" cy="345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865000">
            <a:off x="2836440" y="4167720"/>
            <a:ext cx="18277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95" y="249"/>
                </a:moveTo>
                <a:arcTo wR="10800" hR="10800" stAng="-6139477" swAng="3863481"/>
                <a:lnTo>
                  <a:pt x="10800" y="10800"/>
                </a:lnTo>
                <a:close/>
              </a:path>
              <a:path fill="none" w="21600" h="21600">
                <a:moveTo>
                  <a:pt x="8495" y="249"/>
                </a:moveTo>
                <a:arcTo wR="10800" hR="10800" stAng="-6139477" swAng="3863481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6051600">
            <a:off x="2243880" y="3267720"/>
            <a:ext cx="2433600" cy="368280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736560 h 3682800"/>
              <a:gd name="textAreaBottom" fmla="*/ 2477520 h 368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43" stAng="-5400000" swAng="5400000"/>
                <a:lnTo>
                  <a:pt x="21600" y="10209"/>
                </a:lnTo>
                <a:arcTo wR="21600" hR="8643" stAng="0" swAng="2574632"/>
                <a:lnTo>
                  <a:pt x="8540" y="20896"/>
                </a:lnTo>
                <a:lnTo>
                  <a:pt x="0" y="18069"/>
                </a:lnTo>
                <a:lnTo>
                  <a:pt x="8540" y="13834"/>
                </a:lnTo>
                <a:lnTo>
                  <a:pt x="8540" y="16582"/>
                </a:lnTo>
                <a:arcTo wR="21600" hR="8643" stAng="2574632" swAng="-2449554"/>
                <a:lnTo>
                  <a:pt x="21511" y="9426"/>
                </a:lnTo>
                <a:arcTo wR="21600" hR="8643" stAng="-125078" swAng="-5274922"/>
                <a:close/>
              </a:path>
              <a:path fill="darkenLess" w="21600" h="21600">
                <a:moveTo>
                  <a:pt x="0" y="0"/>
                </a:moveTo>
                <a:arcTo wR="21600" hR="8643" stAng="-5400000" swAng="5400000"/>
                <a:lnTo>
                  <a:pt x="21600" y="10209"/>
                </a:lnTo>
                <a:arcTo wR="21600" hR="8643" stAng="0" swAng="-125078"/>
                <a:lnTo>
                  <a:pt x="21511" y="9426"/>
                </a:lnTo>
                <a:arcTo wR="21600" hR="8643" stAng="-125078" swAng="-527492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18000" y="4118040"/>
            <a:ext cx="3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5360" y="1959120"/>
            <a:ext cx="1495440" cy="1015920"/>
          </a:xfrm>
          <a:custGeom>
            <a:avLst/>
            <a:gdLst/>
            <a:ahLst/>
            <a:rect l="l" t="t" r="r" b="b"/>
            <a:pathLst>
              <a:path w="942" h="640">
                <a:moveTo>
                  <a:pt x="92" y="0"/>
                </a:moveTo>
                <a:lnTo>
                  <a:pt x="0" y="640"/>
                </a:lnTo>
                <a:lnTo>
                  <a:pt x="942" y="558"/>
                </a:lnTo>
                <a:lnTo>
                  <a:pt x="92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570120" y="1334880"/>
            <a:ext cx="2351160" cy="38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84080" y="2757600"/>
            <a:ext cx="3353040" cy="23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52720" y="2759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11480" y="17413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66480" y="1593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91080" y="2768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06320" y="3386160"/>
            <a:ext cx="513720" cy="547560"/>
            <a:chOff x="1606320" y="3386160"/>
            <a:chExt cx="513720" cy="547560"/>
          </a:xfrm>
        </p:grpSpPr>
        <p:sp>
          <p:nvSpPr>
            <p:cNvPr id="95" name=""/>
            <p:cNvSpPr/>
            <p:nvPr/>
          </p:nvSpPr>
          <p:spPr>
            <a:xfrm>
              <a:off x="1819080" y="3386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06320" y="35654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83480" y="3137040"/>
            <a:ext cx="520560" cy="447480"/>
            <a:chOff x="483480" y="3137040"/>
            <a:chExt cx="520560" cy="447480"/>
          </a:xfrm>
        </p:grpSpPr>
        <p:sp>
          <p:nvSpPr>
            <p:cNvPr id="98" name=""/>
            <p:cNvSpPr/>
            <p:nvPr/>
          </p:nvSpPr>
          <p:spPr>
            <a:xfrm>
              <a:off x="703080" y="3137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3480" y="321624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 rot="19768200">
            <a:off x="2814840" y="3974400"/>
            <a:ext cx="18273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74" y="819"/>
                </a:moveTo>
                <a:arcTo wR="10800" hR="10800" stAng="-6747459" swAng="4990113"/>
                <a:lnTo>
                  <a:pt x="10800" y="10800"/>
                </a:lnTo>
                <a:close/>
              </a:path>
              <a:path fill="none" w="21600" h="21600">
                <a:moveTo>
                  <a:pt x="6674" y="819"/>
                </a:moveTo>
                <a:arcTo wR="10800" hR="10800" stAng="-6747459" swAng="499011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5440" y="3222720"/>
            <a:ext cx="3903480" cy="19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497400" y="1436760"/>
            <a:ext cx="1800000" cy="39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56240" y="2684520"/>
            <a:ext cx="1495440" cy="1987560"/>
          </a:xfrm>
          <a:custGeom>
            <a:avLst/>
            <a:gdLst/>
            <a:ahLst/>
            <a:rect l="l" t="t" r="r" b="b"/>
            <a:pathLst>
              <a:path w="942" h="1252">
                <a:moveTo>
                  <a:pt x="366" y="0"/>
                </a:moveTo>
                <a:lnTo>
                  <a:pt x="0" y="1252"/>
                </a:lnTo>
                <a:lnTo>
                  <a:pt x="942" y="759"/>
                </a:lnTo>
                <a:lnTo>
                  <a:pt x="366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iederholung: Verschie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3240" y="3017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59120" y="3057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1320" y="3236760"/>
            <a:ext cx="1495440" cy="1987560"/>
          </a:xfrm>
          <a:custGeom>
            <a:avLst/>
            <a:gdLst/>
            <a:ahLst/>
            <a:rect l="l" t="t" r="r" b="b"/>
            <a:pathLst>
              <a:path w="942" h="1252">
                <a:moveTo>
                  <a:pt x="366" y="0"/>
                </a:moveTo>
                <a:lnTo>
                  <a:pt x="0" y="1252"/>
                </a:lnTo>
                <a:lnTo>
                  <a:pt x="942" y="759"/>
                </a:lnTo>
                <a:lnTo>
                  <a:pt x="366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03400" y="1378080"/>
            <a:ext cx="2887920" cy="565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88800" y="4222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90320" y="4406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95160" y="50324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89240" y="5072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64680" y="2243160"/>
            <a:ext cx="531720" cy="590400"/>
            <a:chOff x="4864680" y="2243160"/>
            <a:chExt cx="531720" cy="590400"/>
          </a:xfrm>
        </p:grpSpPr>
        <p:sp>
          <p:nvSpPr>
            <p:cNvPr id="114" name=""/>
            <p:cNvSpPr/>
            <p:nvPr/>
          </p:nvSpPr>
          <p:spPr>
            <a:xfrm>
              <a:off x="5095440" y="2465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4680" y="2243160"/>
              <a:ext cx="36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09840" y="3668760"/>
            <a:ext cx="497160" cy="407880"/>
            <a:chOff x="6009840" y="3668760"/>
            <a:chExt cx="497160" cy="407880"/>
          </a:xfrm>
        </p:grpSpPr>
        <p:sp>
          <p:nvSpPr>
            <p:cNvPr id="117" name=""/>
            <p:cNvSpPr/>
            <p:nvPr/>
          </p:nvSpPr>
          <p:spPr>
            <a:xfrm>
              <a:off x="6009840" y="36687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41960" y="370836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512600" y="4479840"/>
            <a:ext cx="529200" cy="525240"/>
            <a:chOff x="4512600" y="4479840"/>
            <a:chExt cx="529200" cy="525240"/>
          </a:xfrm>
        </p:grpSpPr>
        <p:sp>
          <p:nvSpPr>
            <p:cNvPr id="120" name=""/>
            <p:cNvSpPr/>
            <p:nvPr/>
          </p:nvSpPr>
          <p:spPr>
            <a:xfrm>
              <a:off x="4512600" y="44798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72080" y="463680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2336760" y="2666880"/>
            <a:ext cx="2887560" cy="565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66880" y="4683240"/>
            <a:ext cx="2887560" cy="565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260880" y="3868560"/>
            <a:ext cx="2887560" cy="565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78360" y="1827360"/>
            <a:ext cx="261720" cy="900000"/>
          </a:xfrm>
          <a:prstGeom prst="downArrow">
            <a:avLst>
              <a:gd name="adj1" fmla="val 50000"/>
              <a:gd name="adj2" fmla="val 85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22360" y="1930320"/>
            <a:ext cx="595440" cy="12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81040" y="4645080"/>
            <a:ext cx="1494000" cy="1015920"/>
          </a:xfrm>
          <a:custGeom>
            <a:avLst/>
            <a:gdLst/>
            <a:ahLst/>
            <a:rect l="l" t="t" r="r" b="b"/>
            <a:pathLst>
              <a:path w="941" h="640">
                <a:moveTo>
                  <a:pt x="0" y="82"/>
                </a:moveTo>
                <a:lnTo>
                  <a:pt x="841" y="640"/>
                </a:lnTo>
                <a:lnTo>
                  <a:pt x="941" y="0"/>
                </a:lnTo>
                <a:lnTo>
                  <a:pt x="0" y="8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iederholung: Punktspiege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63640" y="3565440"/>
            <a:ext cx="474480" cy="501840"/>
            <a:chOff x="3563640" y="3565440"/>
            <a:chExt cx="474480" cy="501840"/>
          </a:xfrm>
        </p:grpSpPr>
        <p:sp>
          <p:nvSpPr>
            <p:cNvPr id="130" name=""/>
            <p:cNvSpPr/>
            <p:nvPr/>
          </p:nvSpPr>
          <p:spPr>
            <a:xfrm>
              <a:off x="3726360" y="3699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3640" y="35654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3961800">
            <a:off x="4685040" y="1973880"/>
            <a:ext cx="233280" cy="2454120"/>
          </a:xfrm>
          <a:custGeom>
            <a:avLst/>
            <a:gdLst>
              <a:gd name="textAreaLeft" fmla="*/ 149040 w 233280"/>
              <a:gd name="textAreaRight" fmla="*/ 233640 w 233280"/>
              <a:gd name="textAreaTop" fmla="*/ 32760 h 2454120"/>
              <a:gd name="textAreaBottom" fmla="*/ 2421360 h 24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1"/>
                  <a:pt x="10800" y="922"/>
                </a:cubicBezTo>
                <a:lnTo>
                  <a:pt x="10800" y="9833"/>
                </a:lnTo>
                <a:cubicBezTo>
                  <a:pt x="10800" y="10294"/>
                  <a:pt x="5400" y="10755"/>
                  <a:pt x="0" y="10755"/>
                </a:cubicBezTo>
                <a:cubicBezTo>
                  <a:pt x="5400" y="10755"/>
                  <a:pt x="10800" y="11216"/>
                  <a:pt x="10800" y="11677"/>
                </a:cubicBezTo>
                <a:lnTo>
                  <a:pt x="10800" y="20678"/>
                </a:lnTo>
                <a:cubicBezTo>
                  <a:pt x="10800" y="211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960" y="27957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00320" y="2579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4640" y="1897200"/>
            <a:ext cx="1495440" cy="1015920"/>
          </a:xfrm>
          <a:custGeom>
            <a:avLst/>
            <a:gdLst/>
            <a:ahLst/>
            <a:rect l="l" t="t" r="r" b="b"/>
            <a:pathLst>
              <a:path w="942" h="640">
                <a:moveTo>
                  <a:pt x="92" y="0"/>
                </a:moveTo>
                <a:lnTo>
                  <a:pt x="0" y="640"/>
                </a:lnTo>
                <a:lnTo>
                  <a:pt x="942" y="558"/>
                </a:lnTo>
                <a:lnTo>
                  <a:pt x="92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01640" y="2697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60400" y="1679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5760" y="153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2706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82560" y="1769760"/>
            <a:ext cx="760572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35880" y="4551480"/>
            <a:ext cx="399960" cy="583920"/>
            <a:chOff x="1235880" y="4551480"/>
            <a:chExt cx="399960" cy="583920"/>
          </a:xfrm>
        </p:grpSpPr>
        <p:sp>
          <p:nvSpPr>
            <p:cNvPr id="142" name=""/>
            <p:cNvSpPr/>
            <p:nvPr/>
          </p:nvSpPr>
          <p:spPr>
            <a:xfrm>
              <a:off x="1235880" y="4767120"/>
              <a:ext cx="36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4880" y="45514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1770120" y="1190520"/>
            <a:ext cx="4108320" cy="48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670120" y="1074240"/>
            <a:ext cx="233676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666520" y="5452920"/>
            <a:ext cx="462600" cy="569880"/>
            <a:chOff x="2666520" y="5452920"/>
            <a:chExt cx="462600" cy="569880"/>
          </a:xfrm>
        </p:grpSpPr>
        <p:sp>
          <p:nvSpPr>
            <p:cNvPr id="147" name=""/>
            <p:cNvSpPr/>
            <p:nvPr/>
          </p:nvSpPr>
          <p:spPr>
            <a:xfrm>
              <a:off x="2666520" y="54529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59400" y="565452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778120" y="4235400"/>
            <a:ext cx="365040" cy="573120"/>
            <a:chOff x="2778120" y="4235400"/>
            <a:chExt cx="365040" cy="573120"/>
          </a:xfrm>
        </p:grpSpPr>
        <p:sp>
          <p:nvSpPr>
            <p:cNvPr id="150" name=""/>
            <p:cNvSpPr/>
            <p:nvPr/>
          </p:nvSpPr>
          <p:spPr>
            <a:xfrm>
              <a:off x="2830320" y="44402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78120" y="423540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3961800">
            <a:off x="4681800" y="1972440"/>
            <a:ext cx="233280" cy="2454120"/>
          </a:xfrm>
          <a:custGeom>
            <a:avLst/>
            <a:gdLst>
              <a:gd name="textAreaLeft" fmla="*/ 149040 w 233280"/>
              <a:gd name="textAreaRight" fmla="*/ 233640 w 233280"/>
              <a:gd name="textAreaTop" fmla="*/ 32760 h 2454120"/>
              <a:gd name="textAreaBottom" fmla="*/ 2421360 h 24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1"/>
                  <a:pt x="10800" y="922"/>
                </a:cubicBezTo>
                <a:lnTo>
                  <a:pt x="10800" y="9833"/>
                </a:lnTo>
                <a:cubicBezTo>
                  <a:pt x="10800" y="10294"/>
                  <a:pt x="5400" y="10755"/>
                  <a:pt x="0" y="10755"/>
                </a:cubicBezTo>
                <a:cubicBezTo>
                  <a:pt x="5400" y="10755"/>
                  <a:pt x="10800" y="11216"/>
                  <a:pt x="10800" y="11677"/>
                </a:cubicBezTo>
                <a:lnTo>
                  <a:pt x="10800" y="20678"/>
                </a:lnTo>
                <a:cubicBezTo>
                  <a:pt x="10800" y="211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4624E-006 L -0.24601 0.1415 E">
                                      <p:cBhvr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0:09:11Z</dcterms:created>
  <dc:creator>Andreas Gensheimer</dc:creator>
  <dc:description/>
  <dc:language>en-US</dc:language>
  <cp:lastModifiedBy>Andreas Gensheimer</cp:lastModifiedBy>
  <dcterms:modified xsi:type="dcterms:W3CDTF">2004-11-16T14:38:39Z</dcterms:modified>
  <cp:revision>6</cp:revision>
  <dc:subject/>
  <dc:title>Symmetrie</dc:title>
</cp:coreProperties>
</file>