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97.png" ContentType="image/png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93.wmf" ContentType="image/x-wmf"/>
  <Override PartName="/ppt/media/image62.wmf" ContentType="image/x-wmf"/>
  <Override PartName="/ppt/media/image99.wmf" ContentType="image/x-wmf"/>
  <Override PartName="/ppt/media/image66.wmf" ContentType="image/x-wmf"/>
  <Override PartName="/ppt/media/image67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104.wmf" ContentType="image/x-wmf"/>
  <Override PartName="/ppt/media/image60.wmf" ContentType="image/x-wmf"/>
  <Override PartName="/ppt/media/image78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77.wmf" ContentType="image/x-wmf"/>
  <Override PartName="/ppt/media/image64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5.wmf" ContentType="image/x-wmf"/>
  <Override PartName="/ppt/media/image88.wmf" ContentType="image/x-wmf"/>
  <Override PartName="/ppt/media/image65.wmf" ContentType="image/x-wmf"/>
  <Override PartName="/ppt/media/image73.wmf" ContentType="image/x-wmf"/>
  <Override PartName="/ppt/media/image102.png" ContentType="image/png"/>
  <Override PartName="/ppt/media/image82.png" ContentType="image/png"/>
  <Override PartName="/ppt/media/image101.wmf" ContentType="image/x-wmf"/>
  <Override PartName="/ppt/media/image29.wmf" ContentType="image/x-wmf"/>
  <Override PartName="/ppt/media/image94.wmf" ContentType="image/x-wmf"/>
  <Override PartName="/ppt/media/image7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68.png" ContentType="image/png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B8C-5BAB-4AC0-8C72-9E3078DF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7E7-F97D-41EC-9999-3E294D43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739-FA16-49DB-ABFB-CDB12563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D6C-D981-4D93-ABE3-42D65296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BCB1-95B9-4648-9501-3D22434C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34CB-D653-46C7-B826-33F9F44A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6564-B1D2-4BEB-93C0-EC8BF0B5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E83B-009D-4FBD-9B90-C27FA8AE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017D-CDB3-4EC2-B56A-FA3BDC0D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37E0-9C20-45E2-9AF3-D8F97426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B758-53CF-48AC-AC84-FD9A522C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4CB-3308-4650-BC45-7DF4E245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3339-348F-4258-BE34-49223F62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636E-3619-4114-9E57-3EF7B782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8116-EBB5-45B8-ACCA-10AD0A00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D27A-83D9-472E-B0B9-75A12B15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6A2B-D589-4B3B-8F55-BD186665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362-1F10-4BEA-879C-309A44E6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FB0-FA1B-492A-A7C0-FF17BB9A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D68-B0EE-4F92-A7B3-F1F4E948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393-F86F-4A20-A33E-C4BBE436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D7F-DAE9-4707-831A-8A7A629D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E59-993E-4A32-9198-026CB77E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DC1-417D-4590-B162-D4581E97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AF5B-4988-407D-A4EF-9EDE38A3434D}" type="datetime3">
              <a:rPr b="0" lang="en-US" sz="1200" spc="-1" strike="noStrike">
                <a:solidFill>
                  <a:srgbClr val="000000"/>
                </a:solidFill>
                <a:latin typeface="Garamond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B977-07D0-41E8-9DF4-75B035E60D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380880"/>
            <a:ext cx="822960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0301-F43E-4339-A07F-C3F5A3CB5EBC}" type="datetime3">
              <a:rPr b="0" lang="en-US" sz="1200" spc="-1" strike="noStrike">
                <a:solidFill>
                  <a:srgbClr val="000000"/>
                </a:solidFill>
                <a:latin typeface="Garamond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8E75-F0D0-4558-8DA0-E2B9165C98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Mov%20rec%202113.fi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hyperlink" Target="file:///Mov%20rec%202113.fig" TargetMode="External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0.wmf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wmf"/><Relationship Id="rId8" Type="http://schemas.openxmlformats.org/officeDocument/2006/relationships/hyperlink" Target="file:///Mov%20rec%202113.fig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1.wmf"/><Relationship Id="rId1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image" Target="../media/image87.png"/><Relationship Id="rId10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0.wmf"/><Relationship Id="rId9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5.wmf"/><Relationship Id="rId10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6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Geometric Representation of </a:t>
            </a:r>
            <a:br>
              <a:rPr sz="6000"/>
            </a:b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Continued Frac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3434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a Esc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is Advisor: Dr. Heinz-Otto Peit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resentation content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Definition of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clidean Algorithm and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Quadratic Ir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Transcendent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362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6B8-4BF9-460D-80E3-1E757BFA22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F00FE-08FD-4697-9ECA-312A695F79E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uclidean Algorithm and CF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20880" y="2786040"/>
          <a:ext cx="266364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2786040"/>
                    <a:ext cx="26636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741920" y="3630600"/>
          <a:ext cx="178416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1920" y="3630600"/>
                    <a:ext cx="178416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99000" y="2792520"/>
          <a:ext cx="211464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99000" y="2792520"/>
                    <a:ext cx="21146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079640" y="4468680"/>
          <a:ext cx="2309760" cy="38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9640" y="4468680"/>
                    <a:ext cx="230976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82800" y="3645000"/>
          <a:ext cx="2500200" cy="43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82800" y="3645000"/>
                    <a:ext cx="250020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510080" y="4483080"/>
          <a:ext cx="1892160" cy="4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10080" y="4483080"/>
                    <a:ext cx="18921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248520" y="358128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52388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d (1547, 5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39680" y="5303880"/>
            <a:ext cx="33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d (1547, 560)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437-1060-4E7A-A8CD-72ABE530AB9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EC7D5-1C79-47C8-B706-481D21B4462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uclidean Algorithm and CF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73200" y="2546280"/>
          <a:ext cx="236196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2546280"/>
                    <a:ext cx="236196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806560" y="2514600"/>
          <a:ext cx="137664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6560" y="2514600"/>
                    <a:ext cx="13766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762120" y="152388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Fraction  1547/ 5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06960" y="2552760"/>
          <a:ext cx="2222640" cy="21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06960" y="2552760"/>
                    <a:ext cx="222264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73200" y="4065480"/>
          <a:ext cx="2913120" cy="252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00" y="4065480"/>
                    <a:ext cx="291312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720960" y="4065480"/>
          <a:ext cx="2573640" cy="2525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20960" y="4065480"/>
                    <a:ext cx="257364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178160" y="2514600"/>
          <a:ext cx="1852920" cy="17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78160" y="2514600"/>
                    <a:ext cx="185292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263-7C86-43C4-8886-76D8708FF66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8CE6F-8D22-4794-963D-8342E1CBCD9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uclidean Algorithm and CF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5800" y="2514600"/>
          <a:ext cx="9936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9936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62120" y="1523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Fraction  1547/ 5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2514600"/>
          <a:ext cx="2376360" cy="25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514600"/>
                    <a:ext cx="237636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114800" y="2514600"/>
          <a:ext cx="3038400" cy="252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514600"/>
                    <a:ext cx="303840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228-D4CF-4597-8D30-3BBC1DE69BA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64171-703A-4669-939F-50579C66CED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uclidean Algorithm and CF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5238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Fraction  1547/ 5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2517840"/>
          <a:ext cx="380988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7840"/>
                    <a:ext cx="380988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495680" y="2554200"/>
          <a:ext cx="2971800" cy="259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554200"/>
                    <a:ext cx="29718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4A2-9852-4312-9CA3-084B70B3BBE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8BD67-B8E9-48FA-8061-DED4A99B798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uclidean Algorithm and CF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152388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d (1547, 5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0" y="2590920"/>
          <a:ext cx="3678120" cy="25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90920"/>
                    <a:ext cx="367812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4575240" y="157644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066680" y="2666880"/>
          <a:ext cx="248616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666880"/>
                    <a:ext cx="24861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1905120" y="2629080"/>
            <a:ext cx="3926880" cy="669600"/>
            <a:chOff x="1905120" y="2629080"/>
            <a:chExt cx="3926880" cy="669600"/>
          </a:xfrm>
        </p:grpSpPr>
        <p:sp>
          <p:nvSpPr>
            <p:cNvPr id="215" name=""/>
            <p:cNvSpPr/>
            <p:nvPr/>
          </p:nvSpPr>
          <p:spPr>
            <a:xfrm>
              <a:off x="1905120" y="2629080"/>
              <a:ext cx="31068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21680" y="2841480"/>
              <a:ext cx="31032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908000" y="3086280"/>
            <a:ext cx="4381560" cy="655560"/>
            <a:chOff x="1908000" y="3086280"/>
            <a:chExt cx="4381560" cy="655560"/>
          </a:xfrm>
        </p:grpSpPr>
        <p:sp>
          <p:nvSpPr>
            <p:cNvPr id="218" name=""/>
            <p:cNvSpPr/>
            <p:nvPr/>
          </p:nvSpPr>
          <p:spPr>
            <a:xfrm>
              <a:off x="1908000" y="3086280"/>
              <a:ext cx="304920" cy="4572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85000" y="3284640"/>
              <a:ext cx="304560" cy="4572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914480" y="3568680"/>
            <a:ext cx="4867200" cy="546120"/>
            <a:chOff x="1914480" y="3568680"/>
            <a:chExt cx="4867200" cy="546120"/>
          </a:xfrm>
        </p:grpSpPr>
        <p:sp>
          <p:nvSpPr>
            <p:cNvPr id="221" name=""/>
            <p:cNvSpPr/>
            <p:nvPr/>
          </p:nvSpPr>
          <p:spPr>
            <a:xfrm>
              <a:off x="1914480" y="3568680"/>
              <a:ext cx="304920" cy="457200"/>
            </a:xfrm>
            <a:prstGeom prst="ellipse">
              <a:avLst/>
            </a:prstGeom>
            <a:noFill/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7120" y="3657600"/>
              <a:ext cx="304560" cy="457200"/>
            </a:xfrm>
            <a:prstGeom prst="ellipse">
              <a:avLst/>
            </a:prstGeom>
            <a:noFill/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922400" y="4038480"/>
            <a:ext cx="5316480" cy="571680"/>
            <a:chOff x="1922400" y="4038480"/>
            <a:chExt cx="5316480" cy="571680"/>
          </a:xfrm>
        </p:grpSpPr>
        <p:sp>
          <p:nvSpPr>
            <p:cNvPr id="224" name=""/>
            <p:cNvSpPr/>
            <p:nvPr/>
          </p:nvSpPr>
          <p:spPr>
            <a:xfrm>
              <a:off x="1922400" y="4038480"/>
              <a:ext cx="304920" cy="45720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34320" y="4114800"/>
              <a:ext cx="304560" cy="495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928880" y="4508640"/>
            <a:ext cx="5767200" cy="520560"/>
            <a:chOff x="1928880" y="4508640"/>
            <a:chExt cx="5767200" cy="520560"/>
          </a:xfrm>
        </p:grpSpPr>
        <p:sp>
          <p:nvSpPr>
            <p:cNvPr id="227" name=""/>
            <p:cNvSpPr/>
            <p:nvPr/>
          </p:nvSpPr>
          <p:spPr>
            <a:xfrm>
              <a:off x="1928880" y="4508640"/>
              <a:ext cx="304560" cy="45720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91520" y="4572000"/>
              <a:ext cx="304560" cy="45720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949400" y="4876920"/>
            <a:ext cx="6203880" cy="571320"/>
            <a:chOff x="1949400" y="4876920"/>
            <a:chExt cx="6203880" cy="571320"/>
          </a:xfrm>
        </p:grpSpPr>
        <p:sp>
          <p:nvSpPr>
            <p:cNvPr id="230" name=""/>
            <p:cNvSpPr/>
            <p:nvPr/>
          </p:nvSpPr>
          <p:spPr>
            <a:xfrm>
              <a:off x="1949400" y="4991040"/>
              <a:ext cx="304920" cy="457200"/>
            </a:xfrm>
            <a:prstGeom prst="ellipse">
              <a:avLst/>
            </a:prstGeom>
            <a:noFill/>
            <a:ln w="28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4876920"/>
              <a:ext cx="304560" cy="457200"/>
            </a:xfrm>
            <a:prstGeom prst="ellipse">
              <a:avLst/>
            </a:prstGeom>
            <a:noFill/>
            <a:ln w="28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D50-8208-4AA6-8709-EE50B0D73F6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E2E96-F732-4D56-A62B-1D568F7F3BD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Observation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96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teger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 &lt;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Euclidean algorithm for the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gcd(m, 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equivalent to the continued fraction of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/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3733920"/>
            <a:ext cx="83822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15880" indent="-287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ce the Euclidean algorithm is always finite, it follows that the continued fractio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/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also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13C-109A-4C1B-8036-A15BA1ACF5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3ED34-CCCF-4C67-909F-DC765BD6DB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bf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resentation content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Definition of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Euclidean Algorithm and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Rectangle --&gt; Rational --&gt;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CF --&gt; Rational --&gt; Rect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Quadratic Ir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Transcendent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2895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2B7-30FE-4C53-AFB1-8FFEBD4CB7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A99F8-8F47-41F2-87A5-058523860C1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Theorem 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is rational if and only if it can be expressed as a finite continued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15D-38EB-496C-AC09-0AF90906AB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B18EE-A910-420C-BCE2-02D7CCB902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ontinued Fraction: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09480" y="1739880"/>
          <a:ext cx="1613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39880"/>
                    <a:ext cx="1613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197080" y="1711440"/>
          <a:ext cx="289872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7080" y="1711440"/>
                    <a:ext cx="28987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5111640" y="1687680"/>
          <a:ext cx="3880080" cy="14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1640" y="1687680"/>
                    <a:ext cx="388008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422360" y="3579840"/>
          <a:ext cx="2595600" cy="143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22360" y="3579840"/>
                    <a:ext cx="259560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411160" y="378000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648400" y="4479840"/>
          <a:ext cx="1763640" cy="85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48400" y="4479840"/>
                    <a:ext cx="17636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CC3-9D37-45B3-A643-03BB1DFCFCA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61AA2-3470-4DE0-BC95-371757A089D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52560" y="19051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. Heinz-Otto Peit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2920" y="3352680"/>
            <a:ext cx="499356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Richard V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visory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Paul Y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visory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67C-6AD4-4138-8FCE-5A9785B71E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4FA9A-C329-4BD9-8AA4-9607F173E6C2}" type="datetime3">
              <a:rPr lang="en-US"/>
              <a:t>July 30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76200" y="1851120"/>
            <a:ext cx="4195800" cy="3155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ontinued Fraction and Decomposition of Rectangle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537160" y="2665440"/>
          <a:ext cx="2595600" cy="143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37160" y="2665440"/>
                    <a:ext cx="259560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6" name=""/>
          <p:cNvGrpSpPr/>
          <p:nvPr/>
        </p:nvGrpSpPr>
        <p:grpSpPr>
          <a:xfrm>
            <a:off x="2743200" y="2209680"/>
            <a:ext cx="3809880" cy="990720"/>
            <a:chOff x="2743200" y="2209680"/>
            <a:chExt cx="3809880" cy="990720"/>
          </a:xfrm>
        </p:grpSpPr>
        <p:sp>
          <p:nvSpPr>
            <p:cNvPr id="257" name=""/>
            <p:cNvSpPr/>
            <p:nvPr/>
          </p:nvSpPr>
          <p:spPr>
            <a:xfrm>
              <a:off x="6248520" y="2819520"/>
              <a:ext cx="304560" cy="380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400800" y="22096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743200" y="2209680"/>
              <a:ext cx="365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190760" y="2514600"/>
            <a:ext cx="2819520" cy="1028520"/>
            <a:chOff x="4190760" y="2514600"/>
            <a:chExt cx="2819520" cy="1028520"/>
          </a:xfrm>
        </p:grpSpPr>
        <p:sp>
          <p:nvSpPr>
            <p:cNvPr id="261" name=""/>
            <p:cNvSpPr/>
            <p:nvPr/>
          </p:nvSpPr>
          <p:spPr>
            <a:xfrm>
              <a:off x="6705720" y="3162240"/>
              <a:ext cx="304560" cy="3808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0060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190760" y="335268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190760" y="2514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885840" y="3505320"/>
            <a:ext cx="3657960" cy="761760"/>
            <a:chOff x="3885840" y="3505320"/>
            <a:chExt cx="3657960" cy="761760"/>
          </a:xfrm>
        </p:grpSpPr>
        <p:sp>
          <p:nvSpPr>
            <p:cNvPr id="266" name=""/>
            <p:cNvSpPr/>
            <p:nvPr/>
          </p:nvSpPr>
          <p:spPr>
            <a:xfrm>
              <a:off x="7238880" y="3505320"/>
              <a:ext cx="304920" cy="38088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885840" y="4267080"/>
              <a:ext cx="350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391520" y="3886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343400" y="3733920"/>
            <a:ext cx="3733920" cy="1295280"/>
            <a:chOff x="4343400" y="3733920"/>
            <a:chExt cx="3733920" cy="1295280"/>
          </a:xfrm>
        </p:grpSpPr>
        <p:sp>
          <p:nvSpPr>
            <p:cNvPr id="270" name=""/>
            <p:cNvSpPr/>
            <p:nvPr/>
          </p:nvSpPr>
          <p:spPr>
            <a:xfrm>
              <a:off x="7772400" y="3733920"/>
              <a:ext cx="304920" cy="380880"/>
            </a:xfrm>
            <a:prstGeom prst="rect">
              <a:avLst/>
            </a:prstGeom>
            <a:noFill/>
            <a:ln w="28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24680" y="41148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43400" y="5029200"/>
              <a:ext cx="358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343400" y="45720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E09-22C0-40C1-BC68-B0F44E8C7EE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9C1B5-C721-4022-AE87-07822DD6A62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Definition of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Euclidean Algorithm and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From Rectangle --&gt; Rational --&gt;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CF --&gt; Rational --&gt; Rect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Quadratic Ir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Transcendent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resentation content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43768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8FF-C060-4E8F-88C0-0C2DE98A7B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B21F9-1C8C-489B-891E-1056DF75511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Given a CF, find number it repres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2; 1, 1, 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2558880"/>
          <a:ext cx="239220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58880"/>
                    <a:ext cx="239220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505320" y="2558880"/>
          <a:ext cx="1687320" cy="17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558880"/>
                    <a:ext cx="168732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638680" y="2590920"/>
          <a:ext cx="1636920" cy="13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2590920"/>
                    <a:ext cx="163692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133720" y="4648320"/>
          <a:ext cx="1157040" cy="13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4648320"/>
                    <a:ext cx="115704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463920" y="4648320"/>
          <a:ext cx="110808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63920" y="4648320"/>
                    <a:ext cx="11080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24280" y="4648320"/>
          <a:ext cx="730440" cy="857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4280" y="4648320"/>
                    <a:ext cx="7304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2209680" y="342900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3048120"/>
            <a:ext cx="457200" cy="12952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2971800"/>
            <a:ext cx="106668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4572000"/>
            <a:ext cx="106668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4724280"/>
            <a:ext cx="457200" cy="129564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72520" y="1600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 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DD9-4635-4575-B7F3-03753BEC430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63EA5-5058-47C2-AA4D-C081F4AAEC4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ecompose rectangle given CF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"/>
          <p:cNvSpPr/>
          <p:nvPr/>
        </p:nvSpPr>
        <p:spPr>
          <a:xfrm>
            <a:off x="3657600" y="1447920"/>
            <a:ext cx="236232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15238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812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1"/>
          </p:cNvPr>
          <p:cNvSpPr/>
          <p:nvPr/>
        </p:nvSpPr>
        <p:spPr>
          <a:xfrm>
            <a:off x="7162920" y="1752480"/>
            <a:ext cx="99036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Comic Sans MS"/>
              </a:rPr>
              <a:t>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375120" y="3429000"/>
            <a:ext cx="9855000" cy="22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ind the rational number represented by CF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rectangle - two ways. Find rat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measurement tool from D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727200" y="1362240"/>
          <a:ext cx="2244600" cy="10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7200" y="1362240"/>
                    <a:ext cx="224460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4AB-19FF-4816-BA26-9F9675C6F59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300DD-33F5-48FD-8127-26D5F1AC679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1295280"/>
            <a:ext cx="2133360" cy="27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is rational if and only if it can be expressed as a finite continued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324480" y="4186080"/>
          <a:ext cx="2210040" cy="15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186080"/>
                    <a:ext cx="221004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 flipV="1">
            <a:off x="2057400" y="2590920"/>
            <a:ext cx="1371600" cy="13716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590920"/>
            <a:ext cx="1295280" cy="13716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380880" y="4138560"/>
            <a:ext cx="2479680" cy="15764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048120" y="4876920"/>
            <a:ext cx="2971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0C3-194A-4A67-B942-4AF13944B77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5C475-CA63-4146-8EF9-8A5076BC8A7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Definition of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Euclidean Algorithm and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CF and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Quadratic Ir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Infinite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Rect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Quadratic Irra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 of square ro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Transcendent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resentation content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32767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2A6-F6FD-4660-9E73-95406D22CF6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92336-CE5F-4092-8C0B-9F337FC8A22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agrange Theorem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rrational represents the positive solution of a quadratic equation if and only if its continued fraction expansion is eventually perio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817-1254-4E3B-9DF3-AE0CEC14B17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F2542-EDB6-4DA5-98FD-F7B7295703A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Definition of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Euclidean Algorithm and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CF and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Quadratic Ir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Infinite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Decomposed Rect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Quadratic Irra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 of square ro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Transcendent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resentation content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4191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567-D723-45E1-8376-A60C2AC5857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B7EF6-0321-4F9D-B661-6146E5CA99D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Suppose the CF is [1; 1, 1, 1, …]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find a rectangle, so that decomposing it into squares will show one square, then another one, then another one, and so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A42-278E-4512-8A58-37D8DD16F9D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A0650-86AD-4F4C-AA2C-BABD8AE41EE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ecomposition never ends…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"/>
          <p:cNvSpPr/>
          <p:nvPr/>
        </p:nvSpPr>
        <p:spPr>
          <a:xfrm>
            <a:off x="2438280" y="2057400"/>
            <a:ext cx="426744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2057400"/>
            <a:ext cx="2667240" cy="266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2057400"/>
            <a:ext cx="1600200" cy="1676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3733920"/>
            <a:ext cx="990360" cy="99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95880" y="3733920"/>
            <a:ext cx="609840" cy="6094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5880" y="4343400"/>
            <a:ext cx="38124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28600" y="518148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[1; 1, 1, 1, 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907-B9AC-490B-A0B6-E0379945BB88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71354-583C-4C9C-83CE-3B185F84297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Thesis Statement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aper demonstrates how to use technology, especially dynamic geometry software, to make the topic of continued fractions accessible to students in middle and 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DD5-EEE0-434C-92C6-2BF5C6FCA7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FE032-BF33-465B-92AA-5DE6D7867783}" type="datetime3">
              <a:rPr lang="en-US"/>
              <a:t>July 30, 20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 is the relationship of the leftover rectangle and the original rectangle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2095560"/>
            <a:ext cx="426708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2095560"/>
            <a:ext cx="1600200" cy="1676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3772080"/>
            <a:ext cx="990720" cy="99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00600" y="3772080"/>
            <a:ext cx="609480" cy="6094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4381560"/>
            <a:ext cx="38088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2095560"/>
            <a:ext cx="16002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42960" y="1638360"/>
            <a:ext cx="4071960" cy="1781640"/>
            <a:chOff x="642960" y="1638360"/>
            <a:chExt cx="4071960" cy="1781640"/>
          </a:xfrm>
        </p:grpSpPr>
        <p:sp>
          <p:nvSpPr>
            <p:cNvPr id="338" name=""/>
            <p:cNvSpPr/>
            <p:nvPr/>
          </p:nvSpPr>
          <p:spPr>
            <a:xfrm>
              <a:off x="642960" y="3021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b812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42800" y="1638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b812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99920" y="16383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b812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1" name=""/>
          <p:cNvGraphicFramePr/>
          <p:nvPr/>
        </p:nvGraphicFramePr>
        <p:xfrm>
          <a:off x="6340320" y="2087640"/>
          <a:ext cx="161136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0320" y="2087640"/>
                    <a:ext cx="16113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6202440" y="3672000"/>
          <a:ext cx="217944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2440" y="3672000"/>
                    <a:ext cx="21794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6127920" y="4678200"/>
          <a:ext cx="2336760" cy="10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7920" y="4678200"/>
                    <a:ext cx="23367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7" name=""/>
          <p:cNvGrpSpPr/>
          <p:nvPr/>
        </p:nvGrpSpPr>
        <p:grpSpPr>
          <a:xfrm>
            <a:off x="2133360" y="4038480"/>
            <a:ext cx="3010680" cy="1938240"/>
            <a:chOff x="2133360" y="4038480"/>
            <a:chExt cx="3010680" cy="1938240"/>
          </a:xfrm>
        </p:grpSpPr>
        <p:sp>
          <p:nvSpPr>
            <p:cNvPr id="348" name=""/>
            <p:cNvSpPr/>
            <p:nvPr/>
          </p:nvSpPr>
          <p:spPr>
            <a:xfrm>
              <a:off x="2133360" y="5456160"/>
              <a:ext cx="301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milar rectang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666880" y="480024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572000" y="4038480"/>
              <a:ext cx="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>
            <a:hlinkClick r:id="rId7"/>
          </p:cNvPr>
          <p:cNvSpPr/>
          <p:nvPr/>
        </p:nvSpPr>
        <p:spPr>
          <a:xfrm>
            <a:off x="6858000" y="6019920"/>
            <a:ext cx="99072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Comic Sans MS"/>
              </a:rPr>
              <a:t>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2095560"/>
            <a:ext cx="2666880" cy="266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97280" y="2108160"/>
            <a:ext cx="1600200" cy="1739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A40-FF22-4CBC-AB5D-B583FE5F6F1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9F53C-019E-4615-8A35-5799CC57D4F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F from quadratic equation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870120" y="1386000"/>
          <a:ext cx="217800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1386000"/>
                    <a:ext cx="2178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1387440" y="1996920"/>
          <a:ext cx="1641600" cy="4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7440" y="1996920"/>
                    <a:ext cx="16416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136520" y="2701800"/>
          <a:ext cx="189576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36520" y="2701800"/>
                    <a:ext cx="18957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2149560" y="3154320"/>
          <a:ext cx="1546200" cy="9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9560" y="3154320"/>
                    <a:ext cx="15462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457200" y="46483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ic simi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137200" y="1189080"/>
          <a:ext cx="2147760" cy="14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37200" y="1189080"/>
                    <a:ext cx="214776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"/>
          <p:cNvGrpSpPr/>
          <p:nvPr/>
        </p:nvGrpSpPr>
        <p:grpSpPr>
          <a:xfrm>
            <a:off x="2590920" y="3124080"/>
            <a:ext cx="1447560" cy="1219320"/>
            <a:chOff x="2590920" y="3124080"/>
            <a:chExt cx="1447560" cy="1219320"/>
          </a:xfrm>
        </p:grpSpPr>
        <p:sp>
          <p:nvSpPr>
            <p:cNvPr id="367" name=""/>
            <p:cNvSpPr/>
            <p:nvPr/>
          </p:nvSpPr>
          <p:spPr>
            <a:xfrm>
              <a:off x="2590920" y="3124080"/>
              <a:ext cx="1218960" cy="1219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76720" y="3809880"/>
              <a:ext cx="38088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1280" y="3276720"/>
              <a:ext cx="457200" cy="9144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5151600" y="3156120"/>
          <a:ext cx="3346200" cy="23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51600" y="3156120"/>
                    <a:ext cx="334620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6248520" y="1770120"/>
            <a:ext cx="1218960" cy="121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638680" y="1219320"/>
            <a:ext cx="2286000" cy="1828800"/>
            <a:chOff x="5638680" y="1219320"/>
            <a:chExt cx="2286000" cy="1828800"/>
          </a:xfrm>
        </p:grpSpPr>
        <p:sp>
          <p:nvSpPr>
            <p:cNvPr id="374" name=""/>
            <p:cNvSpPr/>
            <p:nvPr/>
          </p:nvSpPr>
          <p:spPr>
            <a:xfrm>
              <a:off x="5638680" y="1219320"/>
              <a:ext cx="1828800" cy="18288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96160" y="23115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15200" y="1371600"/>
              <a:ext cx="609480" cy="129528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26440 h 1295280"/>
                <a:gd name="textAreaBottom" fmla="*/ 9392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781680" y="4038480"/>
            <a:ext cx="1828800" cy="1828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0AD-3645-4807-82A3-96275D0F8FA5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A6997-9141-42A7-92B7-59A457404A2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ontinuing…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038240" y="1785960"/>
          <a:ext cx="3344760" cy="23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785960"/>
                    <a:ext cx="334476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1" name=""/>
          <p:cNvGrpSpPr/>
          <p:nvPr/>
        </p:nvGrpSpPr>
        <p:grpSpPr>
          <a:xfrm>
            <a:off x="1409760" y="1447920"/>
            <a:ext cx="3390840" cy="3200400"/>
            <a:chOff x="1409760" y="1447920"/>
            <a:chExt cx="3390840" cy="3200400"/>
          </a:xfrm>
        </p:grpSpPr>
        <p:sp>
          <p:nvSpPr>
            <p:cNvPr id="382" name=""/>
            <p:cNvSpPr/>
            <p:nvPr/>
          </p:nvSpPr>
          <p:spPr>
            <a:xfrm>
              <a:off x="1409760" y="1447920"/>
              <a:ext cx="3276360" cy="3200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24360" y="381024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7080" y="2895840"/>
              <a:ext cx="533520" cy="12952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226440 h 1295280"/>
                <a:gd name="textAreaBottom" fmla="*/ 9392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FF4-3B57-48AA-A040-0A4CA36B2254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46EDE-0262-4AEA-953E-05A3E9E404C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084320" y="1879560"/>
          <a:ext cx="5713200" cy="42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1879560"/>
                    <a:ext cx="571320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ontinuing… forever!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77A-FD9C-44A9-B7E0-53FE6F522CA7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990FC-105F-4FF8-AF4C-6B2F36A107D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F expansion never end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[0; 1, 1, 1, 1, 1, …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2898720"/>
          <a:ext cx="4925880" cy="10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8720"/>
                    <a:ext cx="492588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4630680" y="1573200"/>
          <a:ext cx="3573360" cy="265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0680" y="1573200"/>
                    <a:ext cx="35733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4" name=""/>
          <p:cNvGrpSpPr/>
          <p:nvPr/>
        </p:nvGrpSpPr>
        <p:grpSpPr>
          <a:xfrm>
            <a:off x="457200" y="2362320"/>
            <a:ext cx="5257800" cy="3886200"/>
            <a:chOff x="457200" y="2362320"/>
            <a:chExt cx="5257800" cy="3886200"/>
          </a:xfrm>
        </p:grpSpPr>
        <p:grpSp>
          <p:nvGrpSpPr>
            <p:cNvPr id="395" name=""/>
            <p:cNvGrpSpPr/>
            <p:nvPr/>
          </p:nvGrpSpPr>
          <p:grpSpPr>
            <a:xfrm>
              <a:off x="2971800" y="4267080"/>
              <a:ext cx="2743200" cy="1981440"/>
              <a:chOff x="2971800" y="4267080"/>
              <a:chExt cx="2743200" cy="198144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3352680" y="4648320"/>
                <a:ext cx="2362320" cy="1600200"/>
                <a:chOff x="3352680" y="4648320"/>
                <a:chExt cx="2362320" cy="1600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3352680" y="4648320"/>
                  <a:ext cx="2362320" cy="1600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352680" y="4648320"/>
                  <a:ext cx="1476360" cy="16002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829040" y="4648320"/>
                  <a:ext cx="885600" cy="100584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829040" y="5654160"/>
                  <a:ext cx="547920" cy="59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377320" y="5654160"/>
                  <a:ext cx="337320" cy="365400"/>
                </a:xfrm>
                <a:prstGeom prst="rect">
                  <a:avLst/>
                </a:prstGeom>
                <a:solidFill>
                  <a:srgbClr val="ff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377320" y="6019920"/>
                  <a:ext cx="210960" cy="228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2971800" y="5257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14800" y="42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292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457200" y="2362320"/>
              <a:ext cx="4038480" cy="9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+ 1 = [1; 1, 1, 1, 1, 1, …]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5D4-33F6-429D-904A-7381385A79F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96AD4-727E-4FAB-9D13-3927C00481F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F from quadratic irrational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351080" y="1859040"/>
          <a:ext cx="3189240" cy="10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1080" y="1859040"/>
                    <a:ext cx="318924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4430880" y="1951200"/>
          <a:ext cx="2400120" cy="10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0880" y="1951200"/>
                    <a:ext cx="24001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961920" y="3338640"/>
          <a:ext cx="2936880" cy="14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61920" y="3338640"/>
                    <a:ext cx="293688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070520" y="3308400"/>
          <a:ext cx="180000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0520" y="3308400"/>
                    <a:ext cx="18000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4800600" y="3200400"/>
            <a:ext cx="1447560" cy="1219320"/>
            <a:chOff x="4800600" y="3200400"/>
            <a:chExt cx="1447560" cy="1219320"/>
          </a:xfrm>
        </p:grpSpPr>
        <p:sp>
          <p:nvSpPr>
            <p:cNvPr id="417" name=""/>
            <p:cNvSpPr/>
            <p:nvPr/>
          </p:nvSpPr>
          <p:spPr>
            <a:xfrm>
              <a:off x="4800600" y="3200400"/>
              <a:ext cx="1218960" cy="1219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86400" y="3886200"/>
              <a:ext cx="38088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90960" y="3353040"/>
              <a:ext cx="457200" cy="9144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0" name=""/>
          <p:cNvGraphicFramePr/>
          <p:nvPr/>
        </p:nvGraphicFramePr>
        <p:xfrm>
          <a:off x="6183360" y="3322800"/>
          <a:ext cx="2398680" cy="14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83360" y="3322800"/>
                    <a:ext cx="239868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9D3-DD16-4B19-B42E-E57A691724FB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3659B-DE4F-4609-A05A-266931068FF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" name=""/>
          <p:cNvSpPr/>
          <p:nvPr/>
        </p:nvSpPr>
        <p:spPr>
          <a:xfrm>
            <a:off x="304920" y="1600200"/>
            <a:ext cx="426708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920" y="1600200"/>
            <a:ext cx="2666880" cy="266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71800" y="1600200"/>
            <a:ext cx="1600200" cy="1676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3276720"/>
            <a:ext cx="990720" cy="99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3276720"/>
            <a:ext cx="609480" cy="6094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62520" y="3886200"/>
            <a:ext cx="38088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4880" y="472428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[1; 1, 1, 1, 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5257800" y="396720"/>
          <a:ext cx="217800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96720"/>
                    <a:ext cx="21780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249880" y="944640"/>
          <a:ext cx="233820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49880" y="944640"/>
                    <a:ext cx="233820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5197320" y="2013120"/>
          <a:ext cx="154656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7320" y="2013120"/>
                    <a:ext cx="154656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5227560" y="3235320"/>
          <a:ext cx="3346560" cy="237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27560" y="3235320"/>
                    <a:ext cx="334656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8" name=""/>
          <p:cNvGrpSpPr/>
          <p:nvPr/>
        </p:nvGrpSpPr>
        <p:grpSpPr>
          <a:xfrm>
            <a:off x="5691240" y="1905120"/>
            <a:ext cx="1447560" cy="1218960"/>
            <a:chOff x="5691240" y="1905120"/>
            <a:chExt cx="1447560" cy="1218960"/>
          </a:xfrm>
        </p:grpSpPr>
        <p:sp>
          <p:nvSpPr>
            <p:cNvPr id="439" name=""/>
            <p:cNvSpPr/>
            <p:nvPr/>
          </p:nvSpPr>
          <p:spPr>
            <a:xfrm>
              <a:off x="5691240" y="1905120"/>
              <a:ext cx="1218960" cy="12189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77040" y="25905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81600" y="2057400"/>
              <a:ext cx="457200" cy="9140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59840 h 914040"/>
                <a:gd name="textAreaBottom" fmla="*/ 66276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971800" y="1600200"/>
            <a:ext cx="16002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039-781F-4CDA-A34B-0DEF72FD9E58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01301-066E-4D19-99DD-0D1382A48BB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Definition of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Euclidean Algorithm and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CF and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Quadratic Ir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Given Infinite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Decomposed Rect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Quadratic Irra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 of square ro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Transcendent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resentation content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46483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4D4-336F-45B3-9131-426C14AB543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40932-1F53-4C5F-B498-63E467675D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Given decomposed rectangle 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887400" y="1447920"/>
            <a:ext cx="3684600" cy="2703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429000" y="1600200"/>
            <a:ext cx="9907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581280"/>
            <a:ext cx="99072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1600200"/>
            <a:ext cx="9903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629400" y="3581280"/>
            <a:ext cx="99072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05000" y="167652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24280" y="2438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10080" y="1219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934320" y="3184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0120" y="3657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876920" y="4246560"/>
          <a:ext cx="139860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4246560"/>
                    <a:ext cx="13986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576840" y="4452840"/>
          <a:ext cx="1839960" cy="38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76840" y="4452840"/>
                    <a:ext cx="1839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685800" y="4267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ition suggests CF [1; 2, 2, 2, 2, 2, 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4120" y="5273640"/>
            <a:ext cx="35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ity suggests similar rect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1D7-DFB3-4C70-A29C-3FB416A35AB7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5AFCE-B5B2-43B7-84B6-889D392B448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Ratio of the sides of rectangle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887400" y="2286000"/>
            <a:ext cx="3684600" cy="27036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429000" y="2438280"/>
            <a:ext cx="99072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4419720"/>
            <a:ext cx="99072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1905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1905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3352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5527800" y="2320920"/>
          <a:ext cx="1839960" cy="38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7800" y="2320920"/>
                    <a:ext cx="18399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5575320" y="3071880"/>
          <a:ext cx="1593720" cy="41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5320" y="3071880"/>
                    <a:ext cx="1593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5586480" y="3909960"/>
          <a:ext cx="1349280" cy="41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6480" y="3909960"/>
                    <a:ext cx="1349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>
            <a:hlinkClick r:id="rId8"/>
          </p:cNvPr>
          <p:cNvSpPr/>
          <p:nvPr/>
        </p:nvSpPr>
        <p:spPr>
          <a:xfrm>
            <a:off x="6172200" y="5334120"/>
            <a:ext cx="99072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Comic Sans MS"/>
              </a:rPr>
              <a:t>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7C1-F94E-48FD-A91D-61CE3F616E40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C8A1A-B31E-4774-9DE4-7CA1A37E18D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Rectangle decomposed into squares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851120"/>
            <a:ext cx="4195800" cy="3155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57800" y="210996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tio of the lengths of the s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8E2-CE1C-4EF3-B67A-CFC38764669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A6439-2C10-43C7-A44C-067A457E6C9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rom the quadratic equation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762120" y="1600200"/>
          <a:ext cx="22860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228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62120" y="2362320"/>
          <a:ext cx="184140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18414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2120" y="2895480"/>
          <a:ext cx="1514520" cy="10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895480"/>
                    <a:ext cx="15145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57080" y="4002120"/>
          <a:ext cx="2138400" cy="148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080" y="4002120"/>
                    <a:ext cx="213840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4572000" y="1371600"/>
          <a:ext cx="3355920" cy="246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1371600"/>
                    <a:ext cx="335592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1295280" y="2895480"/>
            <a:ext cx="1258920" cy="1219320"/>
            <a:chOff x="1295280" y="2895480"/>
            <a:chExt cx="1258920" cy="1219320"/>
          </a:xfrm>
        </p:grpSpPr>
        <p:sp>
          <p:nvSpPr>
            <p:cNvPr id="489" name=""/>
            <p:cNvSpPr/>
            <p:nvPr/>
          </p:nvSpPr>
          <p:spPr>
            <a:xfrm>
              <a:off x="1295280" y="2895480"/>
              <a:ext cx="1030320" cy="1219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68400" y="3549600"/>
              <a:ext cx="381240" cy="384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49640" y="2895480"/>
              <a:ext cx="304560" cy="102888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180000 h 1028880"/>
                <a:gd name="textAreaBottom" fmla="*/ 745920 h 10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2" name=""/>
          <p:cNvGraphicFramePr/>
          <p:nvPr/>
        </p:nvGraphicFramePr>
        <p:xfrm>
          <a:off x="4572000" y="4267080"/>
          <a:ext cx="3533760" cy="47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267080"/>
                    <a:ext cx="353376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4572000" y="4952880"/>
          <a:ext cx="2970360" cy="47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0" y="4952880"/>
                    <a:ext cx="297036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4572000" y="5562720"/>
          <a:ext cx="2703600" cy="622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0" y="5562720"/>
                    <a:ext cx="27036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71F-ACE3-4A00-AD48-34C6AFE912FC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D3CB0-4BA2-445A-8840-6C09A3EB15D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rom Quadratic Irrational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914400" y="1752480"/>
          <a:ext cx="270360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27036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388-C75F-44C7-856E-CB7991C9B800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69F77-6AF4-43B8-BF4B-CF0D6F6454B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Definition of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Euclidean Algorithm and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CF and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Quadratic Ir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Given Infinite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Given Decomposed Rect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Quadratic Irra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 of square ro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Transcendent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resentation content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5029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>
            <a:hlinkClick r:id="rId1" action="ppaction://hlinksldjump"/>
          </p:cNvPr>
          <p:cNvSpPr/>
          <p:nvPr/>
        </p:nvSpPr>
        <p:spPr>
          <a:xfrm>
            <a:off x="1600200" y="5486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352-3341-46F5-B335-B07481AC938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425CE-AD39-4F16-A96D-103EF9B9690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604800" y="1828800"/>
            <a:ext cx="7934400" cy="253836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Given decomposed rectangle, find ratio of sides and CF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"/>
          <p:cNvSpPr/>
          <p:nvPr/>
        </p:nvSpPr>
        <p:spPr>
          <a:xfrm>
            <a:off x="7589880" y="1941480"/>
            <a:ext cx="825480" cy="228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174160" y="3630600"/>
            <a:ext cx="230040" cy="603360"/>
          </a:xfrm>
          <a:prstGeom prst="rect">
            <a:avLst/>
          </a:prstGeom>
          <a:solidFill>
            <a:srgbClr val="3b81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9920" y="4572000"/>
            <a:ext cx="82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ition suggests CF [3; 2, 1, 2, 1, 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37160" y="5334120"/>
            <a:ext cx="70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ity suggests similar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5C5-F06E-4311-9072-A528619D9997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67327-3158-42CD-9506-1BF94DFFC18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Similar Rectangl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1371600"/>
            <a:ext cx="825480" cy="228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666880" y="3051000"/>
            <a:ext cx="230400" cy="603360"/>
          </a:xfrm>
          <a:prstGeom prst="rect">
            <a:avLst/>
          </a:prstGeom>
          <a:solidFill>
            <a:srgbClr val="3b81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5720" y="4471920"/>
            <a:ext cx="62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 of sides of rectangle 3+x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392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22120" y="31305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39360" y="36273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5257800" y="1066680"/>
          <a:ext cx="179856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066680"/>
                    <a:ext cx="17985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229360" y="2441520"/>
          <a:ext cx="261936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29360" y="2441520"/>
                    <a:ext cx="26193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5257800" y="3051000"/>
          <a:ext cx="2147760" cy="11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3051000"/>
                    <a:ext cx="214776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990720" y="5181480"/>
          <a:ext cx="4895640" cy="112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181480"/>
                    <a:ext cx="48956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6" name=""/>
          <p:cNvGrpSpPr/>
          <p:nvPr/>
        </p:nvGrpSpPr>
        <p:grpSpPr>
          <a:xfrm>
            <a:off x="1198440" y="1371600"/>
            <a:ext cx="889200" cy="2290680"/>
            <a:chOff x="1198440" y="1371600"/>
            <a:chExt cx="889200" cy="2290680"/>
          </a:xfrm>
        </p:grpSpPr>
        <p:pic>
          <p:nvPicPr>
            <p:cNvPr id="527" name="" descr=""/>
            <p:cNvPicPr/>
            <p:nvPr/>
          </p:nvPicPr>
          <p:blipFill>
            <a:blip r:embed="rId9"/>
            <a:stretch/>
          </p:blipFill>
          <p:spPr>
            <a:xfrm>
              <a:off x="1198440" y="1371600"/>
              <a:ext cx="88920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1828800" y="3048120"/>
              <a:ext cx="230040" cy="603000"/>
            </a:xfrm>
            <a:prstGeom prst="rect">
              <a:avLst/>
            </a:prstGeom>
            <a:solidFill>
              <a:srgbClr val="3b812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218960" y="3581280"/>
            <a:ext cx="838440" cy="520560"/>
            <a:chOff x="1218960" y="3581280"/>
            <a:chExt cx="838440" cy="520560"/>
          </a:xfrm>
        </p:grpSpPr>
        <p:sp>
          <p:nvSpPr>
            <p:cNvPr id="530" name=""/>
            <p:cNvSpPr/>
            <p:nvPr/>
          </p:nvSpPr>
          <p:spPr>
            <a:xfrm>
              <a:off x="1449360" y="3581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52480" y="388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2189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133720" y="16002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236232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E27-7E09-46AF-8B0F-1DCB6CBE6923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8091E-81D2-4900-A593-E2D62F103D2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F from equation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838080" y="1295280"/>
          <a:ext cx="261936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26193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1244520" y="2057400"/>
          <a:ext cx="2144880" cy="4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4520" y="2057400"/>
                    <a:ext cx="21448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1252440" y="2697120"/>
          <a:ext cx="1924200" cy="9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2440" y="2697120"/>
                    <a:ext cx="19242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2" name=""/>
          <p:cNvGrpSpPr/>
          <p:nvPr/>
        </p:nvGrpSpPr>
        <p:grpSpPr>
          <a:xfrm>
            <a:off x="1873080" y="2666880"/>
            <a:ext cx="1639800" cy="1371600"/>
            <a:chOff x="1873080" y="2666880"/>
            <a:chExt cx="1639800" cy="1371600"/>
          </a:xfrm>
        </p:grpSpPr>
        <p:sp>
          <p:nvSpPr>
            <p:cNvPr id="543" name=""/>
            <p:cNvSpPr/>
            <p:nvPr/>
          </p:nvSpPr>
          <p:spPr>
            <a:xfrm>
              <a:off x="1873080" y="2666880"/>
              <a:ext cx="1411200" cy="1371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27080" y="3321000"/>
              <a:ext cx="381240" cy="384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08320" y="2666880"/>
              <a:ext cx="304560" cy="102888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180000 h 1028880"/>
                <a:gd name="textAreaBottom" fmla="*/ 745920 h 10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6" name=""/>
          <p:cNvGraphicFramePr/>
          <p:nvPr/>
        </p:nvGraphicFramePr>
        <p:xfrm>
          <a:off x="1322280" y="4040280"/>
          <a:ext cx="4859280" cy="152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22280" y="4040280"/>
                    <a:ext cx="485928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2948040" y="4495680"/>
            <a:ext cx="141120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2F2-B19A-463F-A92D-B2AF02FC7017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6B26B-0B83-4AAC-A7BD-61D2C49E8C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More algorithmic similarit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993600" y="1646280"/>
          <a:ext cx="22082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646280"/>
                    <a:ext cx="22082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2" name=""/>
          <p:cNvGrpSpPr/>
          <p:nvPr/>
        </p:nvGrpSpPr>
        <p:grpSpPr>
          <a:xfrm>
            <a:off x="1523880" y="1596960"/>
            <a:ext cx="1981080" cy="1676160"/>
            <a:chOff x="1523880" y="1596960"/>
            <a:chExt cx="1981080" cy="1676160"/>
          </a:xfrm>
        </p:grpSpPr>
        <p:sp>
          <p:nvSpPr>
            <p:cNvPr id="553" name=""/>
            <p:cNvSpPr/>
            <p:nvPr/>
          </p:nvSpPr>
          <p:spPr>
            <a:xfrm>
              <a:off x="1523880" y="1596960"/>
              <a:ext cx="1828800" cy="1676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19160" y="2736720"/>
              <a:ext cx="381240" cy="384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16000"/>
              <a:ext cx="304560" cy="102852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180000 h 1028520"/>
                <a:gd name="textAreaBottom" fmla="*/ 74592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6" name=""/>
          <p:cNvGraphicFramePr/>
          <p:nvPr/>
        </p:nvGraphicFramePr>
        <p:xfrm>
          <a:off x="4281480" y="2546280"/>
          <a:ext cx="3440160" cy="237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1480" y="2546280"/>
                    <a:ext cx="344016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6137280" y="3581280"/>
            <a:ext cx="182880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653000" y="2335320"/>
            <a:ext cx="3809520" cy="3200400"/>
            <a:chOff x="4653000" y="2335320"/>
            <a:chExt cx="3809520" cy="3200400"/>
          </a:xfrm>
        </p:grpSpPr>
        <p:sp>
          <p:nvSpPr>
            <p:cNvPr id="560" name=""/>
            <p:cNvSpPr/>
            <p:nvPr/>
          </p:nvSpPr>
          <p:spPr>
            <a:xfrm>
              <a:off x="4653000" y="2335320"/>
              <a:ext cx="3581280" cy="3200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94320" y="4545360"/>
              <a:ext cx="380520" cy="384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00760" y="3287880"/>
              <a:ext cx="761760" cy="179064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313200 h 1790640"/>
                <a:gd name="textAreaBottom" fmla="*/ 1298160 h 179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87C-D39F-47CF-AB78-92104265E518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C2459-8858-4C75-835B-A603D3201BC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F shows periodicit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287360" y="1879560"/>
          <a:ext cx="5870520" cy="42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1879560"/>
                    <a:ext cx="587052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32F-B8A1-4054-830B-4768547BEFF3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C3879-1694-4C46-8887-88B15C1E239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703840" cy="182556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5257800" y="1523880"/>
            <a:ext cx="587520" cy="1650960"/>
            <a:chOff x="5257800" y="1523880"/>
            <a:chExt cx="587520" cy="1650960"/>
          </a:xfrm>
        </p:grpSpPr>
        <p:sp>
          <p:nvSpPr>
            <p:cNvPr id="569" name=""/>
            <p:cNvSpPr/>
            <p:nvPr/>
          </p:nvSpPr>
          <p:spPr>
            <a:xfrm>
              <a:off x="5257800" y="1523880"/>
              <a:ext cx="576360" cy="1650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89440" y="2743200"/>
              <a:ext cx="155880" cy="412920"/>
            </a:xfrm>
            <a:prstGeom prst="rect">
              <a:avLst/>
            </a:prstGeom>
            <a:solidFill>
              <a:srgbClr val="3b812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6019560" y="1447920"/>
            <a:ext cx="27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3; 2, 1, 2, 1, 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0280" y="3718080"/>
            <a:ext cx="576360" cy="1650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368360" y="4937040"/>
            <a:ext cx="155520" cy="412920"/>
          </a:xfrm>
          <a:prstGeom prst="rect">
            <a:avLst/>
          </a:prstGeom>
          <a:solidFill>
            <a:srgbClr val="3b81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724040" y="3718080"/>
          <a:ext cx="2390760" cy="48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24040" y="3718080"/>
                    <a:ext cx="23907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1752480" y="4327560"/>
          <a:ext cx="1981440" cy="1035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4327560"/>
                    <a:ext cx="19814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5411160" y="1127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9236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4800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216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6167520" y="2209680"/>
          <a:ext cx="2214360" cy="100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67520" y="2209680"/>
                    <a:ext cx="22143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4683240" y="3467160"/>
          <a:ext cx="1922400" cy="996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240" y="3467160"/>
                    <a:ext cx="19224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6" name=""/>
          <p:cNvGrpSpPr/>
          <p:nvPr/>
        </p:nvGrpSpPr>
        <p:grpSpPr>
          <a:xfrm>
            <a:off x="5338800" y="3429000"/>
            <a:ext cx="1639800" cy="1371600"/>
            <a:chOff x="5338800" y="3429000"/>
            <a:chExt cx="1639800" cy="1371600"/>
          </a:xfrm>
        </p:grpSpPr>
        <p:sp>
          <p:nvSpPr>
            <p:cNvPr id="587" name=""/>
            <p:cNvSpPr/>
            <p:nvPr/>
          </p:nvSpPr>
          <p:spPr>
            <a:xfrm>
              <a:off x="5338800" y="3429000"/>
              <a:ext cx="1411200" cy="1371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92800" y="4083120"/>
              <a:ext cx="381240" cy="384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674040" y="3429000"/>
              <a:ext cx="304560" cy="102888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180000 h 1028880"/>
                <a:gd name="textAreaBottom" fmla="*/ 745920 h 10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65E-92EB-4BE3-BD11-AC9FE145D9DF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34345-DE70-4300-83F9-4D20AD456FD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703840" cy="18255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6019560" y="1447920"/>
            <a:ext cx="27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3; 2, 1, 2, 1, 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280" y="3718080"/>
            <a:ext cx="576360" cy="1650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68360" y="4937040"/>
            <a:ext cx="155520" cy="412920"/>
          </a:xfrm>
          <a:prstGeom prst="rect">
            <a:avLst/>
          </a:prstGeom>
          <a:solidFill>
            <a:srgbClr val="3b81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724040" y="3718080"/>
          <a:ext cx="2390760" cy="48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24040" y="3718080"/>
                    <a:ext cx="23907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752480" y="4327560"/>
          <a:ext cx="1981440" cy="1035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4327560"/>
                    <a:ext cx="19814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5411160" y="1127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9236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4800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92160" y="1143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6167520" y="2209680"/>
          <a:ext cx="2214360" cy="100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67520" y="2209680"/>
                    <a:ext cx="22143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4695840" y="3537000"/>
          <a:ext cx="3408480" cy="2349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95840" y="3537000"/>
                    <a:ext cx="34084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D3C-A0DE-4651-BE46-AFD84608DE38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64B2D-79E5-4DC9-9433-2293F77A19A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Assume smallest squares are the unit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4195800" cy="315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03560" y="4952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17960" y="42670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17960" y="3429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17960" y="22096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1800" y="32050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31960" y="53341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1447920"/>
            <a:ext cx="266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appropriate for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17960" y="45068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17960" y="3962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14400" y="5562720"/>
            <a:ext cx="3962520" cy="0"/>
            <a:chOff x="914400" y="5562720"/>
            <a:chExt cx="3962520" cy="0"/>
          </a:xfrm>
        </p:grpSpPr>
        <p:sp>
          <p:nvSpPr>
            <p:cNvPr id="107" name=""/>
            <p:cNvSpPr/>
            <p:nvPr/>
          </p:nvSpPr>
          <p:spPr>
            <a:xfrm>
              <a:off x="3124080" y="5562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91440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429000" y="1980720"/>
            <a:ext cx="0" cy="2819880"/>
            <a:chOff x="3429000" y="1980720"/>
            <a:chExt cx="0" cy="2819880"/>
          </a:xfrm>
        </p:grpSpPr>
        <p:sp>
          <p:nvSpPr>
            <p:cNvPr id="110" name=""/>
            <p:cNvSpPr/>
            <p:nvPr/>
          </p:nvSpPr>
          <p:spPr>
            <a:xfrm flipV="1">
              <a:off x="3429000" y="198072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36576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715000" y="3657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lengths of s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781680" y="4572000"/>
          <a:ext cx="40320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4572000"/>
                    <a:ext cx="4032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658-A685-4CC4-ACFF-B320585AFBA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BEEC1-0D52-40E1-A9F9-92751C0B19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rcRect l="41408" t="23960" r="25003" b="13540"/>
          <a:stretch/>
        </p:blipFill>
        <p:spPr>
          <a:xfrm>
            <a:off x="2305080" y="304920"/>
            <a:ext cx="453240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F42-F833-44A9-B568-3F8493EC6C35}" type="slidenum">
              <a:t>5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04A62-A6A1-4BE7-A309-5811813F598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230040" y="533520"/>
            <a:ext cx="30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888320" cy="375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7D2-9620-4AA4-946F-08355F14B3B3}" type="slidenum">
              <a:t>5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48A63-C27D-4E0C-A05C-CD80FFC1FBF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Definition of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Euclidean Algorithm and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CF and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fbf39"/>
                </a:solidFill>
                <a:latin typeface="Arial"/>
              </a:rPr>
              <a:t>CF and Ir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Transcendent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resentation content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39625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014-AED4-4F01-9F93-15E51EB0902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13133-C817-4146-90C6-3A36FAD3A9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ontinued Fraction for 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[3; 7, 15, 1, 292, 1, 1, 1, 2, 1, 3, 1, 14, 2, 1, 1, 2, 2, 2, 2, 1, 84, 2, 1, 1, 15, 3, 13, 1, 4, 2, 6, 6, 99, 1, 2, 2, 6, 3, 5, 1, 1, 6, 8, 1, 7, 1, 2, 3, 7, 1, 2, 1, 1, 12, 1, 1, 1, 3, 1, 1, 8, 1, 1, 2, 1, 6, 1, 1, 5, 2, 2, 3, 1, 2, 4, 4, 16, 1, 161, 45, 1, 22, 1, 2, 2, 1, 4, 1, 2, 24, 1, 2, 1, 3, 1, 2, 1,………………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6172200" y="609480"/>
          <a:ext cx="603360" cy="5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609480"/>
                    <a:ext cx="60336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05D-4DCD-45A2-9741-07EEDF54709A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64883-8228-4701-A14B-12F211B0860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Good approximation using four terms onl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257440" y="3505320"/>
            <a:ext cx="3429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ed by astronom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su Ch'ung-Chi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fifth century A.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609480" y="1998720"/>
          <a:ext cx="6019920" cy="16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98720"/>
                    <a:ext cx="601992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533520" y="4197240"/>
          <a:ext cx="4038480" cy="9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97240"/>
                    <a:ext cx="403848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>
            <a:off x="453960" y="5470560"/>
            <a:ext cx="38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decimal digits accu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D88-2B5F-4746-9CC3-BE9F36E0F09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C6A9E-79D3-4180-97B9-0FD08D51DEA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F of      in Excel  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2133720" y="609480"/>
          <a:ext cx="603000" cy="5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609480"/>
                    <a:ext cx="6030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380880" y="1438200"/>
            <a:ext cx="8382240" cy="42721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6005520" y="2743200"/>
            <a:ext cx="278604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BE9-4754-48A9-BEEA-A9176CFB9944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0AB02-8382-4FDE-88B0-2DB4205E282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Good Approximation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1905120" y="1752480"/>
          <a:ext cx="5333760" cy="1828440"/>
        </p:xfrm>
        <a:graphic>
          <a:graphicData uri="http://schemas.openxmlformats.org/drawingml/2006/table">
            <a:tbl>
              <a:tblPr/>
              <a:tblGrid>
                <a:gridCol w="1066680"/>
                <a:gridCol w="426708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41723101500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459087501246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25A-7724-40E7-95FF-59D419EE49F8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FD5B9-A0A0-4569-8754-0652C170575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F for </a:t>
            </a:r>
            <a:r>
              <a:rPr b="1" i="1" lang="en-US" sz="6000" spc="-1" strike="noStrike">
                <a:solidFill>
                  <a:srgbClr val="006633"/>
                </a:solidFill>
                <a:latin typeface="Garamond"/>
              </a:rPr>
              <a:t>e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2;  1, 2, 1,  1, 4, 1,  1, 6, 1,  1, 8,  1,  1, 10, 1,  1, 12, 1, …..1, 2n, 1…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514600" y="3868560"/>
          <a:ext cx="4038480" cy="22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68560"/>
                    <a:ext cx="403848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533520" y="3124080"/>
            <a:ext cx="44956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onhard Euler (1707-178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56B-D722-4F3E-8682-A8F2882451D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BEBDC-C0C1-437C-B62F-B12CEA237A1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ontinued Fraction Expansion of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athworld.wolfram.com/ContinuedFrac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ome.att.net/~numericana/answer/fractions.htm#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Continued_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cs.surrey.ac.uk/Personal/R.Knott/Fibonacci/cfINTRO.html#i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38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ims.unice.fr/wims/wims.cgi?lang=en&amp;module=tool%2Fnumber%2Fcontfrac.en&amp;cmd=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3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8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38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925640" y="1219320"/>
          <a:ext cx="529272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19320"/>
                    <a:ext cx="529272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B06-836D-4227-95B5-DC68F476D1E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E1DA3-2E76-47F1-B89B-37131BC3E11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xperience teaching CF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e school tea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in 9th gr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C0E-658E-4BFC-BA08-F012202B112B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E6804-7538-483B-9138-DCC717D58D3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Using algebr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851120"/>
            <a:ext cx="4195800" cy="3155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45960" y="32050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17960" y="3429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17960" y="22096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14479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1796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52560" y="54100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appropriate for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19920" y="749160"/>
          <a:ext cx="143640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749160"/>
                    <a:ext cx="1436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96252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994360" y="1130400"/>
          <a:ext cx="1336680" cy="37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94360" y="1130400"/>
                    <a:ext cx="13366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19920" y="1523880"/>
          <a:ext cx="931680" cy="37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1523880"/>
                    <a:ext cx="9316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019920" y="2057400"/>
          <a:ext cx="957240" cy="326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19920" y="2057400"/>
                    <a:ext cx="9572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019920" y="2514600"/>
          <a:ext cx="1017360" cy="303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9920" y="2514600"/>
                    <a:ext cx="10173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562720" y="3936960"/>
          <a:ext cx="780840" cy="75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62720" y="3936960"/>
                    <a:ext cx="780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41911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68580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1701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lengths of s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32480" y="3936960"/>
          <a:ext cx="2266920" cy="755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32480" y="3936960"/>
                    <a:ext cx="22669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2E5-9884-4D17-B764-E44A2E43966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CA90D-D75A-4226-80C4-BF299313876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rom ratio to rectangle?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4195800" cy="315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6477120" y="2819520"/>
          <a:ext cx="662040" cy="14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2819520"/>
                    <a:ext cx="6620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5105520" y="2362320"/>
            <a:ext cx="1676160" cy="457200"/>
            <a:chOff x="5105520" y="2362320"/>
            <a:chExt cx="1676160" cy="457200"/>
          </a:xfrm>
        </p:grpSpPr>
        <p:sp>
          <p:nvSpPr>
            <p:cNvPr id="146" name=""/>
            <p:cNvSpPr/>
            <p:nvPr/>
          </p:nvSpPr>
          <p:spPr>
            <a:xfrm>
              <a:off x="5105520" y="2362320"/>
              <a:ext cx="1676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36232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029200" y="4114800"/>
            <a:ext cx="1752480" cy="642600"/>
            <a:chOff x="5029200" y="4114800"/>
            <a:chExt cx="1752480" cy="642600"/>
          </a:xfrm>
        </p:grpSpPr>
        <p:sp>
          <p:nvSpPr>
            <p:cNvPr id="149" name=""/>
            <p:cNvSpPr/>
            <p:nvPr/>
          </p:nvSpPr>
          <p:spPr>
            <a:xfrm>
              <a:off x="6781680" y="434340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029200" y="4724280"/>
              <a:ext cx="1752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38680" y="411480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991-599E-450D-B928-5FDA65F7913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DAFF8-FDE0-4972-A4D1-7F78882251D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resentation content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tion of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clidean Algorithm and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Quadratic Ir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F and Transcendent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5C1-E41D-4FE2-8FB8-25493BBBA0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6B402-F83E-4F48-B44F-F99D78CB0E8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ontinued Fraction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711440"/>
          <a:ext cx="5715000" cy="32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11440"/>
                    <a:ext cx="5715000" cy="32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276720" y="5410080"/>
          <a:ext cx="411480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410080"/>
                    <a:ext cx="41148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85800" y="464832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253-67B1-4F97-976B-B8C2EBE81D0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0D983-A1F2-4197-9BC8-A288C293D3E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0:30:39Z</dcterms:created>
  <dc:creator>Richard Voss User</dc:creator>
  <dc:description/>
  <dc:language>en-US</dc:language>
  <cp:lastModifiedBy>Heinz-Otto Peitgen</cp:lastModifiedBy>
  <dcterms:modified xsi:type="dcterms:W3CDTF">2007-11-19T20:01:24Z</dcterms:modified>
  <cp:revision>77</cp:revision>
  <dc:subject/>
  <dc:title>Geometric Representation of  Continued Fractions</dc:title>
</cp:coreProperties>
</file>