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.jpeg" ContentType="image/jpeg"/>
  <Override PartName="/ppt/media/image40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9.wmf" ContentType="image/x-wmf"/>
  <Override PartName="/ppt/media/image46.wmf" ContentType="image/x-wmf"/>
  <Override PartName="/ppt/media/image3.png" ContentType="image/png"/>
  <Override PartName="/ppt/media/image51.wmf" ContentType="image/x-wmf"/>
  <Override PartName="/ppt/media/image52.wmf" ContentType="image/x-wmf"/>
  <Override PartName="/ppt/media/image39.png" ContentType="image/png"/>
  <Override PartName="/ppt/media/image42.wmf" ContentType="image/x-wmf"/>
  <Override PartName="/ppt/media/image54.wmf" ContentType="image/x-wmf"/>
  <Override PartName="/ppt/media/image53.jpeg" ContentType="image/jpeg"/>
  <Override PartName="/ppt/media/image43.wmf" ContentType="image/x-wmf"/>
  <Override PartName="/ppt/media/image55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3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19A-0425-45D1-BB17-A98A3BDC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remember about spira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observe about Baravelle Spira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urther explore infinite series and iterations, we will direct focus on a Baravelle spiral generated by a square. To begin, construct a large square in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e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64B-A7BB-4ECB-AD6A-AC9E1DD0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135-03C5-486B-8BD8-17CD812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E5E-389C-4A49-B53A-845E635E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5B8-4210-4DC7-BF9B-69BF96FB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150C-53AB-454E-9F53-AB471E24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E31-7AAF-4BDE-833A-55B1C64C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76D-A7D8-4D6D-84C9-4D9266F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3F13-04E4-473D-9C9A-A1253C1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9EC-B230-4867-8E15-621A3391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28D0-E5B4-487C-BC38-8AEB1E5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54B-83F9-4114-88BC-4B4155C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F13-6661-43EA-9681-C8B358C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9C7C-9558-4D36-95C9-13B9C9D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EC39-5FA0-4497-B83C-F0496E7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28D-12A5-43C3-A109-A5A6507A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3712-40EC-4105-9541-DBEA0764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1811-2295-43D1-977A-1BC7DAE4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DF83-5C01-4239-9FB4-8E03A2DB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3B3E-0E88-419B-960F-CE399F0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6F5E-DAD1-41C1-BEC3-5A888DB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F492-CBFB-4F57-8994-8E2A175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74B3-26E6-4633-802E-50486F93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146-15E7-4D8C-B69A-F60B04A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73F8-8F1F-430D-A596-D99792D7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3EDF-C6A7-4352-A2DE-9670D41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B6FA-8BB3-4EB4-9106-2D1CE6B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D24C-9FD1-4913-8E42-0C6F0F8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DBCC-4E41-44C5-B350-B6762CB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E96C-6AD3-42A7-8C8B-81C4D1A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5D17-A1F9-4917-A4F7-7EC9CBDC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23D-0B29-4282-AA0E-6489D95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5B5-9A49-4BD9-B5E9-8E04AF03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8FA-DF35-4675-8E55-B16C4483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12C-69A0-4DC6-B941-9D0EFC06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526-0206-4DF3-9C1A-D151BBD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B85-84C1-425E-9531-CED5E38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4086-98E8-47B1-91D3-3188987C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745680" y="658008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4480" y="66135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BCF-7963-4422-B03F-6A0FC773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45680" y="658008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74480" y="66135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0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0FBB-F969-4896-B37F-0D222D99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45680" y="658008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74480" y="66135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rebuchet MS"/>
              </a:rPr>
              <a:t>MSP MAE 5935/MAT 6933 Spring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0" b="55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20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image" Target="../media/image39.pn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image" Target="../media/image5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2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7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2134" r="0" b="31638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0" name=""/>
          <p:cNvSpPr/>
          <p:nvPr/>
        </p:nvSpPr>
        <p:spPr>
          <a:xfrm>
            <a:off x="1221480" y="1600200"/>
            <a:ext cx="4281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piral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23640" y="26208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Polygonale Spir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6765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324160"/>
            <a:ext cx="152388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94336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581280"/>
            <a:ext cx="76212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352680" y="1479600"/>
          <a:ext cx="31752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79600"/>
                    <a:ext cx="3175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343320" y="2133720"/>
          <a:ext cx="79380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3320" y="2133720"/>
                    <a:ext cx="793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317760" y="2619360"/>
          <a:ext cx="9208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17760" y="2619360"/>
                    <a:ext cx="920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76720" y="3238560"/>
          <a:ext cx="9205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238560"/>
                    <a:ext cx="920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6095880" y="1666800"/>
            <a:ext cx="243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534520" y="164772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067280"/>
            <a:ext cx="152424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9360" y="2543040"/>
            <a:ext cx="0" cy="152424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2514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249552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15200" y="3581280"/>
            <a:ext cx="76212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2838600"/>
            <a:ext cx="0" cy="76176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20640" y="4191120"/>
          <a:ext cx="4014720" cy="14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640" y="4191120"/>
                    <a:ext cx="40147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778280" y="58212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ets endl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478200" y="55627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 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0240" y="55627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 = 0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23440" y="60339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BRI_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0" r="0" b="12500"/>
          <a:stretch/>
        </p:blipFill>
        <p:spPr>
          <a:xfrm>
            <a:off x="685800" y="1981080"/>
            <a:ext cx="3571920" cy="3200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15981" b="15790"/>
          <a:stretch/>
        </p:blipFill>
        <p:spPr>
          <a:xfrm>
            <a:off x="5029200" y="1981080"/>
            <a:ext cx="3505320" cy="3200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223640" y="26208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Polygonale Spir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6765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32416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94336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581280"/>
            <a:ext cx="609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00560" y="1447920"/>
          <a:ext cx="2221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0560" y="1447920"/>
                    <a:ext cx="222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406680" y="2117880"/>
          <a:ext cx="666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2117880"/>
                    <a:ext cx="666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429000" y="2682720"/>
          <a:ext cx="6350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682720"/>
                    <a:ext cx="635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403440" y="3301920"/>
          <a:ext cx="66708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3440" y="3301920"/>
                    <a:ext cx="667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5791320" y="16765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229600" y="167616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41148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10280" y="2895120"/>
            <a:ext cx="0" cy="12193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2895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3809880"/>
            <a:ext cx="609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200400"/>
            <a:ext cx="0" cy="6094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92240" y="4695840"/>
          <a:ext cx="6578640" cy="146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92240" y="4695840"/>
                    <a:ext cx="657864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835920" y="311040"/>
            <a:ext cx="69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Harmonische Polygonale Spi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0" t="0" r="9089" b="14468"/>
          <a:stretch/>
        </p:blipFill>
        <p:spPr>
          <a:xfrm>
            <a:off x="2438280" y="1752480"/>
            <a:ext cx="4191120" cy="3886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835920" y="311040"/>
            <a:ext cx="69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Harmonische Polygonale Spi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457200" y="533520"/>
          <a:ext cx="403056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40305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77200" y="185904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genommen S wäre endlich. D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2598840"/>
          <a:ext cx="41400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98840"/>
                    <a:ext cx="4140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246640" y="281952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d d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80880" y="3886200"/>
          <a:ext cx="5019840" cy="11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886200"/>
                    <a:ext cx="50198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50800" y="52880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raus folg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17880" y="5181480"/>
          <a:ext cx="3260520" cy="87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5181480"/>
                    <a:ext cx="326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802040" y="5226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6680" y="62784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iderspruc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747520" y="136440"/>
            <a:ext cx="38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Goldene Spi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52388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1523880"/>
            <a:ext cx="2286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3657600"/>
            <a:ext cx="2286000" cy="1523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828800" y="15238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52388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15238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43800" y="1523880"/>
            <a:ext cx="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3657600"/>
            <a:ext cx="91440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43800" y="365760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72200" y="51814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71600" y="3092400"/>
          <a:ext cx="22212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92400"/>
                    <a:ext cx="2221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438800" y="958680"/>
          <a:ext cx="34920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958680"/>
                    <a:ext cx="349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447920" y="5581800"/>
          <a:ext cx="2286000" cy="92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5581800"/>
                    <a:ext cx="22860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26000" y="45720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59320" y="4419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43400" y="198108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819520"/>
            <a:ext cx="685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2057400"/>
            <a:ext cx="11430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066680"/>
            <a:ext cx="18288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3352680"/>
            <a:ext cx="2971800" cy="297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6440" y="26208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Fibonacci Spi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712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92880" y="479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2152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488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8840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9588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7440" y="63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79040" y="6477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3886200"/>
            <a:ext cx="4800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2485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426708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4267080"/>
            <a:ext cx="685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4952880"/>
            <a:ext cx="11430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4267080"/>
            <a:ext cx="18288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4120" y="1295280"/>
            <a:ext cx="2971800" cy="297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1295280"/>
            <a:ext cx="4800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656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46440" y="26208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Fibonacci Spi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2485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99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426708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4267080"/>
            <a:ext cx="685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4120" y="4952880"/>
            <a:ext cx="11430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4267080"/>
            <a:ext cx="18288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1295280"/>
            <a:ext cx="2971800" cy="297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295280"/>
            <a:ext cx="4800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4952880"/>
            <a:ext cx="2286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4724280"/>
            <a:ext cx="0" cy="228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4267080"/>
            <a:ext cx="0" cy="457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019920" y="426708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333760" y="4267080"/>
            <a:ext cx="6858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4267080"/>
            <a:ext cx="0" cy="685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4952880"/>
            <a:ext cx="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4120" y="6095880"/>
            <a:ext cx="1143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6095880"/>
            <a:ext cx="18288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4267080"/>
            <a:ext cx="0" cy="1828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1295280"/>
            <a:ext cx="0" cy="2971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333760" y="1295280"/>
            <a:ext cx="29718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3160" y="1295280"/>
            <a:ext cx="48006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295280"/>
            <a:ext cx="0" cy="4800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46440" y="26208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Fibonacci Spi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0" t="0" r="15649" b="11571"/>
          <a:stretch/>
        </p:blipFill>
        <p:spPr>
          <a:xfrm>
            <a:off x="838080" y="1447920"/>
            <a:ext cx="6981840" cy="4657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15" name=""/>
          <p:cNvSpPr/>
          <p:nvPr/>
        </p:nvSpPr>
        <p:spPr>
          <a:xfrm>
            <a:off x="3894840" y="6324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BRI_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6440" y="26208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Fibonacci Spi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80200" y="54936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pir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380988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28600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666520"/>
            <a:ext cx="1828800" cy="1143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62520" y="3200400"/>
            <a:ext cx="1218960" cy="1219320"/>
            <a:chOff x="3962520" y="3200400"/>
            <a:chExt cx="1218960" cy="1219320"/>
          </a:xfrm>
        </p:grpSpPr>
        <p:sp>
          <p:nvSpPr>
            <p:cNvPr id="146" name=""/>
            <p:cNvSpPr/>
            <p:nvPr/>
          </p:nvSpPr>
          <p:spPr>
            <a:xfrm>
              <a:off x="3962520" y="3200400"/>
              <a:ext cx="1218960" cy="121932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840" y="3276720"/>
              <a:ext cx="142920" cy="1047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34000" y="574056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perposition von zwei Bewe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77000" y="41112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ibonacci Folge 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635800" y="152280"/>
          <a:ext cx="168264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2280"/>
                    <a:ext cx="16826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1539720"/>
          <a:ext cx="2286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39720"/>
                    <a:ext cx="2286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65200" y="2298600"/>
          <a:ext cx="222228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200" y="2298600"/>
                    <a:ext cx="222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089240" y="2314440"/>
          <a:ext cx="29210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9240" y="2314440"/>
                    <a:ext cx="29210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33520" y="4952880"/>
          <a:ext cx="193680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952880"/>
                    <a:ext cx="1936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895480" y="6095880"/>
          <a:ext cx="209556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6095880"/>
                    <a:ext cx="20955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3584160" y="15541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eile d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6102360" y="1562040"/>
          <a:ext cx="44460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02360" y="1562040"/>
                    <a:ext cx="444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3168360" y="243828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5480" y="3916440"/>
            <a:ext cx="76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ss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gegen Unendlich und  defin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23120" y="51354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, da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267080" y="4968720"/>
          <a:ext cx="1492200" cy="104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4968720"/>
                    <a:ext cx="149220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974920" y="513396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, und das heiß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aravelle Spir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408456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ächenaufteilu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änge der Spira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871880" y="1811160"/>
            <a:ext cx="1878120" cy="1905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47600" y="179712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6929280" y="1792440"/>
            <a:ext cx="2133720" cy="1941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585880" y="1825560"/>
            <a:ext cx="2057400" cy="1874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80880" y="5881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-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65280" y="595800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urvebank.calstatela.edu/baravelle/baravel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reieck - Baravelle Spi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876920" y="4944960"/>
                <a:ext cx="9334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5059440"/>
                <a:ext cx="9842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50" name=""/>
          <p:cNvGraphicFramePr/>
          <p:nvPr/>
        </p:nvGraphicFramePr>
        <p:xfrm>
          <a:off x="1211400" y="4911840"/>
          <a:ext cx="1960560" cy="15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4911840"/>
                    <a:ext cx="1960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505320" cy="30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1447920" y="3051000"/>
          <a:ext cx="1141200" cy="121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051000"/>
                    <a:ext cx="11412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00440" y="1542960"/>
            <a:ext cx="3430800" cy="29624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64920" y="28861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479920" y="3018600"/>
            <a:ext cx="1663920" cy="14367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37386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371600" y="1752480"/>
          <a:ext cx="1179360" cy="12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1752480"/>
                    <a:ext cx="11793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210360" y="4952880"/>
          <a:ext cx="1377720" cy="133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10360" y="4952880"/>
                    <a:ext cx="137772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uadrat - Baravelle Spi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27120" y="5105520"/>
          <a:ext cx="116676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105520"/>
                    <a:ext cx="11667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905120" y="5232240"/>
                <a:ext cx="12189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8" name="" descr=""/>
          <p:cNvPicPr/>
          <p:nvPr/>
        </p:nvPicPr>
        <p:blipFill>
          <a:blip r:embed="rId3"/>
          <a:srcRect l="8807" t="3238" r="8098" b="5995"/>
          <a:stretch/>
        </p:blipFill>
        <p:spPr>
          <a:xfrm>
            <a:off x="4952880" y="1447920"/>
            <a:ext cx="3355920" cy="3340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952880" y="3124080"/>
            <a:ext cx="167652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952880" y="1447560"/>
            <a:ext cx="1676520" cy="16761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6595200" y="1447920"/>
            <a:ext cx="1676520" cy="16761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604920" y="3119400"/>
            <a:ext cx="167652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933080" y="1471680"/>
            <a:ext cx="1676520" cy="16761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952160" y="3123360"/>
            <a:ext cx="167652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615000" y="3123360"/>
            <a:ext cx="167652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15000" y="1447920"/>
            <a:ext cx="1676520" cy="16761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1056" y="1056"/>
                </a:lnTo>
                <a:lnTo>
                  <a:pt x="0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bbe0e3">
              <a:alpha val="85000"/>
            </a:srgbClr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066680" y="1665360"/>
          <a:ext cx="1355760" cy="14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665360"/>
                    <a:ext cx="13557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171960" y="5059440"/>
          <a:ext cx="1633320" cy="149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1960" y="5059440"/>
                    <a:ext cx="163332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1127160" y="3125880"/>
          <a:ext cx="1353960" cy="14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27160" y="3125880"/>
                    <a:ext cx="13539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exagon - Baravelle Spi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27120" y="4952880"/>
          <a:ext cx="11667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4952880"/>
                    <a:ext cx="11667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1933560" y="5079960"/>
          <a:ext cx="116064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079960"/>
                    <a:ext cx="1160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914400" y="1523880"/>
          <a:ext cx="1682640" cy="144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523880"/>
                    <a:ext cx="168264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171960" y="4888080"/>
          <a:ext cx="163332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1960" y="4888080"/>
                    <a:ext cx="1633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949320" y="2973240"/>
          <a:ext cx="1354320" cy="144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49320" y="2973240"/>
                    <a:ext cx="13543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5" name="" descr=""/>
          <p:cNvPicPr/>
          <p:nvPr/>
        </p:nvPicPr>
        <p:blipFill>
          <a:blip r:embed="rId11"/>
          <a:srcRect l="0" t="2988" r="0" b="1725"/>
          <a:stretch/>
        </p:blipFill>
        <p:spPr>
          <a:xfrm>
            <a:off x="5029200" y="1447920"/>
            <a:ext cx="3733920" cy="32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12"/>
          <a:srcRect l="30234" t="6178" r="33001" b="46548"/>
          <a:stretch/>
        </p:blipFill>
        <p:spPr>
          <a:xfrm>
            <a:off x="5029200" y="1447920"/>
            <a:ext cx="3743280" cy="32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7" name=""/>
          <p:cNvSpPr/>
          <p:nvPr/>
        </p:nvSpPr>
        <p:spPr>
          <a:xfrm>
            <a:off x="6526800" y="2708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reieck - Baravelle Spi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384720" y="4952880"/>
          <a:ext cx="1027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4720" y="4952880"/>
                    <a:ext cx="1027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494280" y="1523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änge des Polzgonzu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2394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enfalls geometrische Rei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476600" y="5153040"/>
                <a:ext cx="933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4" name=""/>
          <p:cNvGraphicFramePr/>
          <p:nvPr/>
        </p:nvGraphicFramePr>
        <p:xfrm>
          <a:off x="3352680" y="2438280"/>
          <a:ext cx="9842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438280"/>
                    <a:ext cx="984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5638680" y="2057400"/>
            <a:ext cx="3143520" cy="2638440"/>
            <a:chOff x="5638680" y="2057400"/>
            <a:chExt cx="3143520" cy="2638440"/>
          </a:xfrm>
        </p:grpSpPr>
        <p:grpSp>
          <p:nvGrpSpPr>
            <p:cNvPr id="507" name=""/>
            <p:cNvGrpSpPr/>
            <p:nvPr/>
          </p:nvGrpSpPr>
          <p:grpSpPr>
            <a:xfrm>
              <a:off x="5638680" y="2057400"/>
              <a:ext cx="3143520" cy="2638440"/>
              <a:chOff x="5638680" y="2057400"/>
              <a:chExt cx="3143520" cy="2638440"/>
            </a:xfrm>
          </p:grpSpPr>
          <p:pic>
            <p:nvPicPr>
              <p:cNvPr id="5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2057400"/>
                <a:ext cx="3143520" cy="26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flipV="1">
                <a:off x="5929200" y="2286000"/>
                <a:ext cx="1309680" cy="232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929200" y="3438360"/>
                <a:ext cx="658800" cy="11685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567120" y="3449520"/>
                <a:ext cx="668880" cy="1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16560" y="3444480"/>
                <a:ext cx="174960" cy="2865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26000" y="3714480"/>
                <a:ext cx="75960" cy="1497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H="1">
              <a:off x="7311960" y="3752640"/>
              <a:ext cx="76320" cy="149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5776920" y="3543480"/>
                  <a:ext cx="297000" cy="76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6796080" y="2881440"/>
                  <a:ext cx="236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7367760" y="3195720"/>
                  <a:ext cx="21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7337520" y="3767040"/>
                  <a:ext cx="236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19" name=""/>
          <p:cNvGraphicFramePr/>
          <p:nvPr/>
        </p:nvGraphicFramePr>
        <p:xfrm>
          <a:off x="585720" y="4129200"/>
          <a:ext cx="1182600" cy="122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5720" y="4129200"/>
                    <a:ext cx="11826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604800" y="5318280"/>
          <a:ext cx="1143000" cy="122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4800" y="5318280"/>
                    <a:ext cx="1143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465000" y="175248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e andere Sic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3143160" cy="26384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V="1">
            <a:off x="3567240" y="2819520"/>
            <a:ext cx="1309680" cy="2324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567240" y="3971880"/>
            <a:ext cx="658800" cy="1168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414600" y="4076640"/>
                <a:ext cx="297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8" name=""/>
          <p:cNvGrpSpPr/>
          <p:nvPr/>
        </p:nvGrpSpPr>
        <p:grpSpPr>
          <a:xfrm>
            <a:off x="4223880" y="3967560"/>
            <a:ext cx="814320" cy="448920"/>
            <a:chOff x="4223880" y="3967560"/>
            <a:chExt cx="814320" cy="448920"/>
          </a:xfrm>
        </p:grpSpPr>
        <p:sp>
          <p:nvSpPr>
            <p:cNvPr id="529" name=""/>
            <p:cNvSpPr/>
            <p:nvPr/>
          </p:nvSpPr>
          <p:spPr>
            <a:xfrm>
              <a:off x="4863960" y="3967560"/>
              <a:ext cx="174240" cy="286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59000" y="4266720"/>
              <a:ext cx="75960" cy="149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223880" y="3973320"/>
              <a:ext cx="668880" cy="1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236120" y="3671640"/>
            <a:ext cx="860040" cy="379080"/>
            <a:chOff x="4236120" y="3671640"/>
            <a:chExt cx="860040" cy="379080"/>
          </a:xfrm>
        </p:grpSpPr>
        <p:sp>
          <p:nvSpPr>
            <p:cNvPr id="533" name=""/>
            <p:cNvSpPr/>
            <p:nvPr/>
          </p:nvSpPr>
          <p:spPr>
            <a:xfrm>
              <a:off x="4818960" y="3677760"/>
              <a:ext cx="275040" cy="192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086800" y="3883320"/>
              <a:ext cx="9360" cy="167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236120" y="3671640"/>
              <a:ext cx="611640" cy="270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222440" y="3533040"/>
            <a:ext cx="836640" cy="462240"/>
            <a:chOff x="4222440" y="3533040"/>
            <a:chExt cx="836640" cy="462240"/>
          </a:xfrm>
        </p:grpSpPr>
        <p:sp>
          <p:nvSpPr>
            <p:cNvPr id="537" name=""/>
            <p:cNvSpPr/>
            <p:nvPr/>
          </p:nvSpPr>
          <p:spPr>
            <a:xfrm>
              <a:off x="4681080" y="3548520"/>
              <a:ext cx="323640" cy="87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11200" y="3647880"/>
              <a:ext cx="47880" cy="160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222440" y="3533040"/>
              <a:ext cx="483120" cy="462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200840" y="3438360"/>
            <a:ext cx="745920" cy="582840"/>
            <a:chOff x="4200840" y="3438360"/>
            <a:chExt cx="745920" cy="582840"/>
          </a:xfrm>
        </p:grpSpPr>
        <p:sp>
          <p:nvSpPr>
            <p:cNvPr id="541" name=""/>
            <p:cNvSpPr/>
            <p:nvPr/>
          </p:nvSpPr>
          <p:spPr>
            <a:xfrm flipV="1">
              <a:off x="4509000" y="3449520"/>
              <a:ext cx="335160" cy="10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53880" y="3458880"/>
              <a:ext cx="92880" cy="139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200840" y="3438360"/>
              <a:ext cx="327240" cy="582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512240" y="3448080"/>
            <a:ext cx="436320" cy="148680"/>
            <a:chOff x="4512240" y="3448080"/>
            <a:chExt cx="436320" cy="148680"/>
          </a:xfrm>
        </p:grpSpPr>
        <p:sp>
          <p:nvSpPr>
            <p:cNvPr id="545" name=""/>
            <p:cNvSpPr/>
            <p:nvPr/>
          </p:nvSpPr>
          <p:spPr>
            <a:xfrm flipV="1">
              <a:off x="4512240" y="3448080"/>
              <a:ext cx="335520" cy="111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55680" y="3456720"/>
              <a:ext cx="92880" cy="140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200840" y="3447720"/>
            <a:ext cx="327960" cy="583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509360" y="3280320"/>
            <a:ext cx="451440" cy="159840"/>
            <a:chOff x="4509360" y="3280320"/>
            <a:chExt cx="451440" cy="159840"/>
          </a:xfrm>
        </p:grpSpPr>
        <p:sp>
          <p:nvSpPr>
            <p:cNvPr id="549" name=""/>
            <p:cNvSpPr/>
            <p:nvPr/>
          </p:nvSpPr>
          <p:spPr>
            <a:xfrm flipV="1">
              <a:off x="4509360" y="3280320"/>
              <a:ext cx="295200" cy="159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15360" y="3284640"/>
              <a:ext cx="145440" cy="83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510800" y="3198240"/>
            <a:ext cx="383760" cy="266040"/>
            <a:chOff x="4510800" y="3198240"/>
            <a:chExt cx="383760" cy="266040"/>
          </a:xfrm>
        </p:grpSpPr>
        <p:sp>
          <p:nvSpPr>
            <p:cNvPr id="552" name=""/>
            <p:cNvSpPr/>
            <p:nvPr/>
          </p:nvSpPr>
          <p:spPr>
            <a:xfrm flipV="1">
              <a:off x="4510800" y="3198600"/>
              <a:ext cx="205200" cy="265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7880" y="3198240"/>
              <a:ext cx="166680" cy="17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507560" y="3177720"/>
            <a:ext cx="343080" cy="302400"/>
            <a:chOff x="4507560" y="3177720"/>
            <a:chExt cx="343080" cy="302400"/>
          </a:xfrm>
        </p:grpSpPr>
        <p:sp>
          <p:nvSpPr>
            <p:cNvPr id="555" name=""/>
            <p:cNvSpPr/>
            <p:nvPr/>
          </p:nvSpPr>
          <p:spPr>
            <a:xfrm flipV="1">
              <a:off x="4507560" y="3187440"/>
              <a:ext cx="164160" cy="292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683240" y="3177720"/>
              <a:ext cx="167400" cy="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495680" y="3352680"/>
                <a:ext cx="23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657600" y="396252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964040" y="3610080"/>
                <a:ext cx="21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038480" y="3479760"/>
                <a:ext cx="3812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5029200" y="419112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343400" y="2971800"/>
                <a:ext cx="380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 flipV="1">
            <a:off x="4509000" y="3189240"/>
            <a:ext cx="164160" cy="292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685040" y="3181320"/>
            <a:ext cx="167760" cy="64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673160" y="3043440"/>
            <a:ext cx="77040" cy="1490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reieck - Baravelle Spi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rcRect l="0" t="2668" r="0" b="6836"/>
          <a:stretch/>
        </p:blipFill>
        <p:spPr>
          <a:xfrm>
            <a:off x="7467480" y="5410080"/>
            <a:ext cx="1268640" cy="11638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rcRect l="7795" t="2875" r="7714" b="5417"/>
          <a:stretch/>
        </p:blipFill>
        <p:spPr>
          <a:xfrm>
            <a:off x="228600" y="5486400"/>
            <a:ext cx="1135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4.44444E-006 L -0.07118 0.02222 E">
                                      <p:cBhvr>
                                        <p:cTn id="897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9000"/>
                            </p:stCondLst>
                            <p:childTnLst>
                              <p:par>
                                <p:cTn id="9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64 -0.01528 L -0.07969 -0.09306 E">
                                      <p:cBhvr>
                                        <p:cTn id="921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111 L -0.05903 -0.23334 E">
                                      <p:cBhvr>
                                        <p:cTn id="942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22040" y="25704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ordinatensy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259092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06668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523880"/>
            <a:ext cx="76320" cy="76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4640" y="1600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1566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692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3920" y="1390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760" y="5378400"/>
            <a:ext cx="13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r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r 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7040" y="13716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e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81280" y="3733920"/>
            <a:ext cx="4480200" cy="2971800"/>
            <a:chOff x="3581280" y="3733920"/>
            <a:chExt cx="4480200" cy="2971800"/>
          </a:xfrm>
        </p:grpSpPr>
        <p:sp>
          <p:nvSpPr>
            <p:cNvPr id="160" name=""/>
            <p:cNvSpPr/>
            <p:nvPr/>
          </p:nvSpPr>
          <p:spPr>
            <a:xfrm>
              <a:off x="3581280" y="525780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3733920"/>
              <a:ext cx="0" cy="297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77120" y="4191120"/>
              <a:ext cx="75960" cy="75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703840" y="4253040"/>
              <a:ext cx="79056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2600" y="4024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21360" y="480996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48520" y="4572000"/>
              <a:ext cx="304560" cy="685800"/>
            </a:xfrm>
            <a:custGeom>
              <a:avLst/>
              <a:gdLst/>
              <a:ahLst/>
              <a:rect l="l" t="t" r="r" b="b"/>
              <a:pathLst>
                <a:path w="192" h="432">
                  <a:moveTo>
                    <a:pt x="0" y="0"/>
                  </a:moveTo>
                  <a:cubicBezTo>
                    <a:pt x="56" y="60"/>
                    <a:pt x="112" y="120"/>
                    <a:pt x="144" y="192"/>
                  </a:cubicBezTo>
                  <a:cubicBezTo>
                    <a:pt x="176" y="264"/>
                    <a:pt x="184" y="392"/>
                    <a:pt x="192" y="4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4960" y="41292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3480" y="30780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fache Funktionen in einem kartesischen Koordinaten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59092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106668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256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392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051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8840" y="169056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8720" y="495288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2080" y="342900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84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668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6440" y="358128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386240" y="3490560"/>
            <a:ext cx="18432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42000" y="16905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52880" y="2905200"/>
            <a:ext cx="5381640" cy="463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320" y="259092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106668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14479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09240" y="373392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a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00040" y="1781280"/>
            <a:ext cx="1600200" cy="1600200"/>
            <a:chOff x="1400040" y="1781280"/>
            <a:chExt cx="1600200" cy="1600200"/>
          </a:xfrm>
        </p:grpSpPr>
        <p:sp>
          <p:nvSpPr>
            <p:cNvPr id="188" name=""/>
            <p:cNvSpPr/>
            <p:nvPr/>
          </p:nvSpPr>
          <p:spPr>
            <a:xfrm>
              <a:off x="1400040" y="1781280"/>
              <a:ext cx="1600200" cy="1600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206800" y="1995480"/>
              <a:ext cx="536400" cy="57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0360" y="2162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8960" y="3505320"/>
            <a:ext cx="13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c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c  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5759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a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34680" y="5599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952880"/>
            <a:ext cx="4800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02080" y="2895480"/>
            <a:ext cx="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200" y="4648320"/>
            <a:ext cx="13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r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r 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999720" y="4266720"/>
            <a:ext cx="21924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334120"/>
            <a:ext cx="2206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3840" y="30780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fache Funktionen in einem polaren Koordinaten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2065" t="1393" r="15320" b="14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V="1">
            <a:off x="4238640" y="212400"/>
            <a:ext cx="4905360" cy="33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05200" y="1552680"/>
            <a:ext cx="2457720" cy="1666800"/>
            <a:chOff x="4705200" y="1552680"/>
            <a:chExt cx="2457720" cy="1666800"/>
          </a:xfrm>
        </p:grpSpPr>
        <p:sp>
          <p:nvSpPr>
            <p:cNvPr id="203" name=""/>
            <p:cNvSpPr/>
            <p:nvPr/>
          </p:nvSpPr>
          <p:spPr>
            <a:xfrm>
              <a:off x="4705200" y="3143160"/>
              <a:ext cx="7632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2819520"/>
              <a:ext cx="7632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7760" y="2514600"/>
              <a:ext cx="7632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680" y="220032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00960" y="185724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6600" y="1552680"/>
              <a:ext cx="7632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23864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524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04480" y="1447920"/>
            <a:ext cx="2847960" cy="2005920"/>
            <a:chOff x="4704480" y="1447920"/>
            <a:chExt cx="2847960" cy="2005920"/>
          </a:xfrm>
        </p:grpSpPr>
        <p:sp>
          <p:nvSpPr>
            <p:cNvPr id="212" name=""/>
            <p:cNvSpPr/>
            <p:nvPr/>
          </p:nvSpPr>
          <p:spPr>
            <a:xfrm>
              <a:off x="4704480" y="304812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9720" y="27576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1840" y="236232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9040" y="20574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7640" y="17524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0680" y="144792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9880" y="4998960"/>
            <a:ext cx="164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9880" y="5546880"/>
            <a:ext cx="164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600" y="6080040"/>
            <a:ext cx="18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2960" y="4937040"/>
            <a:ext cx="212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n(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45320" y="4952880"/>
            <a:ext cx="348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s  r = a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lgt für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a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9080" y="5334120"/>
            <a:ext cx="218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a 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240" y="57150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0160" y="6110280"/>
            <a:ext cx="165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2a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0"/>
            <a:ext cx="327672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chimedische Spi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923560" y="2570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bolic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2389320"/>
            <a:ext cx="2895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a f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a f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 in Polar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= a f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 f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 = 2, or a = sqrt(2), or any positive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06080" y="5729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61280" y="257040"/>
            <a:ext cx="71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arithmische oder Exponentielle  Spir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371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a exp(b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a exp(b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(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der in Polar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= a exp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8800" y="-76320"/>
            <a:ext cx="0" cy="693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7680" y="440064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76760" y="2324160"/>
            <a:ext cx="2695680" cy="1914480"/>
            <a:chOff x="4676760" y="2324160"/>
            <a:chExt cx="2695680" cy="1914480"/>
          </a:xfrm>
        </p:grpSpPr>
        <p:sp>
          <p:nvSpPr>
            <p:cNvPr id="236" name=""/>
            <p:cNvSpPr/>
            <p:nvPr/>
          </p:nvSpPr>
          <p:spPr>
            <a:xfrm>
              <a:off x="4676760" y="4162320"/>
              <a:ext cx="7632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05320" y="3724200"/>
              <a:ext cx="7632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6120" y="2324160"/>
              <a:ext cx="7632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07440" y="2209680"/>
            <a:ext cx="2992680" cy="2234520"/>
            <a:chOff x="4807440" y="2209680"/>
            <a:chExt cx="2992680" cy="2234520"/>
          </a:xfrm>
        </p:grpSpPr>
        <p:sp>
          <p:nvSpPr>
            <p:cNvPr id="240" name=""/>
            <p:cNvSpPr/>
            <p:nvPr/>
          </p:nvSpPr>
          <p:spPr>
            <a:xfrm>
              <a:off x="4807440" y="40384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7280" y="36576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8360" y="22096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φ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4419720" y="1294920"/>
            <a:ext cx="441936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9880" y="4998960"/>
            <a:ext cx="164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9880" y="5546880"/>
            <a:ext cx="164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600" y="6080040"/>
            <a:ext cx="18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42960" y="4937040"/>
            <a:ext cx="212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n(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5960" y="4952880"/>
            <a:ext cx="3010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s  r = exp(b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lgt fü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exp(b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3240" y="57150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68360" y="6110280"/>
            <a:ext cx="22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/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exp(2b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3832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BRI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37960" y="58053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BRI_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57760" y="61722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CABRI_C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54880" y="6491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CABRI_C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ak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951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medis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aufeinanderfolgende Windungen der Spirale haben konstante Differenz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3083040" cy="2314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114800" y="1951200"/>
            <a:ext cx="5029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arithmisch: aufeinanderfolgende Windungen der Spirale haben k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oti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832080" y="5181480"/>
            <a:ext cx="987480" cy="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498720" y="5181480"/>
            <a:ext cx="3286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384960" y="5181480"/>
            <a:ext cx="1094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43560" y="5181480"/>
            <a:ext cx="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6160" y="5257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0640" y="48769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7400" y="5257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cc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76440" y="48769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99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cc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029200" y="5791320"/>
                <a:ext cx="380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50040" y="5791320"/>
                <a:ext cx="604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095880" y="5791320"/>
                <a:ext cx="806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2625840" cy="2397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05040" y="5181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7680" y="51814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51800" y="51814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7160" y="51814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96960" y="5981760"/>
                <a:ext cx="291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033560" y="5981760"/>
                <a:ext cx="539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643040" y="5970600"/>
                <a:ext cx="719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5 4.44444E-006 E">
                                      <p:cBhvr>
                                        <p:cTn id="209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25 -1.11111E-006 L 0.09948 -1.11111E-006 E">
                                      <p:cBhvr>
                                        <p:cTn id="217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2:06:43Z</dcterms:created>
  <dc:creator>Heinz-Otto Peitgen</dc:creator>
  <dc:description/>
  <dc:language>en-US</dc:language>
  <cp:lastModifiedBy>Reimund</cp:lastModifiedBy>
  <dcterms:modified xsi:type="dcterms:W3CDTF">2007-01-07T15:03:02Z</dcterms:modified>
  <cp:revision>112</cp:revision>
  <dc:subject/>
  <dc:title>Slide 1</dc:title>
</cp:coreProperties>
</file>