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ct" ContentType="image/x-pict"/>
  <Override PartName="/ppt/media/image26.pct" ContentType="image/x-pict"/>
  <Override PartName="/ppt/media/image23.pct" ContentType="image/x-pict"/>
  <Override PartName="/ppt/media/image21.pct" ContentType="image/x-pict"/>
  <Override PartName="/ppt/media/image19.pct" ContentType="image/x-pict"/>
  <Override PartName="/ppt/media/image22.png" ContentType="image/png"/>
  <Override PartName="/ppt/media/image10.pct" ContentType="image/x-pict"/>
  <Override PartName="/ppt/media/image8.png" ContentType="image/png"/>
  <Override PartName="/ppt/media/image5.pct" ContentType="image/x-pict"/>
  <Override PartName="/ppt/media/image30.pct" ContentType="image/x-pict"/>
  <Override PartName="/ppt/media/image28.pct" ContentType="image/x-pict"/>
  <Override PartName="/ppt/media/image29.pct" ContentType="image/x-pict"/>
  <Override PartName="/ppt/media/image6.pct" ContentType="image/x-pict"/>
  <Override PartName="/ppt/media/image7.pct" ContentType="image/x-pict"/>
  <Override PartName="/ppt/media/image4.jpeg" ContentType="image/jpeg"/>
  <Override PartName="/ppt/media/image13.pct" ContentType="image/x-pict"/>
  <Override PartName="/ppt/media/image32.png" ContentType="image/png"/>
  <Override PartName="/ppt/media/image18.pct" ContentType="image/x-pict"/>
  <Override PartName="/ppt/media/image20.pct" ContentType="image/x-pict"/>
  <Override PartName="/ppt/media/image9.pct" ContentType="image/x-pict"/>
  <Override PartName="/ppt/media/image3.jpeg" ContentType="image/jpeg"/>
  <Override PartName="/ppt/media/image15.png" ContentType="image/png"/>
  <Override PartName="/ppt/media/image12.pct" ContentType="image/x-pict"/>
  <Override PartName="/ppt/media/image2.pct" ContentType="image/x-pict"/>
  <Override PartName="/ppt/media/image25.pct" ContentType="image/x-pict"/>
  <Override PartName="/ppt/media/image31.pct" ContentType="image/x-pict"/>
  <Override PartName="/ppt/media/image1.pct" ContentType="image/x-pict"/>
  <Override PartName="/ppt/media/image24.pct" ContentType="image/x-pict"/>
  <Override PartName="/ppt/media/image11.pct" ContentType="image/x-pict"/>
  <Override PartName="/ppt/media/image14.png" ContentType="image/png"/>
  <Override PartName="/ppt/media/image16.pct" ContentType="image/x-pict"/>
  <Override PartName="/ppt/media/image1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39BF-447D-4FD1-9C7F-03B3C51AD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1105344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4880" y="6440400"/>
            <a:ext cx="1105344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5774-BC19-4650-9E27-244F098BA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4880" y="644040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8760" y="644040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7849-6B09-47A8-83AB-7AFDD5A8D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281772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49560" y="281772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4880" y="644040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12040" y="644040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49560" y="644040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3279-7AEA-41CA-8805-271E40AB6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898A-7EF2-40B6-A976-18EA4F7D74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4880" y="2817720"/>
            <a:ext cx="11053440" cy="69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2517-934D-4A91-BFBC-DBD0AED03D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1105344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AFE2-49A4-4EB3-A6CD-A7677240A5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AD24-DB5A-42A4-8909-90641A1ABB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F77C-8CA2-4EE4-BA84-C59A38BD98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74880" y="539640"/>
            <a:ext cx="11053440" cy="105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DC01-F23F-43BE-B13E-91CDCB3905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74880" y="644040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D0F6-44F0-41AE-8C75-1262FEAF6D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4880" y="2817720"/>
            <a:ext cx="11053440" cy="69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8B1D-D926-4FAA-8790-F3395284C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8760" y="644040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C550-FBF8-4FEE-93EF-7810F2E751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4880" y="6440400"/>
            <a:ext cx="1105344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A14D-6C2A-41D5-9FE6-51A5A42D9B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1105344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4880" y="6440400"/>
            <a:ext cx="1105344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64BD-BD38-4D0F-B39E-EE8CAE75E1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4880" y="644040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8760" y="644040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4DC1-89CE-4BA3-BDD5-57565F1DB0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040" y="281772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49560" y="281772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74880" y="644040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12040" y="644040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49560" y="6440400"/>
            <a:ext cx="355896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6901-A551-4B51-AE9F-090BC6985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1105344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3C41-CF5F-4408-A031-35AD15DDF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ADD7-B82E-4E57-B3ED-0932224D5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0904-6B0E-4DD4-AA71-B4476B722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4880" y="539640"/>
            <a:ext cx="11053440" cy="105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51FA-C2DC-4B42-BE3C-732395EB4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4880" y="644040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049C-36DA-420B-9B6C-B32C418EC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8760" y="644040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7286-EF55-487B-AF42-0322DC841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8760" y="2817720"/>
            <a:ext cx="539388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4880" y="6440400"/>
            <a:ext cx="11053440" cy="3308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C47F-2272-40BD-87CB-5F7B148EA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4880" y="2600280"/>
            <a:ext cx="1105344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55520" y="5527800"/>
            <a:ext cx="9102600" cy="42256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 fontScale="71000"/>
          </a:bodyPr>
          <a:p>
            <a:pPr marL="864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864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864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864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864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8640" algn="ctr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8640" algn="ctr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9FFE-3418-4F88-AB99-832007B6E61C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74880" y="2817720"/>
            <a:ext cx="1105344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t">
            <a:normAutofit/>
          </a:bodyPr>
          <a:p>
            <a:pPr marL="417600" indent="-370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078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462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462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217600" indent="-2476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217600" indent="-247680"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217600" indent="-247680"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66CC-B7B2-4DA4-BB53-4AF1043C0135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hyperlink" Target="http://www.mevis-research.de/~albers/Publikationen/Dissertation/index.html" TargetMode="External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image" Target="../media/image13.pct"/><Relationship Id="rId6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image" Target="../media/image25.pct"/><Relationship Id="rId5" Type="http://schemas.openxmlformats.org/officeDocument/2006/relationships/image" Target="../media/image26.pct"/><Relationship Id="rId6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6.pct"/><Relationship Id="rId3" Type="http://schemas.openxmlformats.org/officeDocument/2006/relationships/image" Target="../media/image27.pct"/><Relationship Id="rId4" Type="http://schemas.openxmlformats.org/officeDocument/2006/relationships/image" Target="../media/image28.pct"/><Relationship Id="rId5" Type="http://schemas.openxmlformats.org/officeDocument/2006/relationships/image" Target="../media/image27.pct"/><Relationship Id="rId6" Type="http://schemas.openxmlformats.org/officeDocument/2006/relationships/image" Target="../media/image29.pct"/><Relationship Id="rId7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6.pct"/><Relationship Id="rId3" Type="http://schemas.openxmlformats.org/officeDocument/2006/relationships/image" Target="../media/image28.pct"/><Relationship Id="rId4" Type="http://schemas.openxmlformats.org/officeDocument/2006/relationships/image" Target="../media/image30.pct"/><Relationship Id="rId5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431640" y="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82C1-30F8-4FBC-9033-321A423E287C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6320" y="1520640"/>
            <a:ext cx="11050560" cy="458460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2d2015"/>
                </a:solidFill>
                <a:latin typeface="Arial"/>
              </a:rPr>
              <a:t>Neues zum Papierfalten</a:t>
            </a:r>
            <a:endParaRPr b="0" lang="en-US" sz="144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C4E8-3382-4237-B87A-79E2E385B82C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Reflex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11053440" cy="3286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565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Beispiel: Von der 3. zur 4. Stuf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79400" y="4118040"/>
            <a:ext cx="6248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3. Stuf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LRLLR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16120" y="5778360"/>
            <a:ext cx="2298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LRLLR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9720" y="5237280"/>
            <a:ext cx="180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1320" y="5203800"/>
            <a:ext cx="2475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4800" tIns="0" bIns="0" anchor="t">
            <a:spAutoFit/>
          </a:bodyPr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schreibe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3320" y="5770440"/>
            <a:ext cx="368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4800" tIns="0" bIns="0" anchor="t">
            <a:spAutoFit/>
          </a:bodyPr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64120" y="5924520"/>
            <a:ext cx="24026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4800" tIns="0" bIns="0" anchor="t">
            <a:spAutoFit/>
          </a:bodyPr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 anhänge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89520" y="5778360"/>
            <a:ext cx="2298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LRRLR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43960" y="6648480"/>
            <a:ext cx="4394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4800" tIns="0" bIns="0" anchor="t">
            <a:spAutoFit/>
          </a:bodyPr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ten Teil reflektiere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16280" y="6321600"/>
            <a:ext cx="1440" cy="9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16280" y="6426360"/>
            <a:ext cx="650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66440" y="6311520"/>
            <a:ext cx="3240" cy="95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11160" y="6232320"/>
            <a:ext cx="632160" cy="226800"/>
            <a:chOff x="3611160" y="6232320"/>
            <a:chExt cx="632160" cy="226800"/>
          </a:xfrm>
        </p:grpSpPr>
        <p:sp>
          <p:nvSpPr>
            <p:cNvPr id="201" name=""/>
            <p:cNvSpPr/>
            <p:nvPr/>
          </p:nvSpPr>
          <p:spPr>
            <a:xfrm>
              <a:off x="4240080" y="6248160"/>
              <a:ext cx="324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611160" y="6456240"/>
              <a:ext cx="63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611520" y="6232320"/>
              <a:ext cx="144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303720" y="6232680"/>
            <a:ext cx="1167840" cy="298080"/>
            <a:chOff x="3303720" y="6232680"/>
            <a:chExt cx="1167840" cy="298080"/>
          </a:xfrm>
        </p:grpSpPr>
        <p:sp>
          <p:nvSpPr>
            <p:cNvPr id="205" name=""/>
            <p:cNvSpPr/>
            <p:nvPr/>
          </p:nvSpPr>
          <p:spPr>
            <a:xfrm>
              <a:off x="4470120" y="6259680"/>
              <a:ext cx="1440" cy="27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303720" y="6525720"/>
              <a:ext cx="1166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303720" y="6232680"/>
              <a:ext cx="1440" cy="29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996640" y="6232680"/>
            <a:ext cx="1792440" cy="356760"/>
            <a:chOff x="2996640" y="6232680"/>
            <a:chExt cx="1792440" cy="356760"/>
          </a:xfrm>
        </p:grpSpPr>
        <p:sp>
          <p:nvSpPr>
            <p:cNvPr id="209" name=""/>
            <p:cNvSpPr/>
            <p:nvPr/>
          </p:nvSpPr>
          <p:spPr>
            <a:xfrm>
              <a:off x="4787640" y="6259680"/>
              <a:ext cx="1440" cy="32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997000" y="6587640"/>
              <a:ext cx="1788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996640" y="6232680"/>
              <a:ext cx="1080" cy="35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8573-0045-48E3-BAA6-CF727D673915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Inflat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74880" y="2817360"/>
            <a:ext cx="11053440" cy="438804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417600" indent="-370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Wo entstehen welche Knicke beim weiteren Falten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0"/>
            <a:ext cx="10725120" cy="7894440"/>
            <a:chOff x="0" y="0"/>
            <a:chExt cx="10725120" cy="7894440"/>
          </a:xfrm>
        </p:grpSpPr>
        <p:sp>
          <p:nvSpPr>
            <p:cNvPr id="218" name=""/>
            <p:cNvSpPr/>
            <p:nvPr/>
          </p:nvSpPr>
          <p:spPr>
            <a:xfrm>
              <a:off x="1951200" y="4987800"/>
              <a:ext cx="8773920" cy="29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774280" cy="290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F57A-E88C-4679-98D3-EC4293A6BD25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Inflat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5440" y="2490840"/>
            <a:ext cx="6235560" cy="850680"/>
          </a:xfrm>
          <a:prstGeom prst="rect">
            <a:avLst/>
          </a:prstGeom>
          <a:solidFill>
            <a:srgbClr val="ffd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LLLRRLRR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5440" y="5202360"/>
            <a:ext cx="12573000" cy="850680"/>
          </a:xfrm>
          <a:prstGeom prst="rect">
            <a:avLst/>
          </a:prstGeom>
          <a:solidFill>
            <a:srgbClr val="ffd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urier New"/>
                <a:ea typeface="Courier New"/>
              </a:rPr>
              <a:t>L R L R L R L R L R L R L R L R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440" y="6554880"/>
            <a:ext cx="12573000" cy="850680"/>
          </a:xfrm>
          <a:prstGeom prst="rect">
            <a:avLst/>
          </a:prstGeom>
          <a:solidFill>
            <a:srgbClr val="ffd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LLLRRLRRLLLRLLRRRLLRRLRR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520" y="5942160"/>
            <a:ext cx="1440" cy="73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30320" y="4659480"/>
            <a:ext cx="0" cy="20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5440" y="3284640"/>
            <a:ext cx="12458520" cy="1522080"/>
            <a:chOff x="325440" y="3284640"/>
            <a:chExt cx="12458520" cy="1522080"/>
          </a:xfrm>
        </p:grpSpPr>
        <p:sp>
          <p:nvSpPr>
            <p:cNvPr id="230" name=""/>
            <p:cNvSpPr/>
            <p:nvPr/>
          </p:nvSpPr>
          <p:spPr>
            <a:xfrm>
              <a:off x="325440" y="3954960"/>
              <a:ext cx="12458520" cy="851760"/>
            </a:xfrm>
            <a:prstGeom prst="rect">
              <a:avLst/>
            </a:prstGeom>
            <a:solidFill>
              <a:srgbClr val="ffd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4800" tIns="0" bIns="0" anchor="t">
              <a:noAutofit/>
            </a:bodyPr>
            <a:p>
              <a:pPr marL="63360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5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 L R L L R R L L L R R L R R </a:t>
              </a:r>
              <a:endParaRPr b="0" lang="en-US" sz="5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160" y="3300480"/>
              <a:ext cx="269280" cy="79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7440" y="3284640"/>
              <a:ext cx="5527440" cy="89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378480" y="6551640"/>
            <a:ext cx="6527880" cy="851040"/>
          </a:xfrm>
          <a:prstGeom prst="rect">
            <a:avLst/>
          </a:prstGeom>
          <a:solidFill>
            <a:srgbClr val="8c9ea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5E1D-8EDE-45BF-82E1-043BE95273BB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Inflat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1105344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63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Beim Papierfalten erhält man die nächste Knickfolge, indem man die letzte Knickfolg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07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einander zie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07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r, in die Lücken und hinter die Knickfolge abwechseln L und R einfü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623B-AD07-47F3-9CE0-7E9E6D1743C6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4880" y="866520"/>
            <a:ext cx="11053440" cy="16239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35080" y="2364840"/>
            <a:ext cx="12517200" cy="5094360"/>
          </a:xfrm>
          <a:prstGeom prst="rect">
            <a:avLst/>
          </a:prstGeom>
          <a:solidFill>
            <a:srgbClr val="ffdfcd"/>
          </a:solidFill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520560" indent="-52056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Courier New"/>
              </a:rPr>
              <a:t>LL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LLLRRLR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LLLRRLRRLLLRLLRRRLLRRLR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Osaka−等幅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6789012345678901234567890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Osaka−等幅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46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2        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3080" y="7891560"/>
            <a:ext cx="12661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lches Zeichen wird auf Position 92 stehe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E4F0-C4AB-443C-9A75-7DD5FCC01408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4880" y="866520"/>
            <a:ext cx="11053440" cy="16239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35080" y="2246040"/>
            <a:ext cx="12517200" cy="3809880"/>
          </a:xfrm>
          <a:prstGeom prst="rect">
            <a:avLst/>
          </a:prstGeom>
          <a:solidFill>
            <a:srgbClr val="ffdfcd"/>
          </a:solidFill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L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LLLRRLR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LLLRRLRRLLLRLLRRRLLRRLR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67890123456789012345678901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1         2        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08120" y="5715000"/>
          <a:ext cx="9826560" cy="3886200"/>
        </p:xfrm>
        <a:graphic>
          <a:graphicData uri="http://schemas.openxmlformats.org/drawingml/2006/table">
            <a:tbl>
              <a:tblPr/>
              <a:tblGrid>
                <a:gridCol w="2927520"/>
                <a:gridCol w="966600"/>
                <a:gridCol w="982800"/>
                <a:gridCol w="1000080"/>
                <a:gridCol w="966600"/>
                <a:gridCol w="982800"/>
                <a:gridCol w="1017720"/>
                <a:gridCol w="982440"/>
              </a:tblGrid>
              <a:tr h="74772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igenschaf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50760" rIns="50760" tIns="50760" bIns="50760" anchor="b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snummern hier eintrag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un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un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55F-D9A7-48CC-BF0D-3B18687F874E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4880" y="866520"/>
            <a:ext cx="11053440" cy="16239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35080" y="2365200"/>
            <a:ext cx="12517200" cy="3811680"/>
          </a:xfrm>
          <a:prstGeom prst="rect">
            <a:avLst/>
          </a:prstGeom>
          <a:solidFill>
            <a:srgbClr val="ffdfcd"/>
          </a:solidFill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L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LLLRRLR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8440" indent="-520920">
              <a:lnSpc>
                <a:spcPct val="9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LLLRRLRRLLLRLLRRRLLRRLR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67890123456789012345678901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1         2        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608120" y="5715000"/>
          <a:ext cx="9826560" cy="3886200"/>
        </p:xfrm>
        <a:graphic>
          <a:graphicData uri="http://schemas.openxmlformats.org/drawingml/2006/table">
            <a:tbl>
              <a:tblPr/>
              <a:tblGrid>
                <a:gridCol w="2927520"/>
                <a:gridCol w="966600"/>
                <a:gridCol w="982800"/>
                <a:gridCol w="1000080"/>
                <a:gridCol w="966600"/>
                <a:gridCol w="982800"/>
                <a:gridCol w="1017720"/>
                <a:gridCol w="982440"/>
              </a:tblGrid>
              <a:tr h="74772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igenschaf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50760" rIns="50760" tIns="50760" bIns="50760" anchor="b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snummern hier eintrag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un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un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CDC2-6F0D-433D-8CAE-074CB2DC3F2B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4880" y="866520"/>
            <a:ext cx="11053440" cy="16239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364840"/>
            <a:ext cx="11631600" cy="30178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 fontScale="96000"/>
          </a:bodyPr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Gesetz für die ungeraden Position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Dividiere die Platznummer mit Rest durch 4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Ist der Rest 1, so steht dort ein L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ist der Rest 3, so steht dort ein R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08120" y="5232240"/>
          <a:ext cx="9826560" cy="3886200"/>
        </p:xfrm>
        <a:graphic>
          <a:graphicData uri="http://schemas.openxmlformats.org/drawingml/2006/table">
            <a:tbl>
              <a:tblPr/>
              <a:tblGrid>
                <a:gridCol w="2927520"/>
                <a:gridCol w="966600"/>
                <a:gridCol w="982800"/>
                <a:gridCol w="1000080"/>
                <a:gridCol w="966600"/>
                <a:gridCol w="982800"/>
                <a:gridCol w="1017720"/>
                <a:gridCol w="982440"/>
              </a:tblGrid>
              <a:tr h="74772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igenschaf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50760" rIns="50760" tIns="50760" bIns="50760" anchor="b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snummern hier eintrag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un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un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DA28-2BBA-45C1-96C9-E5E53DE17ABE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4880" y="866520"/>
            <a:ext cx="11053440" cy="16239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4840"/>
            <a:ext cx="11631600" cy="30178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6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LLLRRLRRLLLRLLRRRLLRRLRRLLLRL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6789012345678901234567890123456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1         2    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6720" y="2365200"/>
            <a:ext cx="1155708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/ / / / / / / / / / / / / / / / / / / / / / / / / / / / / / / / / / / /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6720" y="4154400"/>
            <a:ext cx="115570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/L/L/R/L/L/R/R/L/L/L/R/R/L/R/R/L/L/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0 1 2 3 4 5 6 7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1800" y="6769080"/>
            <a:ext cx="1191276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ach dem Streichen der ungeraden Positionen und Neunummerierung der verbleibenden Symbole erhält man wieder die Papierfaltungsfolg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994360"/>
            <a:ext cx="11912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e Nummern: alte Nummern geteilt durch 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016E-A558-44D3-B85C-046E8265DFC0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608120" y="5765760"/>
          <a:ext cx="9826560" cy="3886200"/>
        </p:xfrm>
        <a:graphic>
          <a:graphicData uri="http://schemas.openxmlformats.org/drawingml/2006/table">
            <a:tbl>
              <a:tblPr/>
              <a:tblGrid>
                <a:gridCol w="2927520"/>
                <a:gridCol w="966600"/>
                <a:gridCol w="982800"/>
                <a:gridCol w="1000080"/>
                <a:gridCol w="966600"/>
                <a:gridCol w="982800"/>
                <a:gridCol w="1017720"/>
                <a:gridCol w="982440"/>
              </a:tblGrid>
              <a:tr h="74772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igenschaf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50760" rIns="50760" tIns="50760" bIns="50760" anchor="b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snummern hier eintrag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un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un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osition gerad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Zeichen ist  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4880" y="866520"/>
            <a:ext cx="11053440" cy="16239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364840"/>
            <a:ext cx="11631600" cy="373860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62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Gesetz für die geraden Position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2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Dividiere die Platznummer durch 2 und wende auf die neue Platznummer die beiden Gesetze an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2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67000" y="4906800"/>
            <a:ext cx="780912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3B35-E7BF-4E74-BFAD-B1FAC153A0D6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Was ist Papierfalten?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4880" y="2817360"/>
            <a:ext cx="11053440" cy="406260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417600" indent="-370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Ein Streifen Papier wird gefalt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rechts über lin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5080" y="6176880"/>
            <a:ext cx="11273040" cy="129852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092560" y="6176520"/>
            <a:ext cx="2602080" cy="12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24280" y="6394320"/>
            <a:ext cx="660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67440" y="5295960"/>
            <a:ext cx="3365640" cy="1444320"/>
            <a:chOff x="6067440" y="5295960"/>
            <a:chExt cx="3365640" cy="1444320"/>
          </a:xfrm>
        </p:grpSpPr>
        <p:sp>
          <p:nvSpPr>
            <p:cNvPr id="90" name=""/>
            <p:cNvSpPr/>
            <p:nvPr/>
          </p:nvSpPr>
          <p:spPr>
            <a:xfrm>
              <a:off x="6067440" y="5295960"/>
              <a:ext cx="3365640" cy="14443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67440" y="5295960"/>
              <a:ext cx="3365640" cy="1444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C4F5-B40B-4C98-A14C-9284610DFD01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Geometrische Interpretation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1105344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417600" indent="-370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Die gefalteten Streifen werden so weit aufgefaltet, dass die Abschnitte einen rechten Winkel formen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17600" indent="-370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Die Figuren werden so ausgerichtet, dass der erste Streifenabschnitt nach oben und der zweite nach links weist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8CD3-982E-422A-81FA-E2FAD38C855D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12966480" cy="9753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224840" y="1190520"/>
            <a:ext cx="1676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1.Stuf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64040" y="3882960"/>
            <a:ext cx="167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2.Stuf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328480" y="4659480"/>
            <a:ext cx="1676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3.Stuf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11520" y="6862680"/>
            <a:ext cx="167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4.Stuf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89600" y="8182080"/>
            <a:ext cx="16765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5.Stuf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66FC-B09D-47C8-A39A-F4EB013940A3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Geometrische Interpretation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3080" y="2577960"/>
            <a:ext cx="4622760" cy="46231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08560" y="2577960"/>
            <a:ext cx="4622760" cy="23130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329840" y="2617920"/>
            <a:ext cx="2313000" cy="34686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720" y="6103800"/>
            <a:ext cx="1735200" cy="2889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29160" y="7205760"/>
            <a:ext cx="2023920" cy="1733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02320" y="7566120"/>
            <a:ext cx="1587600" cy="1011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721720" y="7529400"/>
            <a:ext cx="863640" cy="10796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277640" y="7656480"/>
            <a:ext cx="545760" cy="8319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477520" y="7837560"/>
            <a:ext cx="559080" cy="469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AE61-1D39-41D9-85BB-FB4DA74BB652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74880" y="0"/>
            <a:ext cx="11053440" cy="25653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Geometrische Interpretation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16280" y="1914480"/>
            <a:ext cx="4371840" cy="65563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194600" y="1900080"/>
            <a:ext cx="1079280" cy="2222280"/>
            <a:chOff x="7194600" y="1900080"/>
            <a:chExt cx="1079280" cy="2222280"/>
          </a:xfrm>
        </p:grpSpPr>
        <p:sp>
          <p:nvSpPr>
            <p:cNvPr id="312" name=""/>
            <p:cNvSpPr/>
            <p:nvPr/>
          </p:nvSpPr>
          <p:spPr>
            <a:xfrm>
              <a:off x="7194600" y="1900080"/>
              <a:ext cx="1077840" cy="1073880"/>
            </a:xfrm>
            <a:prstGeom prst="line">
              <a:avLst/>
            </a:prstGeom>
            <a:ln w="38160">
              <a:solidFill>
                <a:srgbClr val="fdc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194600" y="3011400"/>
              <a:ext cx="1079280" cy="1110960"/>
            </a:xfrm>
            <a:prstGeom prst="line">
              <a:avLst/>
            </a:prstGeom>
            <a:ln w="38160">
              <a:solidFill>
                <a:srgbClr val="fdc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011560" y="1924200"/>
            <a:ext cx="2156760" cy="1029960"/>
            <a:chOff x="5011560" y="1924200"/>
            <a:chExt cx="2156760" cy="1029960"/>
          </a:xfrm>
        </p:grpSpPr>
        <p:sp>
          <p:nvSpPr>
            <p:cNvPr id="315" name=""/>
            <p:cNvSpPr/>
            <p:nvPr/>
          </p:nvSpPr>
          <p:spPr>
            <a:xfrm flipH="1">
              <a:off x="6102360" y="1924200"/>
              <a:ext cx="1065960" cy="10299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11560" y="1924200"/>
              <a:ext cx="1100880" cy="10299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911760" y="1908000"/>
            <a:ext cx="1079280" cy="2209320"/>
            <a:chOff x="3911760" y="1908000"/>
            <a:chExt cx="1079280" cy="2209320"/>
          </a:xfrm>
        </p:grpSpPr>
        <p:sp>
          <p:nvSpPr>
            <p:cNvPr id="318" name=""/>
            <p:cNvSpPr/>
            <p:nvPr/>
          </p:nvSpPr>
          <p:spPr>
            <a:xfrm flipH="1" flipV="1">
              <a:off x="3913200" y="3047760"/>
              <a:ext cx="1077840" cy="10695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911760" y="1908000"/>
              <a:ext cx="1079280" cy="110664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825640" y="4108320"/>
            <a:ext cx="2158560" cy="1091880"/>
            <a:chOff x="2825640" y="4108320"/>
            <a:chExt cx="2158560" cy="1091880"/>
          </a:xfrm>
        </p:grpSpPr>
        <p:sp>
          <p:nvSpPr>
            <p:cNvPr id="321" name=""/>
            <p:cNvSpPr/>
            <p:nvPr/>
          </p:nvSpPr>
          <p:spPr>
            <a:xfrm flipH="1">
              <a:off x="3902400" y="4108320"/>
              <a:ext cx="1081800" cy="109188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25640" y="4108320"/>
              <a:ext cx="1116360" cy="109008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25120" y="4118040"/>
            <a:ext cx="1079640" cy="2196360"/>
            <a:chOff x="1725120" y="4118040"/>
            <a:chExt cx="1079640" cy="2196360"/>
          </a:xfrm>
        </p:grpSpPr>
        <p:sp>
          <p:nvSpPr>
            <p:cNvPr id="324" name=""/>
            <p:cNvSpPr/>
            <p:nvPr/>
          </p:nvSpPr>
          <p:spPr>
            <a:xfrm flipH="1" flipV="1">
              <a:off x="1726560" y="5249160"/>
              <a:ext cx="1078200" cy="106524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25120" y="4118040"/>
              <a:ext cx="1079640" cy="110088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825640" y="5234040"/>
            <a:ext cx="2158920" cy="1041120"/>
            <a:chOff x="2825640" y="5234040"/>
            <a:chExt cx="2158920" cy="1041120"/>
          </a:xfrm>
        </p:grpSpPr>
        <p:sp>
          <p:nvSpPr>
            <p:cNvPr id="327" name=""/>
            <p:cNvSpPr/>
            <p:nvPr/>
          </p:nvSpPr>
          <p:spPr>
            <a:xfrm flipH="1" flipV="1">
              <a:off x="3915360" y="5234040"/>
              <a:ext cx="1069200" cy="104112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825640" y="5234040"/>
              <a:ext cx="1104120" cy="104112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919680" y="6275520"/>
            <a:ext cx="1079280" cy="2209320"/>
            <a:chOff x="3919680" y="6275520"/>
            <a:chExt cx="1079280" cy="2209320"/>
          </a:xfrm>
        </p:grpSpPr>
        <p:sp>
          <p:nvSpPr>
            <p:cNvPr id="330" name=""/>
            <p:cNvSpPr/>
            <p:nvPr/>
          </p:nvSpPr>
          <p:spPr>
            <a:xfrm flipH="1" flipV="1">
              <a:off x="3921120" y="7415640"/>
              <a:ext cx="1077840" cy="10692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919680" y="6275520"/>
              <a:ext cx="1079280" cy="110628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844720" y="8470800"/>
            <a:ext cx="2156760" cy="1033200"/>
            <a:chOff x="2844720" y="8470800"/>
            <a:chExt cx="2156760" cy="1033200"/>
          </a:xfrm>
        </p:grpSpPr>
        <p:sp>
          <p:nvSpPr>
            <p:cNvPr id="333" name=""/>
            <p:cNvSpPr/>
            <p:nvPr/>
          </p:nvSpPr>
          <p:spPr>
            <a:xfrm flipH="1">
              <a:off x="3935520" y="8470800"/>
              <a:ext cx="1065960" cy="10332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44720" y="8470800"/>
              <a:ext cx="1100880" cy="10332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8218440" y="3701880"/>
            <a:ext cx="3273480" cy="54547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27640" y="5143680"/>
            <a:ext cx="2730600" cy="1082520"/>
            <a:chOff x="5327640" y="5143680"/>
            <a:chExt cx="2730600" cy="1082520"/>
          </a:xfrm>
        </p:grpSpPr>
        <p:sp>
          <p:nvSpPr>
            <p:cNvPr id="337" name=""/>
            <p:cNvSpPr/>
            <p:nvPr/>
          </p:nvSpPr>
          <p:spPr>
            <a:xfrm>
              <a:off x="5472000" y="5143680"/>
              <a:ext cx="2256120" cy="10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27640" y="5399280"/>
              <a:ext cx="2730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4800" tIns="0" bIns="0" anchor="t">
              <a:noAutofit/>
            </a:bodyPr>
            <a:p>
              <a:pPr marL="63360"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terfalten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9A7-F961-4D42-A690-9C367A07691A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6280" y="1914480"/>
            <a:ext cx="4371840" cy="65563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191360" y="1900440"/>
            <a:ext cx="1092240" cy="2222280"/>
            <a:chOff x="7191360" y="1900440"/>
            <a:chExt cx="1092240" cy="2222280"/>
          </a:xfrm>
        </p:grpSpPr>
        <p:sp>
          <p:nvSpPr>
            <p:cNvPr id="344" name=""/>
            <p:cNvSpPr/>
            <p:nvPr/>
          </p:nvSpPr>
          <p:spPr>
            <a:xfrm>
              <a:off x="7191360" y="1900440"/>
              <a:ext cx="1090440" cy="107712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191360" y="3008520"/>
              <a:ext cx="1092240" cy="11142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011560" y="1924200"/>
            <a:ext cx="2156760" cy="1029960"/>
            <a:chOff x="5011560" y="1924200"/>
            <a:chExt cx="2156760" cy="1029960"/>
          </a:xfrm>
        </p:grpSpPr>
        <p:sp>
          <p:nvSpPr>
            <p:cNvPr id="347" name=""/>
            <p:cNvSpPr/>
            <p:nvPr/>
          </p:nvSpPr>
          <p:spPr>
            <a:xfrm flipH="1">
              <a:off x="6102360" y="1924200"/>
              <a:ext cx="1065960" cy="10299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11560" y="1924200"/>
              <a:ext cx="1100880" cy="10299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889080" y="1920960"/>
            <a:ext cx="1104840" cy="2171160"/>
            <a:chOff x="3889080" y="1920960"/>
            <a:chExt cx="1104840" cy="2171160"/>
          </a:xfrm>
        </p:grpSpPr>
        <p:sp>
          <p:nvSpPr>
            <p:cNvPr id="350" name=""/>
            <p:cNvSpPr/>
            <p:nvPr/>
          </p:nvSpPr>
          <p:spPr>
            <a:xfrm flipH="1" flipV="1">
              <a:off x="3890520" y="3030120"/>
              <a:ext cx="1103400" cy="10620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889080" y="1920960"/>
              <a:ext cx="1104840" cy="109764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838600" y="4132440"/>
            <a:ext cx="2156760" cy="1029960"/>
            <a:chOff x="2838600" y="4132440"/>
            <a:chExt cx="2156760" cy="1029960"/>
          </a:xfrm>
        </p:grpSpPr>
        <p:sp>
          <p:nvSpPr>
            <p:cNvPr id="353" name=""/>
            <p:cNvSpPr/>
            <p:nvPr/>
          </p:nvSpPr>
          <p:spPr>
            <a:xfrm flipH="1">
              <a:off x="3929760" y="4132440"/>
              <a:ext cx="1065600" cy="10299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8600" y="4132440"/>
              <a:ext cx="1100880" cy="10299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677960" y="4106880"/>
            <a:ext cx="1130400" cy="2145600"/>
            <a:chOff x="1677960" y="4106880"/>
            <a:chExt cx="1130400" cy="2145600"/>
          </a:xfrm>
        </p:grpSpPr>
        <p:sp>
          <p:nvSpPr>
            <p:cNvPr id="356" name=""/>
            <p:cNvSpPr/>
            <p:nvPr/>
          </p:nvSpPr>
          <p:spPr>
            <a:xfrm flipH="1" flipV="1">
              <a:off x="1677960" y="5193000"/>
              <a:ext cx="1130400" cy="105948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1677960" y="4106880"/>
              <a:ext cx="1130400" cy="10944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825640" y="5234040"/>
            <a:ext cx="2145960" cy="1028160"/>
            <a:chOff x="2825640" y="5234040"/>
            <a:chExt cx="2145960" cy="1028160"/>
          </a:xfrm>
        </p:grpSpPr>
        <p:sp>
          <p:nvSpPr>
            <p:cNvPr id="359" name=""/>
            <p:cNvSpPr/>
            <p:nvPr/>
          </p:nvSpPr>
          <p:spPr>
            <a:xfrm flipH="1" flipV="1">
              <a:off x="3910320" y="5234040"/>
              <a:ext cx="1061280" cy="10281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825640" y="5234040"/>
              <a:ext cx="1095840" cy="10281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819600" y="6275520"/>
            <a:ext cx="1167840" cy="2209680"/>
            <a:chOff x="3819600" y="6275520"/>
            <a:chExt cx="1167840" cy="2209680"/>
          </a:xfrm>
        </p:grpSpPr>
        <p:sp>
          <p:nvSpPr>
            <p:cNvPr id="362" name=""/>
            <p:cNvSpPr/>
            <p:nvPr/>
          </p:nvSpPr>
          <p:spPr>
            <a:xfrm flipH="1" flipV="1">
              <a:off x="3819600" y="7392960"/>
              <a:ext cx="1167840" cy="109224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819600" y="6275520"/>
              <a:ext cx="1167840" cy="11286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844720" y="8458200"/>
            <a:ext cx="2156760" cy="1033200"/>
            <a:chOff x="2844720" y="8458200"/>
            <a:chExt cx="2156760" cy="1033200"/>
          </a:xfrm>
        </p:grpSpPr>
        <p:sp>
          <p:nvSpPr>
            <p:cNvPr id="365" name=""/>
            <p:cNvSpPr/>
            <p:nvPr/>
          </p:nvSpPr>
          <p:spPr>
            <a:xfrm flipH="1">
              <a:off x="3935520" y="8458200"/>
              <a:ext cx="1065960" cy="10332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44720" y="8458200"/>
              <a:ext cx="1100880" cy="10332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2827080" y="4100400"/>
            <a:ext cx="4360680" cy="4416480"/>
          </a:xfrm>
          <a:prstGeom prst="line">
            <a:avLst/>
          </a:prstGeom>
          <a:ln w="50760">
            <a:solidFill>
              <a:srgbClr val="bd753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03800" y="5416560"/>
            <a:ext cx="34419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Entfernung Anfang - Ende bleibt konsta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74880" y="0"/>
            <a:ext cx="11053440" cy="25653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Geometrische Interpretation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DC5D-54DE-4E50-B130-0917A409879A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4880" y="0"/>
            <a:ext cx="11053440" cy="240192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Geometrische Interpretation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374" name="neuesPapfalten.ppt_media/AuffaltenMovie_mTneu0.mov" descr=""/>
          <p:cNvPicPr/>
          <p:nvPr/>
        </p:nvPicPr>
        <p:blipFill>
          <a:blip r:embed="rId2"/>
          <a:stretch/>
        </p:blipFill>
        <p:spPr>
          <a:xfrm>
            <a:off x="2871720" y="1930320"/>
            <a:ext cx="7223040" cy="722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8AC9-D2CA-4AE1-A360-7482D066E17B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Weitere Informationen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1105344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63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2"/>
              </a:rPr>
              <a:t>http://www.mevis-research.de/~albers/Publikationen/Dissertation/index.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http://www.math.fau.edu/MLogan/Pattern_Exploration/MainDirections.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ort „Paperfolding“ wäh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Reflex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6085-5869-4CA9-BE52-A2D8968A3027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2822400"/>
            <a:ext cx="1163448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 fontScale="91000"/>
          </a:bodyPr>
          <a:p>
            <a:pPr marL="57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RR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LRRLRR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RLLRRLRR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6789012345678901234567890123456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1         2    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549440" y="3924360"/>
            <a:ext cx="609480" cy="223920"/>
            <a:chOff x="1549440" y="3924360"/>
            <a:chExt cx="609480" cy="223920"/>
          </a:xfrm>
        </p:grpSpPr>
        <p:sp>
          <p:nvSpPr>
            <p:cNvPr id="386" name=""/>
            <p:cNvSpPr/>
            <p:nvPr/>
          </p:nvSpPr>
          <p:spPr>
            <a:xfrm>
              <a:off x="1562040" y="392436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49440" y="4140360"/>
              <a:ext cx="59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58920" y="392436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549440" y="3924360"/>
            <a:ext cx="3048120" cy="439560"/>
            <a:chOff x="1549440" y="3924360"/>
            <a:chExt cx="3048120" cy="439560"/>
          </a:xfrm>
        </p:grpSpPr>
        <p:sp>
          <p:nvSpPr>
            <p:cNvPr id="390" name=""/>
            <p:cNvSpPr/>
            <p:nvPr/>
          </p:nvSpPr>
          <p:spPr>
            <a:xfrm>
              <a:off x="1562040" y="41403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49440" y="435600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7560" y="392436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549440" y="3924360"/>
            <a:ext cx="7950240" cy="655560"/>
            <a:chOff x="1549440" y="3924360"/>
            <a:chExt cx="7950240" cy="655560"/>
          </a:xfrm>
        </p:grpSpPr>
        <p:sp>
          <p:nvSpPr>
            <p:cNvPr id="394" name=""/>
            <p:cNvSpPr/>
            <p:nvPr/>
          </p:nvSpPr>
          <p:spPr>
            <a:xfrm>
              <a:off x="1562040" y="435600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9440" y="4572000"/>
              <a:ext cx="795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487080" y="3924360"/>
              <a:ext cx="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884160" y="4991040"/>
            <a:ext cx="9307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lektiert wird an den „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 auf den Zweierpoten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84880" y="5715000"/>
            <a:ext cx="727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n   4 auf   5, denn 4 - 3 = 1, 4 + 1 =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85600" y="6438960"/>
            <a:ext cx="7499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n   8 auf 13, denn 8 - 3 = 5, 8 + 5 =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85960" y="7162920"/>
            <a:ext cx="840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n 16 auf 29, denn 16 - 3 = 13, 16 + 13 =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01880" y="7886880"/>
            <a:ext cx="9508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 2</a:t>
            </a:r>
            <a:r>
              <a:rPr b="0" i="1" lang="en-US" sz="32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uf 2</a:t>
            </a:r>
            <a:r>
              <a:rPr b="0" i="1" lang="en-US" sz="32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denn 2</a:t>
            </a:r>
            <a:r>
              <a:rPr b="0" i="1" lang="en-US" sz="32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2</a:t>
            </a:r>
            <a:r>
              <a:rPr b="0" i="1" lang="en-US" sz="32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2</a:t>
            </a:r>
            <a:r>
              <a:rPr b="0" i="1" lang="en-US" sz="32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7636-E913-4D5B-90B5-3CD3DC122037}" type="slidenum">
              <a:t>27</a:t>
            </a:fld>
          </a:p>
        </p:txBody>
      </p:sp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Reflex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BB2E-DE92-4BF7-9853-BFF94C312BCF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4360" y="2822400"/>
            <a:ext cx="1163448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 fontScale="91000"/>
          </a:bodyPr>
          <a:p>
            <a:pPr marL="57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RR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LRRLRR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LRRRLLRRLRR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LLRL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6789012345678901234567890123456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1         2    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534320" y="3924360"/>
            <a:ext cx="7989480" cy="647640"/>
            <a:chOff x="1534320" y="3924360"/>
            <a:chExt cx="7989480" cy="647640"/>
          </a:xfrm>
        </p:grpSpPr>
        <p:sp>
          <p:nvSpPr>
            <p:cNvPr id="408" name=""/>
            <p:cNvSpPr/>
            <p:nvPr/>
          </p:nvSpPr>
          <p:spPr>
            <a:xfrm>
              <a:off x="9511560" y="3927600"/>
              <a:ext cx="0" cy="6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34320" y="4572000"/>
              <a:ext cx="798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47640" y="3924360"/>
              <a:ext cx="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851040" y="4978440"/>
            <a:ext cx="121536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ückwärts-Reflexion: Ein Platz wird an der nächst niedrigen Zweierpotenz zurückreflekti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882720" y="0"/>
            <a:ext cx="10115640" cy="6926760"/>
            <a:chOff x="882720" y="0"/>
            <a:chExt cx="10115640" cy="6926760"/>
          </a:xfrm>
        </p:grpSpPr>
        <p:sp>
          <p:nvSpPr>
            <p:cNvPr id="413" name=""/>
            <p:cNvSpPr/>
            <p:nvPr/>
          </p:nvSpPr>
          <p:spPr>
            <a:xfrm>
              <a:off x="882720" y="6438960"/>
              <a:ext cx="8484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gorithmus: Suche zu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e Zweierpotenz mit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470800" y="0"/>
              <a:ext cx="2527560" cy="6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"/>
          <p:cNvGrpSpPr/>
          <p:nvPr/>
        </p:nvGrpSpPr>
        <p:grpSpPr>
          <a:xfrm>
            <a:off x="880560" y="0"/>
            <a:ext cx="6890400" cy="7648920"/>
            <a:chOff x="880560" y="0"/>
            <a:chExt cx="6890400" cy="7648920"/>
          </a:xfrm>
        </p:grpSpPr>
        <p:sp>
          <p:nvSpPr>
            <p:cNvPr id="416" name=""/>
            <p:cNvSpPr/>
            <p:nvPr/>
          </p:nvSpPr>
          <p:spPr>
            <a:xfrm>
              <a:off x="880560" y="7161120"/>
              <a:ext cx="5280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lektiere           zurück auf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2082960" y="60480"/>
              <a:ext cx="1155600" cy="6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4"/>
            <a:stretch/>
          </p:blipFill>
          <p:spPr>
            <a:xfrm>
              <a:off x="5346720" y="0"/>
              <a:ext cx="24242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"/>
          <p:cNvGrpSpPr/>
          <p:nvPr/>
        </p:nvGrpSpPr>
        <p:grpSpPr>
          <a:xfrm>
            <a:off x="913680" y="0"/>
            <a:ext cx="9724680" cy="8388720"/>
            <a:chOff x="913680" y="0"/>
            <a:chExt cx="9724680" cy="8388720"/>
          </a:xfrm>
        </p:grpSpPr>
        <p:sp>
          <p:nvSpPr>
            <p:cNvPr id="420" name=""/>
            <p:cNvSpPr/>
            <p:nvPr/>
          </p:nvSpPr>
          <p:spPr>
            <a:xfrm>
              <a:off x="913680" y="7886520"/>
              <a:ext cx="972468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iere                           bi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i="1" lang="en-US" sz="3200" spc="-1" strike="noStrike" baseline="-12000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3200" spc="-1" strike="noStrike" baseline="-12000">
                  <a:solidFill>
                    <a:srgbClr val="000000"/>
                  </a:solidFill>
                  <a:latin typeface="Arial"/>
                  <a:ea typeface="Arial"/>
                </a:rPr>
                <a:t>+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eine Zweierpotenz ist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5"/>
            <a:stretch/>
          </p:blipFill>
          <p:spPr>
            <a:xfrm>
              <a:off x="1359000" y="0"/>
              <a:ext cx="292104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58E1-859D-4EA0-970A-B2A7C3AA5116}" type="slidenum">
              <a:t>28</a:t>
            </a:fld>
          </a:p>
        </p:txBody>
      </p:sp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C86D-1A90-4B4A-93EF-A74E691CC6C5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Reflex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95360" y="2819520"/>
            <a:ext cx="10185480" cy="4698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95360" y="7899480"/>
            <a:ext cx="8445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grammierung in einer Tabellenkalk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5722-A5D4-46F9-8FAD-CBFC06701E15}" type="slidenum">
              <a:t>29</a:t>
            </a:fld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DD40-5C9C-4B5F-9DA4-D7FEDF688398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Was ist Papierfalten?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2817360"/>
            <a:ext cx="11053440" cy="406260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417600" indent="-37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ch dem Auffalten haben wir einen Streifen mit einem Kn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7600" indent="-37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ist ein Talknick oder Linkskn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31960" y="6019920"/>
            <a:ext cx="8777880" cy="1717560"/>
            <a:chOff x="1731960" y="6019920"/>
            <a:chExt cx="8777880" cy="1717560"/>
          </a:xfrm>
        </p:grpSpPr>
        <p:grpSp>
          <p:nvGrpSpPr>
            <p:cNvPr id="98" name=""/>
            <p:cNvGrpSpPr/>
            <p:nvPr/>
          </p:nvGrpSpPr>
          <p:grpSpPr>
            <a:xfrm>
              <a:off x="1731960" y="6019920"/>
              <a:ext cx="8777880" cy="514440"/>
              <a:chOff x="1731960" y="6019920"/>
              <a:chExt cx="8777880" cy="5144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1731960" y="6019920"/>
                <a:ext cx="4659840" cy="514440"/>
                <a:chOff x="1731960" y="6019920"/>
                <a:chExt cx="4659840" cy="5144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731960" y="6019920"/>
                  <a:ext cx="4659840" cy="51444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31960" y="6019920"/>
                  <a:ext cx="4659840" cy="5144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391800" y="6019920"/>
                <a:ext cx="4118040" cy="514440"/>
                <a:chOff x="6391800" y="6019920"/>
                <a:chExt cx="4118040" cy="514440"/>
              </a:xfrm>
            </p:grpSpPr>
            <p:sp>
              <p:nvSpPr>
                <p:cNvPr id="103" name=""/>
                <p:cNvSpPr/>
                <p:nvPr/>
              </p:nvSpPr>
              <p:spPr>
                <a:xfrm flipH="1">
                  <a:off x="6391440" y="6019920"/>
                  <a:ext cx="4118040" cy="51444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6391440" y="6019920"/>
                  <a:ext cx="4118040" cy="5144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5850720" y="6740640"/>
              <a:ext cx="54144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391440" y="6740280"/>
              <a:ext cx="54108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99480" y="7153560"/>
              <a:ext cx="27054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4800" tIns="0" bIns="0" anchor="t">
              <a:noAutofit/>
            </a:bodyPr>
            <a:p>
              <a:pPr marL="63360"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skurve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76320" y="539280"/>
            <a:ext cx="1105056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Eine neue Kodierung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A980-8E2E-48E9-B0B8-1C9030972772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3080" y="1816200"/>
            <a:ext cx="4622760" cy="46227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08560" y="1816200"/>
            <a:ext cx="4622760" cy="23130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329840" y="1855800"/>
            <a:ext cx="2313000" cy="34686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8720" y="5342040"/>
            <a:ext cx="1735200" cy="28890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8400" y="6464160"/>
            <a:ext cx="11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:N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88760" y="7035840"/>
            <a:ext cx="1781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:NWS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7680" y="7607160"/>
            <a:ext cx="302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:NWSWSOS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85160" y="8178840"/>
            <a:ext cx="5468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:NWSWSOSWSONOSOS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680120" y="2374920"/>
            <a:ext cx="3067920" cy="3471840"/>
            <a:chOff x="1680120" y="2374920"/>
            <a:chExt cx="3067920" cy="3471840"/>
          </a:xfrm>
        </p:grpSpPr>
        <p:sp>
          <p:nvSpPr>
            <p:cNvPr id="441" name=""/>
            <p:cNvSpPr/>
            <p:nvPr/>
          </p:nvSpPr>
          <p:spPr>
            <a:xfrm>
              <a:off x="2273400" y="3276360"/>
              <a:ext cx="1904760" cy="190440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00400" y="2958840"/>
              <a:ext cx="0" cy="239976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149560" y="4228920"/>
              <a:ext cx="213840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26160" y="2374920"/>
              <a:ext cx="40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80120" y="3949200"/>
              <a:ext cx="49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21080" y="3949200"/>
              <a:ext cx="426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50200" y="535896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0B9C-CC68-4745-BCB6-2F9FFED7C491}" type="slidenum">
              <a:t>30</a:t>
            </a:fld>
          </a:p>
        </p:txBody>
      </p:sp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43D-1A41-4A61-B9D1-85BCB750D6FD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76320" y="539280"/>
            <a:ext cx="1105056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Eine neue Kodierung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830440" y="1333440"/>
            <a:ext cx="3067560" cy="3472200"/>
            <a:chOff x="8830440" y="1333440"/>
            <a:chExt cx="3067560" cy="3472200"/>
          </a:xfrm>
        </p:grpSpPr>
        <p:sp>
          <p:nvSpPr>
            <p:cNvPr id="453" name=""/>
            <p:cNvSpPr/>
            <p:nvPr/>
          </p:nvSpPr>
          <p:spPr>
            <a:xfrm>
              <a:off x="9423360" y="2235240"/>
              <a:ext cx="1904400" cy="190476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350360" y="1917720"/>
              <a:ext cx="0" cy="240012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9299160" y="3187800"/>
              <a:ext cx="213804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175760" y="1333440"/>
              <a:ext cx="40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830440" y="2908080"/>
              <a:ext cx="49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71040" y="2908080"/>
              <a:ext cx="426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099800" y="431784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33400" y="1625760"/>
            <a:ext cx="10399680" cy="2761200"/>
            <a:chOff x="833400" y="1625760"/>
            <a:chExt cx="10399680" cy="2761200"/>
          </a:xfrm>
        </p:grpSpPr>
        <p:sp>
          <p:nvSpPr>
            <p:cNvPr id="461" name=""/>
            <p:cNvSpPr/>
            <p:nvPr/>
          </p:nvSpPr>
          <p:spPr>
            <a:xfrm>
              <a:off x="841680" y="1625760"/>
              <a:ext cx="11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N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42040" y="2197440"/>
              <a:ext cx="1781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NW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0960" y="2768760"/>
              <a:ext cx="3025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:NWSW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800" y="3340440"/>
              <a:ext cx="5468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:NWSWSOSWSONO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3400" y="3899160"/>
              <a:ext cx="10399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:NWSWSOSWSONOSOSWSONONWNOSONO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840600" y="4876920"/>
            <a:ext cx="4120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gestellun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40600" y="5842080"/>
            <a:ext cx="9159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e oft kommen die einzelnen Symbole v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40240" y="6464160"/>
            <a:ext cx="11725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e werden die Wörter schrittweise aufgebaut (rekursiv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37360" y="7086600"/>
            <a:ext cx="8877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lches Symbol steht an Platz n (explizit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9551-2343-40CD-BC7B-3E622614C1F1}" type="slidenum">
              <a:t>31</a:t>
            </a:fld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929D-C365-49FE-9688-4C71880B5080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76320" y="539280"/>
            <a:ext cx="1105056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Eine neue Kodierung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8830440" y="1333440"/>
            <a:ext cx="3067560" cy="3472200"/>
            <a:chOff x="8830440" y="1333440"/>
            <a:chExt cx="3067560" cy="3472200"/>
          </a:xfrm>
        </p:grpSpPr>
        <p:sp>
          <p:nvSpPr>
            <p:cNvPr id="475" name=""/>
            <p:cNvSpPr/>
            <p:nvPr/>
          </p:nvSpPr>
          <p:spPr>
            <a:xfrm>
              <a:off x="9423360" y="2235240"/>
              <a:ext cx="1904400" cy="190476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350360" y="1917720"/>
              <a:ext cx="0" cy="240012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9299160" y="3187800"/>
              <a:ext cx="213804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175760" y="1333440"/>
              <a:ext cx="40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830440" y="2908080"/>
              <a:ext cx="49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471040" y="2908080"/>
              <a:ext cx="426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099800" y="431784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833400" y="1625760"/>
            <a:ext cx="10399680" cy="2761200"/>
            <a:chOff x="833400" y="1625760"/>
            <a:chExt cx="10399680" cy="2761200"/>
          </a:xfrm>
        </p:grpSpPr>
        <p:sp>
          <p:nvSpPr>
            <p:cNvPr id="483" name=""/>
            <p:cNvSpPr/>
            <p:nvPr/>
          </p:nvSpPr>
          <p:spPr>
            <a:xfrm>
              <a:off x="841680" y="1625760"/>
              <a:ext cx="11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N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2040" y="2197440"/>
              <a:ext cx="1781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NW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0960" y="2768760"/>
              <a:ext cx="3025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:NWSW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800" y="3340440"/>
              <a:ext cx="5468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:NWSWSOSWSONO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3400" y="3899160"/>
              <a:ext cx="10399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:NWSWSOSWSONOSOSWSONONWNOSONO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8" name=""/>
          <p:cNvGraphicFramePr/>
          <p:nvPr/>
        </p:nvGraphicFramePr>
        <p:xfrm>
          <a:off x="1305000" y="4765680"/>
          <a:ext cx="7199280" cy="449748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440000"/>
                <a:gridCol w="1439640"/>
                <a:gridCol w="1440000"/>
              </a:tblGrid>
              <a:tr h="711360">
                <a:tc gridSpan="5"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nzahle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>
                        <a:alpha val="35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25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tuf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W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O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8699400" y="4875120"/>
            <a:ext cx="4838760" cy="42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C5B8-8FC1-4782-8A53-A038A736771C}" type="slidenum">
              <a:t>32</a:t>
            </a:fld>
          </a:p>
        </p:txBody>
      </p:sp>
    </p:spTree>
  </p:cSld>
  <p:transition spd="med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6320" y="539280"/>
            <a:ext cx="1105056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Reflex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8830440" y="1333440"/>
            <a:ext cx="3067560" cy="3472200"/>
            <a:chOff x="8830440" y="1333440"/>
            <a:chExt cx="3067560" cy="3472200"/>
          </a:xfrm>
        </p:grpSpPr>
        <p:sp>
          <p:nvSpPr>
            <p:cNvPr id="494" name=""/>
            <p:cNvSpPr/>
            <p:nvPr/>
          </p:nvSpPr>
          <p:spPr>
            <a:xfrm>
              <a:off x="9423360" y="2235240"/>
              <a:ext cx="1904400" cy="190476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350360" y="1917720"/>
              <a:ext cx="0" cy="240012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9299160" y="3187800"/>
              <a:ext cx="213804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175760" y="1333440"/>
              <a:ext cx="40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30440" y="2908080"/>
              <a:ext cx="49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471040" y="2908080"/>
              <a:ext cx="426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099800" y="431784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150B-26E4-4D3A-83E0-E77AE00807BB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838440" y="1625760"/>
            <a:ext cx="5468040" cy="2202120"/>
            <a:chOff x="838440" y="1625760"/>
            <a:chExt cx="5468040" cy="2202120"/>
          </a:xfrm>
        </p:grpSpPr>
        <p:sp>
          <p:nvSpPr>
            <p:cNvPr id="503" name=""/>
            <p:cNvSpPr/>
            <p:nvPr/>
          </p:nvSpPr>
          <p:spPr>
            <a:xfrm>
              <a:off x="841680" y="1625760"/>
              <a:ext cx="11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N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1680" y="2197080"/>
              <a:ext cx="1781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NW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0600" y="2768400"/>
              <a:ext cx="3025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:NWSW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8440" y="3340080"/>
              <a:ext cx="5468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:NWSWSOSWSONO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874880" y="4876920"/>
            <a:ext cx="2214000" cy="1001160"/>
            <a:chOff x="1874880" y="4876920"/>
            <a:chExt cx="2214000" cy="1001160"/>
          </a:xfrm>
        </p:grpSpPr>
        <p:sp>
          <p:nvSpPr>
            <p:cNvPr id="508" name=""/>
            <p:cNvSpPr/>
            <p:nvPr/>
          </p:nvSpPr>
          <p:spPr>
            <a:xfrm>
              <a:off x="1874880" y="4889160"/>
              <a:ext cx="221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9720" y="4876920"/>
              <a:ext cx="0" cy="9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82400" y="4902120"/>
              <a:ext cx="0" cy="9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887480" y="4889520"/>
            <a:ext cx="2214360" cy="1001160"/>
            <a:chOff x="1887480" y="4889520"/>
            <a:chExt cx="2214360" cy="1001160"/>
          </a:xfrm>
        </p:grpSpPr>
        <p:sp>
          <p:nvSpPr>
            <p:cNvPr id="512" name=""/>
            <p:cNvSpPr/>
            <p:nvPr/>
          </p:nvSpPr>
          <p:spPr>
            <a:xfrm>
              <a:off x="1887480" y="4901760"/>
              <a:ext cx="221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12320" y="4889520"/>
              <a:ext cx="0" cy="9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95360" y="4914720"/>
              <a:ext cx="0" cy="9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519160" y="6413400"/>
            <a:ext cx="385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55880" y="7213680"/>
            <a:ext cx="7720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ehung um 90° gegen den Uhrzeigers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90° im Uhrzeigers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180° durch Richtungsumkeh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3680" y="4851360"/>
            <a:ext cx="210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WS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71440" y="4851360"/>
            <a:ext cx="1973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OS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513200" y="4648320"/>
            <a:ext cx="17640" cy="825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201080" y="5499000"/>
            <a:ext cx="571320" cy="236520"/>
            <a:chOff x="7201080" y="5499000"/>
            <a:chExt cx="571320" cy="236520"/>
          </a:xfrm>
        </p:grpSpPr>
        <p:sp>
          <p:nvSpPr>
            <p:cNvPr id="521" name=""/>
            <p:cNvSpPr/>
            <p:nvPr/>
          </p:nvSpPr>
          <p:spPr>
            <a:xfrm>
              <a:off x="7201080" y="551160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01080" y="5727600"/>
              <a:ext cx="57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59440" y="549900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703920" y="5486400"/>
            <a:ext cx="1499760" cy="368280"/>
            <a:chOff x="6703920" y="5486400"/>
            <a:chExt cx="1499760" cy="368280"/>
          </a:xfrm>
        </p:grpSpPr>
        <p:sp>
          <p:nvSpPr>
            <p:cNvPr id="525" name=""/>
            <p:cNvSpPr/>
            <p:nvPr/>
          </p:nvSpPr>
          <p:spPr>
            <a:xfrm>
              <a:off x="6703920" y="5854680"/>
              <a:ext cx="149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91080" y="548640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16520" y="549900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6195960" y="5511960"/>
            <a:ext cx="2439720" cy="533160"/>
            <a:chOff x="6195960" y="5511960"/>
            <a:chExt cx="2439720" cy="533160"/>
          </a:xfrm>
        </p:grpSpPr>
        <p:sp>
          <p:nvSpPr>
            <p:cNvPr id="529" name=""/>
            <p:cNvSpPr/>
            <p:nvPr/>
          </p:nvSpPr>
          <p:spPr>
            <a:xfrm>
              <a:off x="6208560" y="5511960"/>
              <a:ext cx="0" cy="51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95960" y="6032160"/>
              <a:ext cx="2439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35680" y="551196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688000" y="5499000"/>
            <a:ext cx="3431880" cy="712800"/>
            <a:chOff x="5688000" y="5499000"/>
            <a:chExt cx="3431880" cy="712800"/>
          </a:xfrm>
        </p:grpSpPr>
        <p:sp>
          <p:nvSpPr>
            <p:cNvPr id="533" name=""/>
            <p:cNvSpPr/>
            <p:nvPr/>
          </p:nvSpPr>
          <p:spPr>
            <a:xfrm>
              <a:off x="5700600" y="5499000"/>
              <a:ext cx="0" cy="71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8000" y="6197400"/>
              <a:ext cx="343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118440" y="5511600"/>
              <a:ext cx="0" cy="69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8031-8B3A-45F5-89BE-B342B1067C56}" type="slidenum">
              <a:t>33</a:t>
            </a:fld>
          </a:p>
        </p:txBody>
      </p:sp>
    </p:spTree>
  </p:cSld>
  <p:transition spd="med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A353-FF71-46E1-9A6C-1FE09C35BBE1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76320" y="539280"/>
            <a:ext cx="11050560" cy="110484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Reflex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833400" y="1625760"/>
            <a:ext cx="10399680" cy="2761200"/>
            <a:chOff x="833400" y="1625760"/>
            <a:chExt cx="10399680" cy="2761200"/>
          </a:xfrm>
        </p:grpSpPr>
        <p:sp>
          <p:nvSpPr>
            <p:cNvPr id="541" name=""/>
            <p:cNvSpPr/>
            <p:nvPr/>
          </p:nvSpPr>
          <p:spPr>
            <a:xfrm>
              <a:off x="841680" y="1625760"/>
              <a:ext cx="11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N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2040" y="2197440"/>
              <a:ext cx="1781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NW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40960" y="2768760"/>
              <a:ext cx="3025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:NWSW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8800" y="3340440"/>
              <a:ext cx="5468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:NWSWSOSWSONO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3400" y="3899160"/>
              <a:ext cx="10399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:NWSWSOSWSONOSOSWSONONWNOSONOSO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09280" y="4735080"/>
            <a:ext cx="11379240" cy="364500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63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 erhält das nächste Wort, indem man das letzte W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08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chrei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08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n ersten Teil „reflektiert“ anhängt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.h. die Symbolreihenfolge umkehrt und die Ersetzung 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vornimm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C396-3117-4DE5-8D99-B4913DBF59AB}" type="slidenum">
              <a:t>34</a:t>
            </a:fld>
          </a:p>
        </p:txBody>
      </p:sp>
    </p:spTree>
  </p:cSld>
  <p:transition spd="med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76320" y="539640"/>
            <a:ext cx="11050560" cy="18417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Reflexionsgesetz</a:t>
            </a:r>
            <a:br>
              <a:rPr sz="6200"/>
            </a:b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Begründung der Anzahlen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CC90-6FAA-48E2-8808-915ADE4560F5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606600" y="2543040"/>
          <a:ext cx="5613120" cy="3797280"/>
        </p:xfrm>
        <a:graphic>
          <a:graphicData uri="http://schemas.openxmlformats.org/drawingml/2006/table">
            <a:tbl>
              <a:tblPr/>
              <a:tblGrid>
                <a:gridCol w="1122120"/>
                <a:gridCol w="1122120"/>
                <a:gridCol w="1122480"/>
                <a:gridCol w="1122480"/>
                <a:gridCol w="1123920"/>
              </a:tblGrid>
              <a:tr h="711360">
                <a:tc gridSpan="5"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nzahle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>
                        <a:alpha val="35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tuf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W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O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"/>
          <p:cNvSpPr/>
          <p:nvPr/>
        </p:nvSpPr>
        <p:spPr>
          <a:xfrm>
            <a:off x="7614720" y="2730600"/>
            <a:ext cx="385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38960" y="5664240"/>
            <a:ext cx="6222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i z.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3200" spc="-1" strike="noStrike" baseline="-1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N) Anzahl der „N“s auf Stufe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38960" y="6845400"/>
            <a:ext cx="6222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n g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3200" spc="-1" strike="noStrike" baseline="-1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 baseline="-15000">
                <a:solidFill>
                  <a:srgbClr val="000000"/>
                </a:solidFill>
                <a:latin typeface="Arial"/>
                <a:ea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) = A</a:t>
            </a:r>
            <a:r>
              <a:rPr b="0" i="1" lang="en-US" sz="3200" spc="-1" strike="noStrike" baseline="-1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) + A</a:t>
            </a:r>
            <a:r>
              <a:rPr b="0" i="1" lang="en-US" sz="3200" spc="-1" strike="noStrike" baseline="-1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7599240" y="7848720"/>
            <a:ext cx="2322720" cy="653040"/>
            <a:chOff x="7599240" y="7848720"/>
            <a:chExt cx="2322720" cy="653040"/>
          </a:xfrm>
        </p:grpSpPr>
        <p:sp>
          <p:nvSpPr>
            <p:cNvPr id="556" name=""/>
            <p:cNvSpPr/>
            <p:nvPr/>
          </p:nvSpPr>
          <p:spPr>
            <a:xfrm>
              <a:off x="7599240" y="8013960"/>
              <a:ext cx="2322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schreibe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826840" y="7848720"/>
              <a:ext cx="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9873000" y="7912080"/>
            <a:ext cx="2118600" cy="1148040"/>
            <a:chOff x="9873000" y="7912080"/>
            <a:chExt cx="2118600" cy="1148040"/>
          </a:xfrm>
        </p:grpSpPr>
        <p:sp>
          <p:nvSpPr>
            <p:cNvPr id="559" name=""/>
            <p:cNvSpPr/>
            <p:nvPr/>
          </p:nvSpPr>
          <p:spPr>
            <a:xfrm>
              <a:off x="9873000" y="8572320"/>
              <a:ext cx="211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lektiere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337760" y="7912080"/>
              <a:ext cx="0" cy="69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7295760" y="3797280"/>
            <a:ext cx="1770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WS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295760" y="4432320"/>
            <a:ext cx="1770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WS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892000" y="3797280"/>
            <a:ext cx="1770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WS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666520" y="5136840"/>
            <a:ext cx="749520" cy="314280"/>
            <a:chOff x="2666520" y="5136840"/>
            <a:chExt cx="749520" cy="314280"/>
          </a:xfrm>
        </p:grpSpPr>
        <p:sp>
          <p:nvSpPr>
            <p:cNvPr id="565" name=""/>
            <p:cNvSpPr/>
            <p:nvPr/>
          </p:nvSpPr>
          <p:spPr>
            <a:xfrm flipH="1" flipV="1">
              <a:off x="2666520" y="5136840"/>
              <a:ext cx="35892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416040" y="5192640"/>
              <a:ext cx="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286000" y="5676840"/>
            <a:ext cx="3148920" cy="254160"/>
            <a:chOff x="2286000" y="5676840"/>
            <a:chExt cx="3148920" cy="254160"/>
          </a:xfrm>
        </p:grpSpPr>
        <p:sp>
          <p:nvSpPr>
            <p:cNvPr id="568" name=""/>
            <p:cNvSpPr/>
            <p:nvPr/>
          </p:nvSpPr>
          <p:spPr>
            <a:xfrm flipV="1">
              <a:off x="2286000" y="57020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501280" y="5676840"/>
              <a:ext cx="29336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8971560" y="4432320"/>
            <a:ext cx="165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S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F3D7-5D8B-41E5-959A-E4B3277BCB80}" type="slidenum">
              <a:t>35</a:t>
            </a:fld>
          </a:p>
        </p:txBody>
      </p:sp>
    </p:spTree>
  </p:cSld>
  <p:transition spd="med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F539-64AF-412A-88FF-E3B6B9589EC1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Reflex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9680" y="2819520"/>
            <a:ext cx="12712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WSWSOSWSONOSOSWSONONWNOSONOSOSWSONONWNONWSWNWN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1234567890123456789012345678901234567890123456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3840" y="3594240"/>
            <a:ext cx="12052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2         3    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23960" y="2819520"/>
            <a:ext cx="7315200" cy="1312920"/>
            <a:chOff x="723960" y="2819520"/>
            <a:chExt cx="7315200" cy="1312920"/>
          </a:xfrm>
        </p:grpSpPr>
        <p:sp>
          <p:nvSpPr>
            <p:cNvPr id="578" name=""/>
            <p:cNvSpPr/>
            <p:nvPr/>
          </p:nvSpPr>
          <p:spPr>
            <a:xfrm>
              <a:off x="2197080" y="2819520"/>
              <a:ext cx="0" cy="131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2819520"/>
              <a:ext cx="0" cy="131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3960" y="2819520"/>
              <a:ext cx="0" cy="131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52960" y="2819520"/>
              <a:ext cx="0" cy="131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39160" y="2819520"/>
              <a:ext cx="0" cy="131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-14287680" y="-6759720"/>
            <a:ext cx="1143000" cy="6256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6222960" y="7035840"/>
            <a:ext cx="4254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ispiel: 4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n 21 = 64 – 1 – 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97360" y="8344080"/>
            <a:ext cx="94485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ückwärtsspiegeln fortsetzen, bis die 1 erreicht 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84240" y="343080"/>
            <a:ext cx="10393200" cy="5562360"/>
            <a:chOff x="84240" y="343080"/>
            <a:chExt cx="10393200" cy="5562360"/>
          </a:xfrm>
        </p:grpSpPr>
        <p:sp>
          <p:nvSpPr>
            <p:cNvPr id="587" name=""/>
            <p:cNvSpPr/>
            <p:nvPr/>
          </p:nvSpPr>
          <p:spPr>
            <a:xfrm>
              <a:off x="139680" y="4876920"/>
              <a:ext cx="1033776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lektiert wird an Achsen, die zwischen den Positione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d      verlaufen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3"/>
            <a:stretch/>
          </p:blipFill>
          <p:spPr>
            <a:xfrm>
              <a:off x="1989000" y="343080"/>
              <a:ext cx="536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4"/>
            <a:stretch/>
          </p:blipFill>
          <p:spPr>
            <a:xfrm>
              <a:off x="84240" y="353880"/>
              <a:ext cx="1092240" cy="60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0" name="" descr=""/>
          <p:cNvPicPr/>
          <p:nvPr/>
        </p:nvPicPr>
        <p:blipFill>
          <a:blip r:embed="rId5"/>
          <a:stretch/>
        </p:blipFill>
        <p:spPr>
          <a:xfrm>
            <a:off x="228600" y="5905440"/>
            <a:ext cx="68072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91" name=""/>
          <p:cNvGrpSpPr/>
          <p:nvPr/>
        </p:nvGrpSpPr>
        <p:grpSpPr>
          <a:xfrm>
            <a:off x="0" y="571680"/>
            <a:ext cx="10617480" cy="3809880"/>
            <a:chOff x="0" y="571680"/>
            <a:chExt cx="10617480" cy="3809880"/>
          </a:xfrm>
        </p:grpSpPr>
        <p:sp>
          <p:nvSpPr>
            <p:cNvPr id="592" name=""/>
            <p:cNvSpPr/>
            <p:nvPr/>
          </p:nvSpPr>
          <p:spPr>
            <a:xfrm>
              <a:off x="10604520" y="3737160"/>
              <a:ext cx="0" cy="6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72360" y="4381560"/>
              <a:ext cx="514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486400" y="3733920"/>
              <a:ext cx="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5" name="" descr=""/>
            <p:cNvPicPr/>
            <p:nvPr/>
          </p:nvPicPr>
          <p:blipFill>
            <a:blip r:embed="rId6"/>
            <a:stretch/>
          </p:blipFill>
          <p:spPr>
            <a:xfrm>
              <a:off x="5181480" y="685800"/>
              <a:ext cx="3682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7"/>
            <a:stretch/>
          </p:blipFill>
          <p:spPr>
            <a:xfrm>
              <a:off x="0" y="571680"/>
              <a:ext cx="48276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7E15-0647-408E-8FCF-8B299EEFDE77}" type="slidenum">
              <a:t>36</a:t>
            </a:fld>
          </a:p>
        </p:txBody>
      </p:sp>
    </p:spTree>
  </p:cSld>
  <p:transition spd="med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91BF-C6BC-4B7F-8133-0E8D1F296368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Reflex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86880" y="4394160"/>
            <a:ext cx="4686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grammierung in einer Tabellenkalk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9680" y="2819520"/>
            <a:ext cx="12712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WSWSOSWSONOSOSWSONONWNOSONOSOSWSONONWNONWSWNWN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1234567890123456789012345678901234567890123456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3840" y="3594240"/>
            <a:ext cx="12052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2         3    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97080" y="2819520"/>
            <a:ext cx="0" cy="13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19320" y="2819520"/>
            <a:ext cx="0" cy="13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23960" y="2819520"/>
            <a:ext cx="0" cy="13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52960" y="2819520"/>
            <a:ext cx="0" cy="13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039160" y="2819520"/>
            <a:ext cx="0" cy="13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35040" y="4394160"/>
            <a:ext cx="6578640" cy="485136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8242200" y="5423040"/>
            <a:ext cx="3987720" cy="3566520"/>
            <a:chOff x="8242200" y="5423040"/>
            <a:chExt cx="3987720" cy="3566520"/>
          </a:xfrm>
        </p:grpSpPr>
        <p:sp>
          <p:nvSpPr>
            <p:cNvPr id="611" name=""/>
            <p:cNvSpPr/>
            <p:nvPr/>
          </p:nvSpPr>
          <p:spPr>
            <a:xfrm>
              <a:off x="9213840" y="6197760"/>
              <a:ext cx="2041560" cy="204228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207440" y="5856480"/>
              <a:ext cx="0" cy="257400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9081720" y="7219080"/>
              <a:ext cx="229212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761400" y="5423040"/>
              <a:ext cx="901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N≙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242200" y="6971040"/>
              <a:ext cx="977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W≙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341080" y="6971040"/>
              <a:ext cx="888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O≙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767880" y="8392680"/>
              <a:ext cx="888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S≙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A07B-E819-4AD7-807F-BF3833C00618}" type="slidenum">
              <a:t>37</a:t>
            </a:fld>
          </a:p>
        </p:txBody>
      </p:sp>
    </p:spTree>
  </p:cSld>
  <p:transition spd="med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B789-A894-4B96-B360-67993E34B9B1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76320" y="0"/>
            <a:ext cx="11050560" cy="18921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Inflat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16280" y="1914480"/>
            <a:ext cx="4371840" cy="65563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194600" y="1900080"/>
            <a:ext cx="1079280" cy="2222280"/>
            <a:chOff x="7194600" y="1900080"/>
            <a:chExt cx="1079280" cy="2222280"/>
          </a:xfrm>
        </p:grpSpPr>
        <p:sp>
          <p:nvSpPr>
            <p:cNvPr id="624" name=""/>
            <p:cNvSpPr/>
            <p:nvPr/>
          </p:nvSpPr>
          <p:spPr>
            <a:xfrm>
              <a:off x="7194600" y="1900080"/>
              <a:ext cx="1077840" cy="1073880"/>
            </a:xfrm>
            <a:prstGeom prst="line">
              <a:avLst/>
            </a:prstGeom>
            <a:ln w="38160">
              <a:solidFill>
                <a:srgbClr val="fdc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194600" y="3011400"/>
              <a:ext cx="1079280" cy="1110960"/>
            </a:xfrm>
            <a:prstGeom prst="line">
              <a:avLst/>
            </a:prstGeom>
            <a:ln w="38160">
              <a:solidFill>
                <a:srgbClr val="fdc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011560" y="1924200"/>
            <a:ext cx="2156760" cy="1029960"/>
            <a:chOff x="5011560" y="1924200"/>
            <a:chExt cx="2156760" cy="1029960"/>
          </a:xfrm>
        </p:grpSpPr>
        <p:sp>
          <p:nvSpPr>
            <p:cNvPr id="627" name=""/>
            <p:cNvSpPr/>
            <p:nvPr/>
          </p:nvSpPr>
          <p:spPr>
            <a:xfrm flipH="1">
              <a:off x="6102360" y="1924200"/>
              <a:ext cx="1065960" cy="10299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11560" y="1924200"/>
              <a:ext cx="1100880" cy="10299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911760" y="1908000"/>
            <a:ext cx="1079280" cy="2209320"/>
            <a:chOff x="3911760" y="1908000"/>
            <a:chExt cx="1079280" cy="2209320"/>
          </a:xfrm>
        </p:grpSpPr>
        <p:sp>
          <p:nvSpPr>
            <p:cNvPr id="630" name=""/>
            <p:cNvSpPr/>
            <p:nvPr/>
          </p:nvSpPr>
          <p:spPr>
            <a:xfrm flipH="1" flipV="1">
              <a:off x="3913200" y="3047760"/>
              <a:ext cx="1077840" cy="106956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911760" y="1908000"/>
              <a:ext cx="1079280" cy="110664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25640" y="4108320"/>
            <a:ext cx="2158560" cy="1091880"/>
            <a:chOff x="2825640" y="4108320"/>
            <a:chExt cx="2158560" cy="1091880"/>
          </a:xfrm>
        </p:grpSpPr>
        <p:sp>
          <p:nvSpPr>
            <p:cNvPr id="633" name=""/>
            <p:cNvSpPr/>
            <p:nvPr/>
          </p:nvSpPr>
          <p:spPr>
            <a:xfrm flipH="1">
              <a:off x="3902400" y="4108320"/>
              <a:ext cx="1081800" cy="109188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25640" y="4108320"/>
              <a:ext cx="1116360" cy="109008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725120" y="4118040"/>
            <a:ext cx="1079640" cy="2196360"/>
            <a:chOff x="1725120" y="4118040"/>
            <a:chExt cx="1079640" cy="2196360"/>
          </a:xfrm>
        </p:grpSpPr>
        <p:sp>
          <p:nvSpPr>
            <p:cNvPr id="636" name=""/>
            <p:cNvSpPr/>
            <p:nvPr/>
          </p:nvSpPr>
          <p:spPr>
            <a:xfrm flipH="1" flipV="1">
              <a:off x="1726560" y="5249160"/>
              <a:ext cx="1078200" cy="106524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1725120" y="4118040"/>
              <a:ext cx="1079640" cy="110088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825640" y="5234040"/>
            <a:ext cx="2158920" cy="1041120"/>
            <a:chOff x="2825640" y="5234040"/>
            <a:chExt cx="2158920" cy="1041120"/>
          </a:xfrm>
        </p:grpSpPr>
        <p:sp>
          <p:nvSpPr>
            <p:cNvPr id="639" name=""/>
            <p:cNvSpPr/>
            <p:nvPr/>
          </p:nvSpPr>
          <p:spPr>
            <a:xfrm flipH="1" flipV="1">
              <a:off x="3915360" y="5234040"/>
              <a:ext cx="1069200" cy="104112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825640" y="5234040"/>
              <a:ext cx="1104120" cy="104112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919680" y="6275520"/>
            <a:ext cx="1079280" cy="2209320"/>
            <a:chOff x="3919680" y="6275520"/>
            <a:chExt cx="1079280" cy="2209320"/>
          </a:xfrm>
        </p:grpSpPr>
        <p:sp>
          <p:nvSpPr>
            <p:cNvPr id="642" name=""/>
            <p:cNvSpPr/>
            <p:nvPr/>
          </p:nvSpPr>
          <p:spPr>
            <a:xfrm flipH="1" flipV="1">
              <a:off x="3921120" y="7415640"/>
              <a:ext cx="1077840" cy="10692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919680" y="6275520"/>
              <a:ext cx="1079280" cy="110628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844720" y="8470800"/>
            <a:ext cx="2156760" cy="1033200"/>
            <a:chOff x="2844720" y="8470800"/>
            <a:chExt cx="2156760" cy="1033200"/>
          </a:xfrm>
        </p:grpSpPr>
        <p:sp>
          <p:nvSpPr>
            <p:cNvPr id="645" name=""/>
            <p:cNvSpPr/>
            <p:nvPr/>
          </p:nvSpPr>
          <p:spPr>
            <a:xfrm flipH="1">
              <a:off x="3935520" y="8470800"/>
              <a:ext cx="1065960" cy="10332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44720" y="8470800"/>
              <a:ext cx="1100880" cy="1033200"/>
            </a:xfrm>
            <a:prstGeom prst="line">
              <a:avLst/>
            </a:prstGeom>
            <a:ln w="38160">
              <a:solidFill>
                <a:srgbClr val="ff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8830440" y="1333440"/>
            <a:ext cx="3067560" cy="3472200"/>
            <a:chOff x="8830440" y="1333440"/>
            <a:chExt cx="3067560" cy="3472200"/>
          </a:xfrm>
        </p:grpSpPr>
        <p:sp>
          <p:nvSpPr>
            <p:cNvPr id="648" name=""/>
            <p:cNvSpPr/>
            <p:nvPr/>
          </p:nvSpPr>
          <p:spPr>
            <a:xfrm>
              <a:off x="9423360" y="2235240"/>
              <a:ext cx="1904400" cy="190476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0350360" y="1917720"/>
              <a:ext cx="0" cy="240012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9299160" y="3187800"/>
              <a:ext cx="213804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175760" y="1333440"/>
              <a:ext cx="40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830440" y="2908080"/>
              <a:ext cx="49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471040" y="2908080"/>
              <a:ext cx="426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099800" y="431784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2acc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213680" y="5448240"/>
            <a:ext cx="2158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N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37360" y="6045120"/>
            <a:ext cx="2158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251840" y="6642000"/>
            <a:ext cx="2158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226280" y="7238880"/>
            <a:ext cx="2158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76320" y="0"/>
            <a:ext cx="11050560" cy="18921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Inflat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D2D2-F8A3-40C1-A85B-134EBEC3848E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80920" y="1778040"/>
            <a:ext cx="3767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Courier New"/>
              </a:rPr>
              <a:t>3:NWSWSOS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2679840"/>
            <a:ext cx="6327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Courier New"/>
              </a:rPr>
              <a:t>3:N W S W S O S 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9016920" y="2171880"/>
            <a:ext cx="2273400" cy="2387520"/>
            <a:chOff x="9016920" y="2171880"/>
            <a:chExt cx="2273400" cy="2387520"/>
          </a:xfrm>
        </p:grpSpPr>
        <p:sp>
          <p:nvSpPr>
            <p:cNvPr id="666" name=""/>
            <p:cNvSpPr/>
            <p:nvPr/>
          </p:nvSpPr>
          <p:spPr>
            <a:xfrm>
              <a:off x="9093240" y="2171880"/>
              <a:ext cx="2158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</a:t>
              </a: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→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016920" y="2768760"/>
              <a:ext cx="2158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 </a:t>
              </a: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→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131400" y="3365640"/>
              <a:ext cx="2158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→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105840" y="3962520"/>
              <a:ext cx="2158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</a:t>
              </a: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→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855360" y="3987720"/>
            <a:ext cx="6693480" cy="774720"/>
            <a:chOff x="855360" y="3987720"/>
            <a:chExt cx="6693480" cy="774720"/>
          </a:xfrm>
        </p:grpSpPr>
        <p:sp>
          <p:nvSpPr>
            <p:cNvPr id="671" name=""/>
            <p:cNvSpPr/>
            <p:nvPr/>
          </p:nvSpPr>
          <p:spPr>
            <a:xfrm>
              <a:off x="855360" y="3987720"/>
              <a:ext cx="66934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5080" tIns="0" bIns="0" anchor="t">
              <a:sp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:NWSWSOSWSONOSOSW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63560" y="4089240"/>
              <a:ext cx="73656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00120" y="4089240"/>
              <a:ext cx="73692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24080" y="4089240"/>
              <a:ext cx="73656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60640" y="4089240"/>
              <a:ext cx="73692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97560" y="4089240"/>
              <a:ext cx="73656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21160" y="4089240"/>
              <a:ext cx="73656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57720" y="4089240"/>
              <a:ext cx="73692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94640" y="4089240"/>
              <a:ext cx="73656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851040" y="5651640"/>
            <a:ext cx="113281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s Inflationsgesetz ist hier eine Ersetzungsreg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e neu hinzukommenden Symbole unterliegen nicht einer so einfachen Gesetzmäßigkeit wie bei der „klassischen“ Kodierung mit L und 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DAEB-0B0F-4698-8444-F2A63EBB8A1A}" type="slidenum">
              <a:t>39</a:t>
            </a:fld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A743-A0E2-4A91-91FC-173F9F6C0EA5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Was ist Papierfalten?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4880" y="2817360"/>
            <a:ext cx="11053440" cy="51483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417600" indent="-37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s Falten des Papierstreifens wird iteriert, d.h. wiederholt ausgefüh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7600" indent="-37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 einmal gefaltete Streifen wird ein zweites Mal gefalt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36880" y="5816520"/>
            <a:ext cx="10260000" cy="2028600"/>
            <a:chOff x="1136880" y="5816520"/>
            <a:chExt cx="10260000" cy="2028600"/>
          </a:xfrm>
        </p:grpSpPr>
        <p:sp>
          <p:nvSpPr>
            <p:cNvPr id="114" name=""/>
            <p:cNvSpPr/>
            <p:nvPr/>
          </p:nvSpPr>
          <p:spPr>
            <a:xfrm rot="60000">
              <a:off x="1600200" y="6671880"/>
              <a:ext cx="9788040" cy="106164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39400">
              <a:off x="1165320" y="6326640"/>
              <a:ext cx="10114560" cy="116784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079600" y="6432840"/>
              <a:ext cx="2247840" cy="10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187960" y="5816520"/>
              <a:ext cx="4023360" cy="1061280"/>
              <a:chOff x="5187960" y="5816520"/>
              <a:chExt cx="4023360" cy="1061280"/>
            </a:xfrm>
          </p:grpSpPr>
          <p:sp>
            <p:nvSpPr>
              <p:cNvPr id="118" name=""/>
              <p:cNvSpPr/>
              <p:nvPr/>
            </p:nvSpPr>
            <p:spPr>
              <a:xfrm>
                <a:off x="5187960" y="5816520"/>
                <a:ext cx="4023360" cy="10612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87960" y="5816520"/>
                <a:ext cx="4023360" cy="106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43440" y="7193880"/>
              <a:ext cx="75168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4800" tIns="0" bIns="0" anchor="t">
              <a:noAutofit/>
            </a:bodyPr>
            <a:p>
              <a:pPr marL="63360"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7CCA-F358-4300-8E08-9AE808D7959B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Inflat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39680" y="4406760"/>
            <a:ext cx="12712680" cy="1371600"/>
            <a:chOff x="139680" y="4406760"/>
            <a:chExt cx="12712680" cy="1371600"/>
          </a:xfrm>
        </p:grpSpPr>
        <p:sp>
          <p:nvSpPr>
            <p:cNvPr id="686" name=""/>
            <p:cNvSpPr/>
            <p:nvPr/>
          </p:nvSpPr>
          <p:spPr>
            <a:xfrm>
              <a:off x="139680" y="4406760"/>
              <a:ext cx="127126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WSWSOSWSONOSOSWSONONWNOSONOSOSWSONONWNONWSWNWNO…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 baseline="3000">
                  <a:solidFill>
                    <a:srgbClr val="000000"/>
                  </a:solidFill>
                  <a:latin typeface="Courier New"/>
                  <a:ea typeface="Courier New"/>
                </a:rPr>
                <a:t>0123456789012345678901234567890123456789012345678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6440" y="5207040"/>
              <a:ext cx="120902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         2         3         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139680" y="3467160"/>
            <a:ext cx="12763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xxWSxxWSxxOSxxWSxxONxxOSxxOSxxWSxxONxxONxxWNxx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23960" y="3530520"/>
            <a:ext cx="3429000" cy="1371600"/>
            <a:chOff x="723960" y="3530520"/>
            <a:chExt cx="3429000" cy="1371600"/>
          </a:xfrm>
        </p:grpSpPr>
        <p:sp>
          <p:nvSpPr>
            <p:cNvPr id="690" name=""/>
            <p:cNvSpPr/>
            <p:nvPr/>
          </p:nvSpPr>
          <p:spPr>
            <a:xfrm>
              <a:off x="723960" y="35305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19320" y="35305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1720" y="35305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184480" y="35305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79840" y="35305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62240" y="35305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35305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52960" y="35305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65240" y="3060720"/>
            <a:ext cx="1271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  12  34  56  78  90  12  34  56  78  90  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51040" y="5854680"/>
            <a:ext cx="11328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se der Nummerieru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von „alt“ nach „neu“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76240" y="6515280"/>
            <a:ext cx="12026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,S steht immer auf einer geraden Platznummer, O,W auf einer ungera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76240" y="7124760"/>
            <a:ext cx="120268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n Inflationsschritt: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0,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3,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,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, 4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8, 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1, 6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gemei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3657600" y="7593120"/>
            <a:ext cx="5359320" cy="129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0A0A-32A3-4A42-851A-A6605BA91393}" type="slidenum">
              <a:t>40</a:t>
            </a:fld>
          </a:p>
        </p:txBody>
      </p:sp>
    </p:spTree>
  </p:cSld>
  <p:transition spd="med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AE6A-15FB-4C8C-9FD6-127F1AEF4F18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Inflat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39680" y="4406760"/>
            <a:ext cx="12712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WSWSOSWSONOSOSWSONONWNOSONOSOSWSONONWNONWSWNWN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12345678901234567890123456789012345678901234567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06440" y="5207040"/>
            <a:ext cx="12090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2         3    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9680" y="3467160"/>
            <a:ext cx="12763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xxWSxxWSxxOSxxWSxxONxxOSxxOSxxWSxxONxxONxxWNxx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18120" y="3568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21932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095880" y="3568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8448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16224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15296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65240" y="3060720"/>
            <a:ext cx="1271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  12  34  56  78  90  12  34  56  78  90  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49160" y="5676840"/>
            <a:ext cx="5994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e „alten“ Symb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23960" y="6235560"/>
            <a:ext cx="78487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n Inflationsschritt zurück (v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u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lyse in Viererblöcken, also modulo 4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0,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,   4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2, 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3,   8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, 1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7080" y="0"/>
            <a:ext cx="12153960" cy="4404960"/>
            <a:chOff x="127080" y="0"/>
            <a:chExt cx="12153960" cy="4404960"/>
          </a:xfrm>
        </p:grpSpPr>
        <p:sp>
          <p:nvSpPr>
            <p:cNvPr id="720" name=""/>
            <p:cNvSpPr/>
            <p:nvPr/>
          </p:nvSpPr>
          <p:spPr>
            <a:xfrm>
              <a:off x="6794640" y="3110040"/>
              <a:ext cx="5486400" cy="1294920"/>
            </a:xfrm>
            <a:prstGeom prst="rect">
              <a:avLst/>
            </a:prstGeom>
            <a:solidFill>
              <a:srgbClr val="f8f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2"/>
            <a:stretch/>
          </p:blipFill>
          <p:spPr>
            <a:xfrm>
              <a:off x="127080" y="0"/>
              <a:ext cx="535932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25560" y="44280"/>
            <a:ext cx="7988040" cy="8413920"/>
            <a:chOff x="25560" y="44280"/>
            <a:chExt cx="7988040" cy="8413920"/>
          </a:xfrm>
        </p:grpSpPr>
        <p:sp>
          <p:nvSpPr>
            <p:cNvPr id="723" name=""/>
            <p:cNvSpPr/>
            <p:nvPr/>
          </p:nvSpPr>
          <p:spPr>
            <a:xfrm>
              <a:off x="774720" y="7543800"/>
              <a:ext cx="7238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f Platznummer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‘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it                      und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hen „alte“ Symbole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4" name="" descr=""/>
            <p:cNvPicPr/>
            <p:nvPr/>
          </p:nvPicPr>
          <p:blipFill>
            <a:blip r:embed="rId3"/>
            <a:stretch/>
          </p:blipFill>
          <p:spPr>
            <a:xfrm>
              <a:off x="4038480" y="44280"/>
              <a:ext cx="203220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4"/>
            <a:stretch/>
          </p:blipFill>
          <p:spPr>
            <a:xfrm>
              <a:off x="25560" y="453960"/>
              <a:ext cx="2070000" cy="42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" descr=""/>
          <p:cNvPicPr/>
          <p:nvPr/>
        </p:nvPicPr>
        <p:blipFill>
          <a:blip r:embed="rId5"/>
          <a:stretch/>
        </p:blipFill>
        <p:spPr>
          <a:xfrm>
            <a:off x="7785000" y="7162920"/>
            <a:ext cx="439416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9CFB-88F5-4EAC-9B59-77E59B0925AF}" type="slidenum">
              <a:t>41</a:t>
            </a:fld>
          </a:p>
        </p:txBody>
      </p:sp>
    </p:spTree>
  </p:cSld>
  <p:transition spd="med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65F4-BF89-4448-ACCC-9427ECF813B4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Inflat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39680" y="4406760"/>
            <a:ext cx="12712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WSWSOSWSONOSOSWSONONWNOSONOSOSWSONONWNONWSWNWN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12345678901234567890123456789012345678901234567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06440" y="5207040"/>
            <a:ext cx="12090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2         3    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39680" y="3467160"/>
            <a:ext cx="12763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xxWSxxWSxxOSxxWSxxONxxOSxxOSxxWSxxONxxONxxWNxx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8120" y="3568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1932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95880" y="3568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8448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16224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5296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5240" y="3060720"/>
            <a:ext cx="1271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  12  34  56  78  90  12  34  56  78  90  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794640" y="3111480"/>
            <a:ext cx="5486400" cy="1295280"/>
          </a:xfrm>
          <a:prstGeom prst="rect">
            <a:avLst/>
          </a:prstGeom>
          <a:solidFill>
            <a:srgbClr val="f8f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7023240" y="2565360"/>
            <a:ext cx="4394160" cy="17938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749160" y="5676840"/>
            <a:ext cx="5994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e „neuen“ Symb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0760" y="23760"/>
            <a:ext cx="7619760" cy="7126200"/>
            <a:chOff x="50760" y="23760"/>
            <a:chExt cx="7619760" cy="7126200"/>
          </a:xfrm>
        </p:grpSpPr>
        <p:sp>
          <p:nvSpPr>
            <p:cNvPr id="745" name=""/>
            <p:cNvSpPr/>
            <p:nvPr/>
          </p:nvSpPr>
          <p:spPr>
            <a:xfrm>
              <a:off x="749160" y="6235560"/>
              <a:ext cx="6921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f Platznummer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‘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it                      und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hen „neue“ Symbole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3"/>
            <a:stretch/>
          </p:blipFill>
          <p:spPr>
            <a:xfrm>
              <a:off x="4051440" y="23760"/>
              <a:ext cx="205740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4"/>
            <a:stretch/>
          </p:blipFill>
          <p:spPr>
            <a:xfrm>
              <a:off x="50760" y="431640"/>
              <a:ext cx="2095560" cy="41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8" name=""/>
          <p:cNvGrpSpPr/>
          <p:nvPr/>
        </p:nvGrpSpPr>
        <p:grpSpPr>
          <a:xfrm>
            <a:off x="0" y="36360"/>
            <a:ext cx="7162560" cy="8116920"/>
            <a:chOff x="0" y="36360"/>
            <a:chExt cx="7162560" cy="8116920"/>
          </a:xfrm>
        </p:grpSpPr>
        <p:pic>
          <p:nvPicPr>
            <p:cNvPr id="749" name="" descr=""/>
            <p:cNvPicPr/>
            <p:nvPr/>
          </p:nvPicPr>
          <p:blipFill>
            <a:blip r:embed="rId5"/>
            <a:stretch/>
          </p:blipFill>
          <p:spPr>
            <a:xfrm>
              <a:off x="0" y="36360"/>
              <a:ext cx="2057400" cy="4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2984400" y="7251840"/>
              <a:ext cx="417816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in „W“ folgt auf ein „N“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in „O“ folgt auf ein „S“.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1" name="" descr=""/>
          <p:cNvPicPr/>
          <p:nvPr/>
        </p:nvPicPr>
        <p:blipFill>
          <a:blip r:embed="rId6"/>
          <a:stretch/>
        </p:blipFill>
        <p:spPr>
          <a:xfrm>
            <a:off x="800280" y="7996320"/>
            <a:ext cx="6095880" cy="982440"/>
          </a:xfrm>
          <a:prstGeom prst="rect">
            <a:avLst/>
          </a:prstGeom>
          <a:ln w="0">
            <a:noFill/>
          </a:ln>
        </p:spPr>
      </p:pic>
      <p:grpSp>
        <p:nvGrpSpPr>
          <p:cNvPr id="752" name=""/>
          <p:cNvGrpSpPr/>
          <p:nvPr/>
        </p:nvGrpSpPr>
        <p:grpSpPr>
          <a:xfrm>
            <a:off x="7670880" y="5626080"/>
            <a:ext cx="3987720" cy="3566880"/>
            <a:chOff x="7670880" y="5626080"/>
            <a:chExt cx="3987720" cy="3566880"/>
          </a:xfrm>
        </p:grpSpPr>
        <p:sp>
          <p:nvSpPr>
            <p:cNvPr id="753" name=""/>
            <p:cNvSpPr/>
            <p:nvPr/>
          </p:nvSpPr>
          <p:spPr>
            <a:xfrm>
              <a:off x="8642520" y="6401160"/>
              <a:ext cx="2041560" cy="204228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636120" y="6059520"/>
              <a:ext cx="0" cy="257436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8510400" y="7422120"/>
              <a:ext cx="229212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190080" y="5626080"/>
              <a:ext cx="901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N≙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70880" y="7174440"/>
              <a:ext cx="977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W≙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769760" y="7174440"/>
              <a:ext cx="888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O≙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96560" y="8596080"/>
              <a:ext cx="888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S≙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8166240" y="5994360"/>
            <a:ext cx="3047400" cy="2819520"/>
            <a:chOff x="8166240" y="5994360"/>
            <a:chExt cx="3047400" cy="2819520"/>
          </a:xfrm>
        </p:grpSpPr>
        <p:sp>
          <p:nvSpPr>
            <p:cNvPr id="761" name=""/>
            <p:cNvSpPr/>
            <p:nvPr/>
          </p:nvSpPr>
          <p:spPr>
            <a:xfrm>
              <a:off x="8166240" y="5994360"/>
              <a:ext cx="914040" cy="1181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159920" y="7657920"/>
              <a:ext cx="1053720" cy="1155960"/>
            </a:xfrm>
            <a:prstGeom prst="pie">
              <a:avLst/>
            </a:prstGeom>
            <a:noFill/>
            <a:ln w="38160">
              <a:solidFill>
                <a:srgbClr val="0e002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0918-4861-416A-894C-E385079F9808}" type="slidenum">
              <a:t>42</a:t>
            </a:fld>
          </a:p>
        </p:txBody>
      </p:sp>
    </p:spTree>
  </p:cSld>
  <p:transition spd="med"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0A42-2690-40D0-80EE-BA80B33776B1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Inflat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39680" y="4406760"/>
            <a:ext cx="12712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WSWSOSWSONOSOSWSONONWNOSONOSOSWSONONWNONWSWNWN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12345678901234567890123456789012345678901234567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06440" y="5207040"/>
            <a:ext cx="12090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2         3    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39680" y="3467160"/>
            <a:ext cx="12763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xxWSxxWSxxOSxxWSxxONxxOSxxOSxxWSxxONxxONxxWNxx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118120" y="3568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21932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095880" y="3568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8448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6224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5296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65240" y="3060720"/>
            <a:ext cx="1271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  12  34  56  78  90  12  34  56  78  90  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94640" y="3111480"/>
            <a:ext cx="5486400" cy="1295280"/>
          </a:xfrm>
          <a:prstGeom prst="rect">
            <a:avLst/>
          </a:prstGeom>
          <a:solidFill>
            <a:srgbClr val="f8f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7023240" y="2565360"/>
            <a:ext cx="4394160" cy="179388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749160" y="5676840"/>
            <a:ext cx="5994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e „neuen“ Symb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0" y="38160"/>
            <a:ext cx="7569360" cy="7149960"/>
            <a:chOff x="0" y="38160"/>
            <a:chExt cx="7569360" cy="7149960"/>
          </a:xfrm>
        </p:grpSpPr>
        <p:pic>
          <p:nvPicPr>
            <p:cNvPr id="781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209556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2984760" y="6286680"/>
              <a:ext cx="458460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in „N“ steht vor einem „O“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in „S“ steht vor einem „W“.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670880" y="5626080"/>
            <a:ext cx="3987720" cy="3566880"/>
            <a:chOff x="7670880" y="5626080"/>
            <a:chExt cx="3987720" cy="3566880"/>
          </a:xfrm>
        </p:grpSpPr>
        <p:sp>
          <p:nvSpPr>
            <p:cNvPr id="784" name=""/>
            <p:cNvSpPr/>
            <p:nvPr/>
          </p:nvSpPr>
          <p:spPr>
            <a:xfrm>
              <a:off x="8642520" y="6401160"/>
              <a:ext cx="2041560" cy="204228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636120" y="6059520"/>
              <a:ext cx="0" cy="257436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8510400" y="7422120"/>
              <a:ext cx="229212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190080" y="5626080"/>
              <a:ext cx="901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N≙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70880" y="7174440"/>
              <a:ext cx="977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W≙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769760" y="7174440"/>
              <a:ext cx="888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O≙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9196560" y="8596080"/>
              <a:ext cx="888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S≙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1" name="" descr=""/>
          <p:cNvPicPr/>
          <p:nvPr/>
        </p:nvPicPr>
        <p:blipFill>
          <a:blip r:embed="rId4"/>
          <a:stretch/>
        </p:blipFill>
        <p:spPr>
          <a:xfrm>
            <a:off x="798480" y="7188120"/>
            <a:ext cx="5661000" cy="978120"/>
          </a:xfrm>
          <a:prstGeom prst="rect">
            <a:avLst/>
          </a:prstGeom>
          <a:ln w="0">
            <a:noFill/>
          </a:ln>
        </p:spPr>
      </p:pic>
      <p:grpSp>
        <p:nvGrpSpPr>
          <p:cNvPr id="792" name=""/>
          <p:cNvGrpSpPr/>
          <p:nvPr/>
        </p:nvGrpSpPr>
        <p:grpSpPr>
          <a:xfrm>
            <a:off x="8178840" y="5969160"/>
            <a:ext cx="3035160" cy="2895120"/>
            <a:chOff x="8178840" y="5969160"/>
            <a:chExt cx="3035160" cy="2895120"/>
          </a:xfrm>
        </p:grpSpPr>
        <p:sp>
          <p:nvSpPr>
            <p:cNvPr id="793" name=""/>
            <p:cNvSpPr/>
            <p:nvPr/>
          </p:nvSpPr>
          <p:spPr>
            <a:xfrm>
              <a:off x="10083960" y="5969160"/>
              <a:ext cx="1130040" cy="11307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178840" y="7695360"/>
              <a:ext cx="1015920" cy="11689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AEFC-C139-4885-99A8-6A2F2D75DD79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Inflat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39680" y="4406760"/>
            <a:ext cx="12712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WSWSOSWSONOSOSWSONONWNOSONOSOSWSONONWNONWSWNWN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12345678901234567890123456789012345678901234567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06440" y="5207040"/>
            <a:ext cx="12090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2         3    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39680" y="3467160"/>
            <a:ext cx="12763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xxWSxxWSxxOSxxWSxxONxxOSxxOSxxWSxxONxxONxxWNxx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18120" y="3568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095880" y="3568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18448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16224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152960" y="3530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65240" y="3060720"/>
            <a:ext cx="1271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  12  34  56  78  90  12  34  56  78  90  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49160" y="5676840"/>
            <a:ext cx="7353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usammenfassung der Rückverfolg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7670880" y="5626080"/>
            <a:ext cx="3987720" cy="3566880"/>
            <a:chOff x="7670880" y="5626080"/>
            <a:chExt cx="3987720" cy="3566880"/>
          </a:xfrm>
        </p:grpSpPr>
        <p:sp>
          <p:nvSpPr>
            <p:cNvPr id="811" name=""/>
            <p:cNvSpPr/>
            <p:nvPr/>
          </p:nvSpPr>
          <p:spPr>
            <a:xfrm>
              <a:off x="8642520" y="6401160"/>
              <a:ext cx="2041560" cy="204228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636120" y="6059520"/>
              <a:ext cx="0" cy="257436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8510400" y="7422120"/>
              <a:ext cx="229212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190080" y="5626080"/>
              <a:ext cx="901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N≙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70880" y="7174440"/>
              <a:ext cx="977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W≙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769760" y="7174440"/>
              <a:ext cx="888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O≙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196560" y="8596080"/>
              <a:ext cx="888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S≙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0083960" y="5969160"/>
            <a:ext cx="1130040" cy="11300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178840" y="7696080"/>
            <a:ext cx="1015920" cy="11685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317520" y="6235560"/>
            <a:ext cx="6464160" cy="2924280"/>
          </a:xfrm>
          <a:prstGeom prst="rect">
            <a:avLst/>
          </a:prstGeom>
          <a:ln w="0">
            <a:noFill/>
          </a:ln>
        </p:spPr>
      </p:pic>
      <p:grpSp>
        <p:nvGrpSpPr>
          <p:cNvPr id="821" name=""/>
          <p:cNvGrpSpPr/>
          <p:nvPr/>
        </p:nvGrpSpPr>
        <p:grpSpPr>
          <a:xfrm>
            <a:off x="8166240" y="5994360"/>
            <a:ext cx="3047400" cy="2819520"/>
            <a:chOff x="8166240" y="5994360"/>
            <a:chExt cx="3047400" cy="2819520"/>
          </a:xfrm>
        </p:grpSpPr>
        <p:sp>
          <p:nvSpPr>
            <p:cNvPr id="822" name=""/>
            <p:cNvSpPr/>
            <p:nvPr/>
          </p:nvSpPr>
          <p:spPr>
            <a:xfrm>
              <a:off x="8166240" y="5994360"/>
              <a:ext cx="914040" cy="1181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159920" y="7657920"/>
              <a:ext cx="1053720" cy="1155960"/>
            </a:xfrm>
            <a:prstGeom prst="pie">
              <a:avLst/>
            </a:prstGeom>
            <a:noFill/>
            <a:ln w="38160">
              <a:solidFill>
                <a:srgbClr val="0e002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19A7-02E2-4C56-BD76-C8C721043CC4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Inflat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914400" y="2590920"/>
            <a:ext cx="7353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usammenfassung der Rückverfolg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482760" y="3149640"/>
            <a:ext cx="6464160" cy="29242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482760" y="6286680"/>
            <a:ext cx="411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‘ gerade - teile durch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029200" y="6286680"/>
            <a:ext cx="7327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‘ ungerade - subtrahiere 1 und teile durch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82760" y="6972480"/>
            <a:ext cx="64641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chsel von ungerade auf ge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82760" y="7467480"/>
            <a:ext cx="6464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der Wechsel von gerade auf unge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213680" y="7213680"/>
            <a:ext cx="3720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mbolwechsel um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82760" y="8153280"/>
            <a:ext cx="1013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eriere diese Rückverfolgung bis Position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rt steht „N“. Für jeden Symbolwechsel vorwärts +1 rech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2800" y="3251160"/>
            <a:ext cx="5334120" cy="647640"/>
          </a:xfrm>
          <a:prstGeom prst="rect">
            <a:avLst/>
          </a:prstGeom>
          <a:solidFill>
            <a:srgbClr val="ff0d0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12800" y="4686480"/>
            <a:ext cx="5334120" cy="647640"/>
          </a:xfrm>
          <a:prstGeom prst="rect">
            <a:avLst/>
          </a:prstGeom>
          <a:solidFill>
            <a:srgbClr val="ff0d0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12800" y="3975120"/>
            <a:ext cx="5334120" cy="647640"/>
          </a:xfrm>
          <a:prstGeom prst="rect">
            <a:avLst/>
          </a:prstGeom>
          <a:solidFill>
            <a:srgbClr val="ff0d0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612800" y="5410080"/>
            <a:ext cx="5334120" cy="648000"/>
          </a:xfrm>
          <a:prstGeom prst="rect">
            <a:avLst/>
          </a:prstGeom>
          <a:solidFill>
            <a:srgbClr val="ff0d0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730600" y="4102200"/>
            <a:ext cx="2387520" cy="380880"/>
          </a:xfrm>
          <a:prstGeom prst="rect">
            <a:avLst/>
          </a:prstGeom>
          <a:solidFill>
            <a:srgbClr val="ff0d0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730600" y="4826160"/>
            <a:ext cx="2387520" cy="380880"/>
          </a:xfrm>
          <a:prstGeom prst="rect">
            <a:avLst/>
          </a:prstGeom>
          <a:solidFill>
            <a:srgbClr val="ff0d0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4CD9-7705-419C-9DFE-CC5EFD4EA05B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Inflat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82760" y="3898800"/>
            <a:ext cx="2247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82760" y="2641680"/>
            <a:ext cx="2654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‘ gerade - teile durch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467160" y="2641680"/>
            <a:ext cx="4699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‘ ungerade - subtrahiere 1 und teile durch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82760" y="2997360"/>
            <a:ext cx="10134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chsel von ungerade auf gerade oder Wechsel von gerade auf ungerade Symbolwechsel um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2760" y="3352680"/>
            <a:ext cx="11061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eriere diese Rückverfolgung bis Position 0. Dort steht „N“. Für jeden Symbolwechsel vorwärts +1 rechn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23440" y="3708360"/>
            <a:ext cx="3987720" cy="3566880"/>
            <a:chOff x="8623440" y="3708360"/>
            <a:chExt cx="3987720" cy="3566880"/>
          </a:xfrm>
        </p:grpSpPr>
        <p:sp>
          <p:nvSpPr>
            <p:cNvPr id="852" name=""/>
            <p:cNvSpPr/>
            <p:nvPr/>
          </p:nvSpPr>
          <p:spPr>
            <a:xfrm>
              <a:off x="9595080" y="4483440"/>
              <a:ext cx="2041560" cy="2042280"/>
            </a:xfrm>
            <a:prstGeom prst="ellipse">
              <a:avLst/>
            </a:prstGeom>
            <a:noFill/>
            <a:ln w="381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588680" y="4141800"/>
              <a:ext cx="0" cy="257436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9462960" y="5504400"/>
              <a:ext cx="2292120" cy="0"/>
            </a:xfrm>
            <a:prstGeom prst="line">
              <a:avLst/>
            </a:prstGeom>
            <a:ln w="50760">
              <a:solidFill>
                <a:srgbClr val="8184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142640" y="3708360"/>
              <a:ext cx="901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N≙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623440" y="5256720"/>
              <a:ext cx="977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W≙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722320" y="5256720"/>
              <a:ext cx="888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O≙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149120" y="6678360"/>
              <a:ext cx="888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5080" tIns="0" bIns="0" anchor="t">
              <a:noAutofit/>
            </a:bodyPr>
            <a:p>
              <a:pPr marL="54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12acc"/>
                  </a:solidFill>
                  <a:latin typeface="Arial"/>
                  <a:ea typeface="Apple Symbols"/>
                </a:rPr>
                <a:t>S≙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139680" y="7988400"/>
            <a:ext cx="12712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WSWSOSWSONOSOSWSONONWNOSONOSOSWSONONWNONWSWNWN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12345678901234567890123456789012345678901234567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06440" y="8788320"/>
            <a:ext cx="12090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2         3    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96880" y="4457880"/>
            <a:ext cx="6718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8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6880" y="4991040"/>
            <a:ext cx="6807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Wechsel von gerade auf ungerade oder umgekehrt, also steht dort ein „S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96880" y="6045120"/>
            <a:ext cx="671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96880" y="6578640"/>
            <a:ext cx="6807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Wechsel von gerade auf ungerade oder umgekehrt, also steht dort ein „O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095560" y="4508640"/>
            <a:ext cx="444600" cy="419040"/>
          </a:xfrm>
          <a:prstGeom prst="rect">
            <a:avLst/>
          </a:prstGeom>
          <a:solidFill>
            <a:srgbClr val="ff766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368960" y="4508640"/>
            <a:ext cx="444240" cy="419040"/>
          </a:xfrm>
          <a:prstGeom prst="rect">
            <a:avLst/>
          </a:prstGeom>
          <a:solidFill>
            <a:srgbClr val="ff766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143000" y="6095880"/>
            <a:ext cx="444600" cy="419400"/>
          </a:xfrm>
          <a:prstGeom prst="rect">
            <a:avLst/>
          </a:prstGeom>
          <a:solidFill>
            <a:srgbClr val="ff766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844720" y="6095880"/>
            <a:ext cx="444600" cy="419400"/>
          </a:xfrm>
          <a:prstGeom prst="rect">
            <a:avLst/>
          </a:prstGeom>
          <a:solidFill>
            <a:srgbClr val="ff766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368960" y="6095880"/>
            <a:ext cx="444240" cy="419400"/>
          </a:xfrm>
          <a:prstGeom prst="rect">
            <a:avLst/>
          </a:prstGeom>
          <a:solidFill>
            <a:srgbClr val="ff766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C3D2-F0B1-4E6C-B42F-ACEF7772488D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Welches Symbol steht am Platz n?</a:t>
            </a:r>
            <a:br>
              <a:rPr sz="5200"/>
            </a:br>
            <a:r>
              <a:rPr b="0" lang="en-US" sz="5200" spc="-1" strike="noStrike">
                <a:solidFill>
                  <a:srgbClr val="2d2015"/>
                </a:solidFill>
                <a:latin typeface="Arial"/>
              </a:rPr>
              <a:t>(Inflationsgesetz)</a:t>
            </a:r>
            <a:endParaRPr b="0" lang="en-US" sz="5200" spc="-1" strike="noStrike">
              <a:solidFill>
                <a:srgbClr val="2d2015"/>
              </a:solidFill>
              <a:latin typeface="Arial"/>
            </a:endParaRPr>
          </a:p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82760" y="2641680"/>
            <a:ext cx="2654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‘ gerade - teile durch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467160" y="2641680"/>
            <a:ext cx="4699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‘ ungerade - subtrahiere 1 und teile durch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2760" y="2997360"/>
            <a:ext cx="10134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chsel von ungerade auf gerade oder Wechsel von gerade auf ungerade Symbolwechsel um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2760" y="3352680"/>
            <a:ext cx="11061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eriere diese Rückverfolgung bis Position 0. Dort steht „N“. Für jeden Symbolwechsel vorwärts +1 rechn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39680" y="7988400"/>
            <a:ext cx="12712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WSWSOSWSONOSOSWSONONWNOSONOSOSWSONONWNONWSWNWN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">
                <a:solidFill>
                  <a:srgbClr val="000000"/>
                </a:solidFill>
                <a:latin typeface="Courier New"/>
                <a:ea typeface="Courier New"/>
              </a:rPr>
              <a:t>012345678901234567890123456789012345678901234567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06440" y="8788320"/>
            <a:ext cx="12090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2         3    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937640" y="5257800"/>
            <a:ext cx="4686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5080" tIns="0" bIns="0" anchor="t">
            <a:noAutofit/>
          </a:bodyPr>
          <a:p>
            <a:pPr marL="54000">
              <a:lnSpc>
                <a:spcPct val="100000"/>
              </a:lnSpc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grammierung in einer Tabellenkalk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609480" y="3708360"/>
            <a:ext cx="6566040" cy="433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60E8-2417-49ED-853A-E19067CC33D8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Was ist Papierfalten?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4880" y="2817360"/>
            <a:ext cx="11053440" cy="406260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417600" indent="-37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ch dem Auffalten haben wir einen Streifen mit drei Knic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7600" indent="-37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nksknick, Linksknick, Rechtsknic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97160" y="6501960"/>
            <a:ext cx="2705040" cy="995760"/>
            <a:chOff x="3197160" y="6501960"/>
            <a:chExt cx="2705040" cy="995760"/>
          </a:xfrm>
        </p:grpSpPr>
        <p:sp>
          <p:nvSpPr>
            <p:cNvPr id="127" name=""/>
            <p:cNvSpPr/>
            <p:nvPr/>
          </p:nvSpPr>
          <p:spPr>
            <a:xfrm>
              <a:off x="3846600" y="6502320"/>
              <a:ext cx="541080" cy="51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387680" y="6501960"/>
              <a:ext cx="541440" cy="51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7160" y="6913440"/>
              <a:ext cx="27050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4800" tIns="0" bIns="0" anchor="t">
              <a:noAutofit/>
            </a:bodyPr>
            <a:p>
              <a:pPr marL="63360"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skurve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44880" y="5504040"/>
            <a:ext cx="9992880" cy="1029240"/>
            <a:chOff x="2144880" y="5504040"/>
            <a:chExt cx="9992880" cy="1029240"/>
          </a:xfrm>
        </p:grpSpPr>
        <p:grpSp>
          <p:nvGrpSpPr>
            <p:cNvPr id="131" name=""/>
            <p:cNvGrpSpPr/>
            <p:nvPr/>
          </p:nvGrpSpPr>
          <p:grpSpPr>
            <a:xfrm>
              <a:off x="2144880" y="6018120"/>
              <a:ext cx="2284560" cy="515160"/>
              <a:chOff x="2144880" y="6018120"/>
              <a:chExt cx="2284560" cy="515160"/>
            </a:xfrm>
          </p:grpSpPr>
          <p:sp>
            <p:nvSpPr>
              <p:cNvPr id="132" name=""/>
              <p:cNvSpPr/>
              <p:nvPr/>
            </p:nvSpPr>
            <p:spPr>
              <a:xfrm>
                <a:off x="2144880" y="6018120"/>
                <a:ext cx="2284560" cy="5151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44880" y="6018120"/>
                <a:ext cx="2284560" cy="515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34480" y="6018120"/>
              <a:ext cx="2598840" cy="515160"/>
              <a:chOff x="4434480" y="6018120"/>
              <a:chExt cx="2598840" cy="51516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434120" y="6018120"/>
                <a:ext cx="2598840" cy="5151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434120" y="6018120"/>
                <a:ext cx="2598840" cy="515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035120" y="6018120"/>
              <a:ext cx="1238040" cy="515160"/>
              <a:chOff x="7035120" y="6018120"/>
              <a:chExt cx="1238040" cy="5151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7034760" y="6018120"/>
                <a:ext cx="1238040" cy="5151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7034760" y="6018120"/>
                <a:ext cx="1238040" cy="515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8252640" y="5504040"/>
              <a:ext cx="1239480" cy="514080"/>
              <a:chOff x="8252640" y="5504040"/>
              <a:chExt cx="1239480" cy="514080"/>
            </a:xfrm>
          </p:grpSpPr>
          <p:sp>
            <p:nvSpPr>
              <p:cNvPr id="141" name=""/>
              <p:cNvSpPr/>
              <p:nvPr/>
            </p:nvSpPr>
            <p:spPr>
              <a:xfrm flipH="1" rot="10800000">
                <a:off x="8252280" y="5504040"/>
                <a:ext cx="1239480" cy="51408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rot="10800000">
                <a:off x="8252280" y="5504040"/>
                <a:ext cx="1239480" cy="514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9492840" y="5504040"/>
              <a:ext cx="2644920" cy="823680"/>
              <a:chOff x="9492840" y="5504040"/>
              <a:chExt cx="2644920" cy="823680"/>
            </a:xfrm>
          </p:grpSpPr>
          <p:sp>
            <p:nvSpPr>
              <p:cNvPr id="144" name=""/>
              <p:cNvSpPr/>
              <p:nvPr/>
            </p:nvSpPr>
            <p:spPr>
              <a:xfrm rot="10800000">
                <a:off x="9492840" y="5504040"/>
                <a:ext cx="2644920" cy="82368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0800000">
                <a:off x="9492840" y="5504040"/>
                <a:ext cx="2644920" cy="823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5851440" y="6540120"/>
            <a:ext cx="2705040" cy="991080"/>
            <a:chOff x="5851440" y="6540120"/>
            <a:chExt cx="2705040" cy="991080"/>
          </a:xfrm>
        </p:grpSpPr>
        <p:sp>
          <p:nvSpPr>
            <p:cNvPr id="147" name=""/>
            <p:cNvSpPr/>
            <p:nvPr/>
          </p:nvSpPr>
          <p:spPr>
            <a:xfrm>
              <a:off x="6500880" y="6540480"/>
              <a:ext cx="54108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041960" y="6540120"/>
              <a:ext cx="54144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51440" y="6946920"/>
              <a:ext cx="27050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4800" tIns="0" bIns="0" anchor="t">
              <a:noAutofit/>
            </a:bodyPr>
            <a:p>
              <a:pPr marL="63360"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skurve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128080" y="6431040"/>
            <a:ext cx="2705040" cy="1099800"/>
            <a:chOff x="8128080" y="6431040"/>
            <a:chExt cx="2705040" cy="1099800"/>
          </a:xfrm>
        </p:grpSpPr>
        <p:sp>
          <p:nvSpPr>
            <p:cNvPr id="151" name=""/>
            <p:cNvSpPr/>
            <p:nvPr/>
          </p:nvSpPr>
          <p:spPr>
            <a:xfrm>
              <a:off x="9428400" y="6431040"/>
              <a:ext cx="541080" cy="5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886960" y="6431040"/>
              <a:ext cx="541440" cy="5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28080" y="6945840"/>
              <a:ext cx="27050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4800" tIns="0" bIns="0" anchor="t">
              <a:noAutofit/>
            </a:bodyPr>
            <a:p>
              <a:pPr marL="63360"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htskurve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2336-8A8F-43A1-94F4-3D130432AC31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1440" y="539640"/>
            <a:ext cx="1202832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Protokoll der ersten fünf Streifen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9440" y="2817720"/>
            <a:ext cx="12137760" cy="64468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704880" indent="-657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04880" indent="-657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04880" indent="-657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RLL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04880" indent="-657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RLLRRLLLRRL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04880" indent="-657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RLLRRLLLRRLRRLLLRLLRRRLLRRLR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91A7-D659-4467-A6F7-87DBC78E2753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4880" y="-360"/>
            <a:ext cx="11053440" cy="335772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Gesetzmäßigkeiten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4880" y="4659480"/>
            <a:ext cx="11053440" cy="509400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417600" indent="-37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Wie geht es mit den Buchstabenketten weiter (rekursive Gesetzmäßigkeit)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17600" indent="-37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Kann man das Symbol auf einem Platz berechnen (explizite Gesetzmäßigkeit)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2520" y="2382840"/>
            <a:ext cx="7290000" cy="1994040"/>
          </a:xfrm>
          <a:prstGeom prst="rect">
            <a:avLst/>
          </a:prstGeom>
          <a:solidFill>
            <a:srgbClr val="e9c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541440" indent="-49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49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L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49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LRLLR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49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LRLLRRLLLRRLR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49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LRLLRRLLLRRLRRLLLRLLRRRLLRRLR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8663-FE18-4837-868C-7864CF74D870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Reflex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0" t="22917" r="0" b="16668"/>
          <a:stretch/>
        </p:blipFill>
        <p:spPr>
          <a:xfrm>
            <a:off x="865080" y="4160880"/>
            <a:ext cx="6070680" cy="218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492280" y="5310360"/>
            <a:ext cx="5461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08600" y="5310360"/>
            <a:ext cx="545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75040" y="4441680"/>
            <a:ext cx="546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0" anchor="t">
            <a:noAutofit/>
          </a:bodyPr>
          <a:p>
            <a:pPr marL="633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0"/>
            <a:ext cx="11271240" cy="7970040"/>
            <a:chOff x="0" y="0"/>
            <a:chExt cx="11271240" cy="797004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rcRect l="0" t="27083" r="0" b="29169"/>
            <a:stretch/>
          </p:blipFill>
          <p:spPr>
            <a:xfrm>
              <a:off x="0" y="0"/>
              <a:ext cx="11271240" cy="21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683160" y="7256880"/>
              <a:ext cx="1079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133200" tIns="63360" bIns="63360" anchor="t">
              <a:noAutofit/>
            </a:bodyPr>
            <a:p>
              <a:pPr marL="4680"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LR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91800" y="736020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133200" tIns="63360" bIns="63360" anchor="t">
              <a:noAutofit/>
            </a:bodyPr>
            <a:p>
              <a:pPr marL="4680"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210240" y="6740640"/>
              <a:ext cx="1193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133200" tIns="63360" bIns="63360" anchor="t">
              <a:noAutofit/>
            </a:bodyPr>
            <a:p>
              <a:pPr marL="4680"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RR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304920" y="127080"/>
            <a:ext cx="13855680" cy="9753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0476000" y="8884800"/>
            <a:ext cx="39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552C-4200-4EAE-9835-F423A80B8ED7}" type="slidenum"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76760" y="9334440"/>
            <a:ext cx="184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508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hrerakademi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4880" y="539640"/>
            <a:ext cx="11053440" cy="227808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d2015"/>
                </a:solidFill>
                <a:latin typeface="Arial"/>
              </a:rPr>
              <a:t>Das Reflexionsgesetz</a:t>
            </a:r>
            <a:endParaRPr b="0" lang="en-US" sz="6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4880" y="2817720"/>
            <a:ext cx="11378880" cy="6935760"/>
          </a:xfrm>
          <a:prstGeom prst="rect">
            <a:avLst/>
          </a:prstGeom>
          <a:noFill/>
          <a:ln w="0">
            <a:noFill/>
          </a:ln>
        </p:spPr>
        <p:txBody>
          <a:bodyPr lIns="50760" rIns="180720" tIns="50760" bIns="50760" anchor="t">
            <a:normAutofit/>
          </a:bodyPr>
          <a:p>
            <a:pPr marL="63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Beim Papierfalten erhält man die nächste Knickfolge, indem man die letzte Knickfolg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08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chreib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08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n L anhän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308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n ersten Teil 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 L „reflektiert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neuesPapfalten.ppt_media/Reflektionsgesetz.mov" descr=""/>
          <p:cNvPicPr/>
          <p:nvPr/>
        </p:nvPicPr>
        <p:blipFill>
          <a:blip r:embed="rId2"/>
          <a:stretch/>
        </p:blipFill>
        <p:spPr>
          <a:xfrm>
            <a:off x="7162920" y="4470480"/>
            <a:ext cx="4643280" cy="462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imund Albers</dc:creator>
  <dc:description/>
  <dc:language>en-US</dc:language>
  <cp:lastModifiedBy/>
  <cp:revision>0</cp:revision>
  <dc:subject/>
  <dc:title>PowerPoint-Präsentation</dc:title>
</cp:coreProperties>
</file>