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449-7A0C-4B6E-9F59-9CA6BA13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137-6D28-438B-B7B9-68DE62AB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A91-2607-4F83-B81D-4AA04901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EBD-6725-4126-8B14-66FEE872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393-4634-4A0B-A52B-0DA2EC6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EC2-0399-4A23-ADB4-244E57BA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E1E-6521-4FD5-B9B4-A990C2D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B69-5FA0-426D-B34E-189A519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3CB-600B-4E5E-9FB8-3DFA9CA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323-E328-42E9-A519-73587BB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CE2-AA7D-4977-9E09-82BCCF1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D43-D50F-4F40-9011-D1D1D20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F2FE-830E-41F6-81C4-39FE4B14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19080" y="960480"/>
            <a:ext cx="7324920" cy="488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Arial"/>
              </a:rPr>
              <a:t>Weihnachtsvorlesung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4080" y="368136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rück in die 1. 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sche Suche nach Lös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7040" y="1747800"/>
            <a:ext cx="3009960" cy="39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48560" y="16765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 wird hochgezäh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0640" y="23004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läuft dann von 1 bis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6480" y="29592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läuft dann von 1 bi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75560" y="36655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: 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30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01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7260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4388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501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4724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9800" y="47228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61080" y="4437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9800" y="44355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8880" y="443376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9960" y="4722840"/>
            <a:ext cx="4546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1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4000" y="5661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1..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3789360"/>
            <a:ext cx="203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„z-Schicht“ ist eine Dreiecks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0560" y="5032440"/>
            <a:ext cx="2108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Schichten für z = 1 bis z =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ilden eine Tetraeder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19851600">
            <a:off x="2968560" y="646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851600">
            <a:off x="266688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851600">
            <a:off x="326376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851600">
            <a:off x="2981160" y="170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51600">
            <a:off x="267984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851600">
            <a:off x="327672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851600">
            <a:off x="356832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851600">
            <a:off x="238716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851600">
            <a:off x="3873600" y="2235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51600">
            <a:off x="2082600" y="2209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851600">
            <a:off x="1787040" y="2728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851600">
            <a:off x="148608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851600">
            <a:off x="208296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851600">
            <a:off x="1800000" y="3782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51600">
            <a:off x="149832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851600">
            <a:off x="209520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851600">
            <a:off x="238752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851600">
            <a:off x="120636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851600">
            <a:off x="2692080" y="4317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51600">
            <a:off x="901800" y="429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851600">
            <a:off x="4162320" y="2768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851600">
            <a:off x="386028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851600">
            <a:off x="445752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851600">
            <a:off x="4162320" y="382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851600">
            <a:off x="387324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851600">
            <a:off x="447012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51600">
            <a:off x="4762440" y="3824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51600">
            <a:off x="3568680" y="38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851600">
            <a:off x="5067360" y="4357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851600">
            <a:off x="3276720" y="4332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851600">
            <a:off x="2981160" y="27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851600">
            <a:off x="267984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851600">
            <a:off x="327672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851600">
            <a:off x="3568320" y="2755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851600">
            <a:off x="2374920" y="2743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9851600">
            <a:off x="2984400" y="3797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9851600">
            <a:off x="119376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851600">
            <a:off x="179064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51600">
            <a:off x="2387160" y="4836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851600">
            <a:off x="596880" y="4811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851600">
            <a:off x="356832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851600">
            <a:off x="416520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851600">
            <a:off x="4762440" y="4876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851600">
            <a:off x="2971800" y="4851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851600">
            <a:off x="90180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851600">
            <a:off x="149868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851600">
            <a:off x="2095560" y="53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851600">
            <a:off x="304560" y="5331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851600">
            <a:off x="327672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851600">
            <a:off x="387360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851600">
            <a:off x="447048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851600">
            <a:off x="2679840" y="5372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851600">
            <a:off x="59688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851600">
            <a:off x="119376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9851600">
            <a:off x="1790640" y="5865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851600">
            <a:off x="0" y="58399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851600">
            <a:off x="297180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51600">
            <a:off x="356868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851600">
            <a:off x="4165200" y="5905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851600">
            <a:off x="2374920" y="5880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851600">
            <a:off x="476244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851600">
            <a:off x="535932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851600">
            <a:off x="5956200" y="5943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851600">
            <a:off x="505476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851600">
            <a:off x="5651280" y="54097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851600">
            <a:off x="5346360" y="4901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37560" y="422280"/>
            <a:ext cx="33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eiecks-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00560" y="1576440"/>
            <a:ext cx="347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y-te Dreieckszahl findet man im Pascalschen Dreieck in der „Spalte“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2 und der Zeile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56360" y="3068640"/>
          <a:ext cx="20160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068640"/>
                    <a:ext cx="2016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4800" y="484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54480" y="33012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e Tetraeder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1600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0816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6128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4480" y="48448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3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1828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51440" y="1828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4680" y="137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05240" y="1384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76640" y="91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1828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828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41880" y="1371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58360" y="48448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6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3252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4048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6104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73720" y="762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94640" y="7747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66040" y="304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11880" y="1676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32440" y="16891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40760" y="17017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1036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1752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6444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89720" y="1219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1219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56480" y="8128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65800" y="48448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0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10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rot="19851600">
            <a:off x="2968560" y="646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851600">
            <a:off x="266688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851600">
            <a:off x="326376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9851600">
            <a:off x="2981160" y="170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9851600">
            <a:off x="267984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851600">
            <a:off x="327672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851600">
            <a:off x="356832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851600">
            <a:off x="238716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851600">
            <a:off x="3873600" y="2235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9851600">
            <a:off x="2082600" y="2209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851600">
            <a:off x="1787040" y="2728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851600">
            <a:off x="148608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851600">
            <a:off x="208296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851600">
            <a:off x="1800000" y="3782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9851600">
            <a:off x="149832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9851600">
            <a:off x="209520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9851600">
            <a:off x="238752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9851600">
            <a:off x="120636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9851600">
            <a:off x="2692080" y="4317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851600">
            <a:off x="901800" y="429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851600">
            <a:off x="4162320" y="2768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9851600">
            <a:off x="386028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9851600">
            <a:off x="445752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9851600">
            <a:off x="4162320" y="382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9851600">
            <a:off x="387324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9851600">
            <a:off x="447012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9851600">
            <a:off x="4762440" y="3824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851600">
            <a:off x="3568680" y="38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9851600">
            <a:off x="5067360" y="4357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9851600">
            <a:off x="3276720" y="4332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9851600">
            <a:off x="2981160" y="27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9851600">
            <a:off x="267984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851600">
            <a:off x="327672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851600">
            <a:off x="3568320" y="2755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851600">
            <a:off x="2374920" y="2743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9851600">
            <a:off x="2984400" y="3797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851600">
            <a:off x="119376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851600">
            <a:off x="179064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851600">
            <a:off x="2387160" y="4836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851600">
            <a:off x="596880" y="4811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851600">
            <a:off x="356832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9851600">
            <a:off x="416520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9851600">
            <a:off x="4762440" y="4876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9851600">
            <a:off x="2971800" y="4851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9851600">
            <a:off x="90180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9851600">
            <a:off x="149868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851600">
            <a:off x="2095560" y="53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851600">
            <a:off x="304560" y="5331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851600">
            <a:off x="327672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9851600">
            <a:off x="387360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9851600">
            <a:off x="447048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9851600">
            <a:off x="2679840" y="5372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9851600">
            <a:off x="59688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9851600">
            <a:off x="119376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851600">
            <a:off x="1790640" y="5865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9851600">
            <a:off x="0" y="58399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9851600">
            <a:off x="297180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9851600">
            <a:off x="356868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9851600">
            <a:off x="4165200" y="5905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851600">
            <a:off x="2374920" y="5880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9851600">
            <a:off x="476244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9851600">
            <a:off x="535932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9851600">
            <a:off x="5956200" y="5943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851600">
            <a:off x="505476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9851600">
            <a:off x="5651280" y="54097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851600">
            <a:off x="5346360" y="4901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75360" y="422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etraeder-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00560" y="1576440"/>
            <a:ext cx="347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-te Tetraederzahl findet man im Pascalschen Dreieck in der „Spalte“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3 und der Zeile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875200" y="2844720"/>
          <a:ext cx="294480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0" y="2844720"/>
                    <a:ext cx="29448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sche Suche nach Lös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628640"/>
            <a:ext cx="78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viele erfolglose Tests muss man durchlaufen, bis man zur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.8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17.5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14.5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22.4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omm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2924280"/>
            <a:ext cx="7941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traeder bis z = 414.559 Das s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∙414.56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∙ 414.560 ∙ 414.559 = 11.874.379.824.400.2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wa 12 Billiarden Möglichkei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ür z = 414.560 Dreieck bis y = 217.518 ebenfalls erfolg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∙ 217.519 ∙ 217.518 = 23.657.148.921  „nur“ ca. 24 Millia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55360" y="5041800"/>
            <a:ext cx="71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illiarden Sekunden sind ca. 376 Millionen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29440" cy="5684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50640" y="5516640"/>
            <a:ext cx="46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ust exactly, how many is a brazillion?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44880" y="4581360"/>
            <a:ext cx="4533840" cy="1727280"/>
            <a:chOff x="3044880" y="4581360"/>
            <a:chExt cx="4533840" cy="1727280"/>
          </a:xfrm>
        </p:grpSpPr>
        <p:sp>
          <p:nvSpPr>
            <p:cNvPr id="433" name=""/>
            <p:cNvSpPr/>
            <p:nvPr/>
          </p:nvSpPr>
          <p:spPr>
            <a:xfrm>
              <a:off x="304488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6456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5928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44880" y="1775880"/>
            <a:ext cx="1727280" cy="4534200"/>
            <a:chOff x="3044880" y="1775880"/>
            <a:chExt cx="1727280" cy="4534200"/>
          </a:xfrm>
        </p:grpSpPr>
        <p:sp>
          <p:nvSpPr>
            <p:cNvPr id="437" name=""/>
            <p:cNvSpPr/>
            <p:nvPr/>
          </p:nvSpPr>
          <p:spPr>
            <a:xfrm rot="16200000">
              <a:off x="1641240" y="3179160"/>
              <a:ext cx="453420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400" y="593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63520" y="3500280"/>
            <a:ext cx="2808360" cy="2808360"/>
            <a:chOff x="263520" y="3500280"/>
            <a:chExt cx="2808360" cy="2808360"/>
          </a:xfrm>
        </p:grpSpPr>
        <p:grpSp>
          <p:nvGrpSpPr>
            <p:cNvPr id="440" name=""/>
            <p:cNvGrpSpPr/>
            <p:nvPr/>
          </p:nvGrpSpPr>
          <p:grpSpPr>
            <a:xfrm>
              <a:off x="263520" y="3500280"/>
              <a:ext cx="2808360" cy="2808360"/>
              <a:chOff x="263520" y="3500280"/>
              <a:chExt cx="2808360" cy="2808360"/>
            </a:xfrm>
          </p:grpSpPr>
          <p:sp>
            <p:nvSpPr>
              <p:cNvPr id="441" name=""/>
              <p:cNvSpPr/>
              <p:nvPr/>
            </p:nvSpPr>
            <p:spPr>
              <a:xfrm>
                <a:off x="263520" y="4581360"/>
                <a:ext cx="2806560" cy="1727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3520" y="3500280"/>
                <a:ext cx="2808360" cy="1079640"/>
              </a:xfrm>
              <a:prstGeom prst="triangle">
                <a:avLst>
                  <a:gd name="adj" fmla="val 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123264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6580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28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044880" y="1774800"/>
            <a:ext cx="1727280" cy="4533840"/>
            <a:chOff x="3044880" y="1774800"/>
            <a:chExt cx="1727280" cy="4533840"/>
          </a:xfrm>
        </p:grpSpPr>
        <p:sp>
          <p:nvSpPr>
            <p:cNvPr id="447" name=""/>
            <p:cNvSpPr/>
            <p:nvPr/>
          </p:nvSpPr>
          <p:spPr>
            <a:xfrm rot="5400000">
              <a:off x="1641240" y="317808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1720" y="1866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36520" y="3498840"/>
            <a:ext cx="4533840" cy="1727280"/>
            <a:chOff x="236520" y="3498840"/>
            <a:chExt cx="4533840" cy="1727280"/>
          </a:xfrm>
        </p:grpSpPr>
        <p:sp>
          <p:nvSpPr>
            <p:cNvPr id="450" name=""/>
            <p:cNvSpPr/>
            <p:nvPr/>
          </p:nvSpPr>
          <p:spPr>
            <a:xfrm rot="10800000">
              <a:off x="236520" y="349884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51760" y="3764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0560" y="1773720"/>
            <a:ext cx="2808360" cy="2807640"/>
            <a:chOff x="250560" y="1773720"/>
            <a:chExt cx="2808360" cy="2807640"/>
          </a:xfrm>
        </p:grpSpPr>
        <p:grpSp>
          <p:nvGrpSpPr>
            <p:cNvPr id="453" name=""/>
            <p:cNvGrpSpPr/>
            <p:nvPr/>
          </p:nvGrpSpPr>
          <p:grpSpPr>
            <a:xfrm>
              <a:off x="250560" y="1773720"/>
              <a:ext cx="2808360" cy="2807640"/>
              <a:chOff x="250560" y="1773720"/>
              <a:chExt cx="2808360" cy="2807640"/>
            </a:xfrm>
          </p:grpSpPr>
          <p:sp>
            <p:nvSpPr>
              <p:cNvPr id="454" name=""/>
              <p:cNvSpPr/>
              <p:nvPr/>
            </p:nvSpPr>
            <p:spPr>
              <a:xfrm rot="10800000">
                <a:off x="252360" y="1773360"/>
                <a:ext cx="2806560" cy="1726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0800000">
                <a:off x="250560" y="3502080"/>
                <a:ext cx="2808360" cy="1079280"/>
              </a:xfrm>
              <a:prstGeom prst="triangle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1451520" y="1836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69320" y="2820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9040" y="256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0.49444 0.25271 E">
                                      <p:cBhvr>
                                        <p:cTn id="58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4440" y="2066760"/>
            <a:ext cx="5619960" cy="2457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ählen im Stellenwert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4014720"/>
            <a:ext cx="381240" cy="6098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014720"/>
            <a:ext cx="914400" cy="1143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4014720"/>
            <a:ext cx="1447920" cy="16765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014720"/>
            <a:ext cx="2057400" cy="22100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3280" y="43959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2920" y="49449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3280" y="5494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nd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3640" y="60436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10996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im Wechsel von 9 auf 0 schickt ein Zählrad einen Übertrag an das linke Neben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86040" y="2897280"/>
            <a:ext cx="2508480" cy="903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6880" y="133524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Kilometerzäh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00000" y="1989000"/>
            <a:ext cx="2592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1989000"/>
            <a:ext cx="403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81280" y="481644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: 21 x 21 = 4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06160" y="37893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ck: 34 x 13 = 4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57240" y="3500280"/>
            <a:ext cx="2820960" cy="2808360"/>
            <a:chOff x="957240" y="3500280"/>
            <a:chExt cx="2820960" cy="2808360"/>
          </a:xfrm>
        </p:grpSpPr>
        <p:sp>
          <p:nvSpPr>
            <p:cNvPr id="466" name=""/>
            <p:cNvSpPr/>
            <p:nvPr/>
          </p:nvSpPr>
          <p:spPr>
            <a:xfrm>
              <a:off x="97164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724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4040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7392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4040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80000" y="4581360"/>
            <a:ext cx="4533840" cy="1727280"/>
            <a:chOff x="3780000" y="4581360"/>
            <a:chExt cx="4533840" cy="1727280"/>
          </a:xfrm>
        </p:grpSpPr>
        <p:sp>
          <p:nvSpPr>
            <p:cNvPr id="472" name=""/>
            <p:cNvSpPr/>
            <p:nvPr/>
          </p:nvSpPr>
          <p:spPr>
            <a:xfrm>
              <a:off x="378000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9968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9440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971640" y="3513240"/>
            <a:ext cx="2808360" cy="1079280"/>
            <a:chOff x="971640" y="3513240"/>
            <a:chExt cx="2808360" cy="1079280"/>
          </a:xfrm>
        </p:grpSpPr>
        <p:sp>
          <p:nvSpPr>
            <p:cNvPr id="476" name=""/>
            <p:cNvSpPr/>
            <p:nvPr/>
          </p:nvSpPr>
          <p:spPr>
            <a:xfrm>
              <a:off x="971640" y="3513240"/>
              <a:ext cx="2808360" cy="1079280"/>
            </a:xfrm>
            <a:prstGeom prst="triangle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41840" y="3881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96040" y="4171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"/>
          <p:cNvGraphicFramePr/>
          <p:nvPr/>
        </p:nvGraphicFramePr>
        <p:xfrm>
          <a:off x="1146240" y="2171880"/>
          <a:ext cx="258264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171880"/>
                    <a:ext cx="25826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903920" y="3521160"/>
          <a:ext cx="258444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3521160"/>
                    <a:ext cx="25844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57240" y="3500280"/>
            <a:ext cx="2820960" cy="2808360"/>
            <a:chOff x="957240" y="3500280"/>
            <a:chExt cx="2820960" cy="2808360"/>
          </a:xfrm>
        </p:grpSpPr>
        <p:sp>
          <p:nvSpPr>
            <p:cNvPr id="485" name=""/>
            <p:cNvSpPr/>
            <p:nvPr/>
          </p:nvSpPr>
          <p:spPr>
            <a:xfrm>
              <a:off x="97164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5724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4040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7392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040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80000" y="4581360"/>
            <a:ext cx="4533840" cy="1727280"/>
            <a:chOff x="3780000" y="4581360"/>
            <a:chExt cx="4533840" cy="1727280"/>
          </a:xfrm>
        </p:grpSpPr>
        <p:sp>
          <p:nvSpPr>
            <p:cNvPr id="491" name=""/>
            <p:cNvSpPr/>
            <p:nvPr/>
          </p:nvSpPr>
          <p:spPr>
            <a:xfrm>
              <a:off x="378000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968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9440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4" name=""/>
          <p:cNvGraphicFramePr/>
          <p:nvPr/>
        </p:nvGraphicFramePr>
        <p:xfrm>
          <a:off x="1378080" y="4189320"/>
          <a:ext cx="15811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4189320"/>
                    <a:ext cx="1581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381560" y="5248440"/>
          <a:ext cx="153828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5248440"/>
                    <a:ext cx="1538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957240" y="3497400"/>
            <a:ext cx="7388280" cy="2801880"/>
          </a:xfrm>
          <a:prstGeom prst="rect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96920" y="2066760"/>
            <a:ext cx="71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echteck hat in der Mitte eine Lücke der Fäche 1, die nicht mitgezählt werden da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teilung ohne Kn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960480" y="3500280"/>
            <a:ext cx="2808360" cy="2808360"/>
            <a:chOff x="960480" y="3500280"/>
            <a:chExt cx="2808360" cy="2808360"/>
          </a:xfrm>
        </p:grpSpPr>
        <p:sp>
          <p:nvSpPr>
            <p:cNvPr id="502" name=""/>
            <p:cNvSpPr/>
            <p:nvPr/>
          </p:nvSpPr>
          <p:spPr>
            <a:xfrm>
              <a:off x="96048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6048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148200" y="5275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8592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355840" y="3165480"/>
            <a:ext cx="4533840" cy="1727280"/>
          </a:xfrm>
          <a:prstGeom prst="triangle">
            <a:avLst>
              <a:gd name="adj" fmla="val 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54640" y="5916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9292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70640" y="394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40040" y="526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956880" y="4586400"/>
            <a:ext cx="28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81040" y="3497040"/>
            <a:ext cx="0" cy="278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6040" y="4826160"/>
            <a:ext cx="29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697360" y="1841400"/>
          <a:ext cx="327204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7360" y="1841400"/>
                    <a:ext cx="32720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831640" y="47386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goldene Schn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00" y="196920"/>
            <a:ext cx="673272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nn man ohne Stellenwert rechnet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09840" y="1920960"/>
            <a:ext cx="61005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4440" y="1709640"/>
            <a:ext cx="5619960" cy="245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kaputte km-Zä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657600"/>
            <a:ext cx="381240" cy="6094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657600"/>
            <a:ext cx="914400" cy="1143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657600"/>
            <a:ext cx="1447920" cy="16765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657600"/>
            <a:ext cx="2057400" cy="22096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3280" y="4038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2920" y="45878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3280" y="5137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nd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3640" y="56865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752480"/>
            <a:ext cx="245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 Übertragsräder sind defekt. Beim Wechsel von 9 auf 0 ist der Übertrag an das linke Nebenrad immer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86040" y="2354400"/>
            <a:ext cx="2451240" cy="1857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kaputte km-Zä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3080" y="1654200"/>
            <a:ext cx="8486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ometerzähler in anderen Basis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66760" y="1952640"/>
            <a:ext cx="3375000" cy="384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67360" y="1401840"/>
            <a:ext cx="35830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 Simpsons haben an jeder Hand nur vier Finger. Logischerweise zählen und rechnen sie daher im Achter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r hat auch einen kaputten  Kilometerzähler, der nach jeder Um-drehung 3 Zahlen in den Übertrag schic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hnen mit dem kaputten km-Zä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wärts z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ückwärts z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Zähler [(10,3)-Sytem] zeigt zu Beginn 327. Ich fahre 3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rmal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lometer. Was zeigt dann der Kilometerstand am kaputten km-Zäh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Zähler [(9,4)-System] zeigt zu Beginn einer Fahrt 8275 und am Ende 43118. Wie viele Kilometer ist man ge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7280" y="1704960"/>
            <a:ext cx="29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 von Pytha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1720" y="3257640"/>
            <a:ext cx="431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ythagoräische Zahlentri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(3, 4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730680" y="3287880"/>
          <a:ext cx="144936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0680" y="3287880"/>
                    <a:ext cx="14493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591880" y="1747800"/>
            <a:ext cx="26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Ferma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9400" y="3257640"/>
            <a:ext cx="29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20" y="1631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lersche Vermutung (speziell) 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6960" y="236844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ler 1769: Es gibt keine natürlichen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120" y="4038480"/>
            <a:ext cx="78087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am Elkies 1988: Es gibt unendlich viele 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ger Frye 1988: Die kleinste Lösun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5.80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217.519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14.56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422.481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00" y="317196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y 1981: Es gibt keine Lösung mit d &lt; 22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9:36:01Z</dcterms:created>
  <dc:creator>Reimund</dc:creator>
  <dc:description/>
  <dc:language>en-US</dc:language>
  <cp:lastModifiedBy>Reimund</cp:lastModifiedBy>
  <dcterms:modified xsi:type="dcterms:W3CDTF">2007-12-20T17:15:59Z</dcterms:modified>
  <cp:revision>31</cp:revision>
  <dc:subject/>
  <dc:title>Weihnachtsvorlesung 2007</dc:title>
</cp:coreProperties>
</file>