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340D9-464C-4DF4-8303-367B51BC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38B38-5E4F-4AA7-A4FD-42CFE570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0BCD1-A200-49F8-ACFF-A7D1DAE7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196EC-6450-42F5-88B3-94ACDE9F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02C21-3553-44DC-95F1-64E650D3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456840"/>
            <a:ext cx="7800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3E3AE-BE81-42FC-AEF1-1C1C76D5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F9A4E-E32E-4751-8318-9D72574C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29E01-75E3-46CE-8D79-C957792D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B44C0-0030-4BCB-86E8-82954B5F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38089-D972-45DF-874E-437A7E8E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17C71-51C7-42FB-8A6B-C7D17F1F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027CE-046E-4970-B940-735813F2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2640" y="456840"/>
            <a:ext cx="7800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460440" y="13712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05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880" y="6476760"/>
            <a:ext cx="7848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werin Juni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1048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430D-5FB0-421E-9434-7957714134D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608120" cy="1608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304920" y="6400800"/>
            <a:ext cx="8686800" cy="54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90520" y="336600"/>
            <a:ext cx="711360" cy="474480"/>
            <a:chOff x="290520" y="336600"/>
            <a:chExt cx="711360" cy="474480"/>
          </a:xfrm>
        </p:grpSpPr>
        <p:sp>
          <p:nvSpPr>
            <p:cNvPr id="44" name=""/>
            <p:cNvSpPr/>
            <p:nvPr/>
          </p:nvSpPr>
          <p:spPr>
            <a:xfrm>
              <a:off x="290520" y="33660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3560" y="3366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14360" y="758880"/>
            <a:ext cx="737640" cy="474480"/>
            <a:chOff x="414360" y="758880"/>
            <a:chExt cx="737640" cy="474480"/>
          </a:xfrm>
        </p:grpSpPr>
        <p:sp>
          <p:nvSpPr>
            <p:cNvPr id="47" name=""/>
            <p:cNvSpPr/>
            <p:nvPr/>
          </p:nvSpPr>
          <p:spPr>
            <a:xfrm>
              <a:off x="414360" y="75888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3000" y="75888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6858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2860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4654-17E7-403F-AD3F-15167F6CCCC1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Makroskonstr.fig" TargetMode="External"/><Relationship Id="rId2" Type="http://schemas.openxmlformats.org/officeDocument/2006/relationships/hyperlink" Target="file:///Makroskonstr.fig" TargetMode="External"/><Relationship Id="rId3" Type="http://schemas.openxmlformats.org/officeDocument/2006/relationships/hyperlink" Target="file:///Makroskonstr.fig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439200"/>
            <a:ext cx="7800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Arial"/>
              </a:rPr>
              <a:t>X5 und der geometrische Forscherge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ine Erweiterung der schulischen Geome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schender Zuga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37040" y="2502000"/>
            <a:ext cx="4251240" cy="2911320"/>
            <a:chOff x="4037040" y="2502000"/>
            <a:chExt cx="4251240" cy="2911320"/>
          </a:xfrm>
        </p:grpSpPr>
        <p:sp>
          <p:nvSpPr>
            <p:cNvPr id="165" name=""/>
            <p:cNvSpPr/>
            <p:nvPr/>
          </p:nvSpPr>
          <p:spPr>
            <a:xfrm>
              <a:off x="4037040" y="5391000"/>
              <a:ext cx="22320" cy="22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65960" y="5391000"/>
              <a:ext cx="22320" cy="22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97560" y="2502000"/>
              <a:ext cx="24120" cy="21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48200" y="2513160"/>
              <a:ext cx="4228920" cy="2889000"/>
            </a:xfrm>
            <a:custGeom>
              <a:avLst/>
              <a:gdLst/>
              <a:ahLst/>
              <a:rect l="l" t="t" r="r" b="b"/>
              <a:pathLst>
                <a:path w="376" h="257">
                  <a:moveTo>
                    <a:pt x="0" y="257"/>
                  </a:moveTo>
                  <a:lnTo>
                    <a:pt x="376" y="257"/>
                  </a:lnTo>
                  <a:lnTo>
                    <a:pt x="290" y="0"/>
                  </a:lnTo>
                  <a:lnTo>
                    <a:pt x="0" y="257"/>
                  </a:lnTo>
                </a:path>
              </a:pathLst>
            </a:custGeom>
            <a:noFill/>
            <a:ln w="11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04000" y="4344840"/>
              <a:ext cx="22320" cy="22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57840" y="3300480"/>
              <a:ext cx="2114640" cy="2112840"/>
            </a:xfrm>
            <a:prstGeom prst="ellipse">
              <a:avLst/>
            </a:prstGeom>
            <a:noFill/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04000" y="5391000"/>
              <a:ext cx="22320" cy="22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5600" y="3559320"/>
              <a:ext cx="23760" cy="21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04000" y="5391000"/>
              <a:ext cx="22320" cy="22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04080" y="4008600"/>
              <a:ext cx="22320" cy="21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05600" y="3559320"/>
              <a:ext cx="23760" cy="21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18200" y="3559320"/>
              <a:ext cx="1685880" cy="184284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0" y="0"/>
                  </a:moveTo>
                  <a:lnTo>
                    <a:pt x="62" y="164"/>
                  </a:lnTo>
                  <a:lnTo>
                    <a:pt x="150" y="4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68160" y="240984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Dreieck der Inkreisberühr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11280" y="4151160"/>
            <a:ext cx="12204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schender Zuga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-22251" b="-23745"/>
          <a:stretch/>
        </p:blipFill>
        <p:spPr>
          <a:xfrm>
            <a:off x="3905280" y="2394000"/>
            <a:ext cx="4646520" cy="3300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962480" y="3933720"/>
            <a:ext cx="330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46280" y="3827520"/>
            <a:ext cx="330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69400" y="5510160"/>
            <a:ext cx="3229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2640" y="2282760"/>
            <a:ext cx="3544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Mittendrei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schender Zuga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8040" y="2017800"/>
            <a:ext cx="333504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Höhenfuß-punktdrei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-21303" b="-23070"/>
          <a:stretch/>
        </p:blipFill>
        <p:spPr>
          <a:xfrm>
            <a:off x="3922560" y="2357280"/>
            <a:ext cx="4610160" cy="3283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588440" y="4349880"/>
            <a:ext cx="2563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135640" y="4027320"/>
            <a:ext cx="3034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83080" y="3178080"/>
            <a:ext cx="3034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98040" y="5457960"/>
            <a:ext cx="295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0" r="-21892" b="-19598"/>
          <a:stretch/>
        </p:blipFill>
        <p:spPr>
          <a:xfrm>
            <a:off x="4038480" y="2222640"/>
            <a:ext cx="4792680" cy="28573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schender Zuga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9960" y="2176200"/>
            <a:ext cx="358956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Dreieck, das aus den Schnitt-punkten der Win-kelhalbierenden mit der gegenüber liegenden Seite gebildet w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72320" y="3276720"/>
            <a:ext cx="266760" cy="163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039080" y="3686040"/>
            <a:ext cx="1419120" cy="12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6762600" y="3276360"/>
            <a:ext cx="1695600" cy="40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schender Zuga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29200" y="5594400"/>
            <a:ext cx="20520" cy="2052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96200" y="5594400"/>
            <a:ext cx="22320" cy="2052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27880" y="2363760"/>
            <a:ext cx="22320" cy="2232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38560" y="2374920"/>
            <a:ext cx="4157640" cy="3228840"/>
          </a:xfrm>
          <a:custGeom>
            <a:avLst/>
            <a:gdLst/>
            <a:ahLst/>
            <a:rect l="l" t="t" r="r" b="b"/>
            <a:pathLst>
              <a:path w="383" h="298">
                <a:moveTo>
                  <a:pt x="0" y="298"/>
                </a:moveTo>
                <a:lnTo>
                  <a:pt x="383" y="298"/>
                </a:lnTo>
                <a:lnTo>
                  <a:pt x="304" y="0"/>
                </a:lnTo>
                <a:lnTo>
                  <a:pt x="0" y="298"/>
                </a:lnTo>
              </a:path>
            </a:pathLst>
          </a:custGeom>
          <a:noFill/>
          <a:ln w="11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56440" y="3513240"/>
            <a:ext cx="20520" cy="21960"/>
          </a:xfrm>
          <a:prstGeom prst="rect">
            <a:avLst/>
          </a:prstGeom>
          <a:solidFill>
            <a:srgbClr val="008000"/>
          </a:solidFill>
          <a:ln w="11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27880" y="5594400"/>
            <a:ext cx="22320" cy="2052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13600" y="4552920"/>
            <a:ext cx="22320" cy="22320"/>
          </a:xfrm>
          <a:prstGeom prst="rect">
            <a:avLst/>
          </a:prstGeom>
          <a:solidFill>
            <a:srgbClr val="008000"/>
          </a:solidFill>
          <a:ln w="11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56440" y="3524400"/>
            <a:ext cx="1768320" cy="2079360"/>
          </a:xfrm>
          <a:custGeom>
            <a:avLst/>
            <a:gdLst/>
            <a:ahLst/>
            <a:rect l="l" t="t" r="r" b="b"/>
            <a:pathLst>
              <a:path w="163" h="192">
                <a:moveTo>
                  <a:pt x="0" y="0"/>
                </a:moveTo>
                <a:lnTo>
                  <a:pt x="109" y="192"/>
                </a:lnTo>
                <a:lnTo>
                  <a:pt x="163" y="95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78360" y="3978360"/>
            <a:ext cx="22320" cy="22320"/>
          </a:xfrm>
          <a:prstGeom prst="rect">
            <a:avLst/>
          </a:prstGeom>
          <a:solidFill>
            <a:srgbClr val="008000"/>
          </a:solidFill>
          <a:ln w="11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11800" y="5594400"/>
            <a:ext cx="22320" cy="2052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862760" y="3978360"/>
            <a:ext cx="20880" cy="22320"/>
          </a:xfrm>
          <a:prstGeom prst="rect">
            <a:avLst/>
          </a:prstGeom>
          <a:solidFill>
            <a:srgbClr val="008000"/>
          </a:solidFill>
          <a:ln w="11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89520" y="3989520"/>
            <a:ext cx="2073240" cy="1614240"/>
          </a:xfrm>
          <a:custGeom>
            <a:avLst/>
            <a:gdLst/>
            <a:ahLst/>
            <a:rect l="l" t="t" r="r" b="b"/>
            <a:pathLst>
              <a:path w="191" h="149">
                <a:moveTo>
                  <a:pt x="0" y="0"/>
                </a:moveTo>
                <a:lnTo>
                  <a:pt x="39" y="149"/>
                </a:lnTo>
                <a:lnTo>
                  <a:pt x="19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36920" y="3747960"/>
            <a:ext cx="330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3880" y="3735360"/>
            <a:ext cx="330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6200" y="5430960"/>
            <a:ext cx="3229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24520" y="3178080"/>
            <a:ext cx="3034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38080" y="5497560"/>
            <a:ext cx="295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84880" y="4376880"/>
            <a:ext cx="3034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87560" y="4836960"/>
            <a:ext cx="2173320" cy="530280"/>
            <a:chOff x="1087560" y="4836960"/>
            <a:chExt cx="2173320" cy="530280"/>
          </a:xfrm>
        </p:grpSpPr>
        <p:sp>
          <p:nvSpPr>
            <p:cNvPr id="218" name=""/>
            <p:cNvSpPr/>
            <p:nvPr/>
          </p:nvSpPr>
          <p:spPr>
            <a:xfrm>
              <a:off x="1087560" y="4836960"/>
              <a:ext cx="2173320" cy="5302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360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25440" y="4902120"/>
              <a:ext cx="18990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 zur Date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79360" y="2001960"/>
            <a:ext cx="394992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55600" y="1950840"/>
            <a:ext cx="3944880" cy="1477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 untersuchen das Mittendreieck und das Höhenfußpunktdrei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ewe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0" r="-23579" b="-23526"/>
          <a:stretch/>
        </p:blipFill>
        <p:spPr>
          <a:xfrm>
            <a:off x="3832200" y="1990800"/>
            <a:ext cx="4708440" cy="3789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957840" cy="1941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Mittendreieck und das Höhenfußpunkt-dreieck haben einen gemeinsamen Umkr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ewe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-28623" b="-24699"/>
          <a:stretch/>
        </p:blipFill>
        <p:spPr>
          <a:xfrm>
            <a:off x="4213080" y="1928880"/>
            <a:ext cx="4900680" cy="3998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3120" y="1941120"/>
            <a:ext cx="3068640" cy="407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beweisen, dass H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f dem Umkreis des Drei-ecks 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i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Beweise für die anderen beiden Punkte H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H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erlaufen an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ewe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0" r="-19865" b="-21767"/>
          <a:stretch/>
        </p:blipFill>
        <p:spPr>
          <a:xfrm>
            <a:off x="4276800" y="1936800"/>
            <a:ext cx="4567320" cy="39322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49360" y="1999800"/>
            <a:ext cx="3093840" cy="382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 punktspiegeln das Dreieck 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und seinen Umkreis K‘ am Mittelpunkt Z der Strecke 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‘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ewe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-17082" b="-24203"/>
          <a:stretch/>
        </p:blipFill>
        <p:spPr>
          <a:xfrm>
            <a:off x="4233960" y="1944720"/>
            <a:ext cx="4460760" cy="39592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49000" y="2000160"/>
            <a:ext cx="3173400" cy="398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spiegeln das Dreieck 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 und seinen Umkreis an der Geraden 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‘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K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ewe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0" r="-19822" b="-19898"/>
          <a:stretch/>
        </p:blipFill>
        <p:spPr>
          <a:xfrm>
            <a:off x="4241880" y="1978200"/>
            <a:ext cx="4567320" cy="38178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815840"/>
            <a:ext cx="3173400" cy="4545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n spiegeln wir das Dreieck 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seinen Umkreis K“ an der Mittelsenkrechten von 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nn die Spiegelung an zwei zueinander senkrechten Geraden ergibt eine Punktspiegelung am Schnittpunkt der Spiegelach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“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1=K“ denn der Mittelpunkt von K“ liegt auf der Spiegelach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eieckszentren der Schulgeometri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8199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 behandeln die ausgezeichneten Linien im Drei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tenhalbier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kelhalbier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ö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telsenk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 die damit verbundenen Dreieckszent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ewe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0" r="-19822" b="-19898"/>
          <a:stretch/>
        </p:blipFill>
        <p:spPr>
          <a:xfrm>
            <a:off x="4248000" y="1974960"/>
            <a:ext cx="4567320" cy="3817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49000" y="2126880"/>
            <a:ext cx="3174840" cy="3220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iegt auf K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 aber K“ = K1 Umkreis des Mittendreiecks 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, liegt H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f dem Umkreis K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uerbach-Kre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0" r="-28623" b="-24699"/>
          <a:stretch/>
        </p:blipFill>
        <p:spPr>
          <a:xfrm>
            <a:off x="4213080" y="1928880"/>
            <a:ext cx="4900680" cy="3998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3120" y="2084400"/>
            <a:ext cx="3068640" cy="352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gemeinsame Umkreis des Mitten-dreiecks und des Höhenfußpunktdrei-ecks ist der Feuer-bachkreis. Er wird auch Feuerbach-scher 9 Punktekreis genan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e weiteren 3 Punk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3120" y="2084400"/>
            <a:ext cx="3532320" cy="214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chnet man von den Seitenmitten M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Durchmesser zum Feuerbachkreis, so liegen die gegenüberliegenden Punkte J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den Hö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1680" y="4387680"/>
            <a:ext cx="320652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ründ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Feuerbachkreis ist Thaleskreis und das Lot ist eindeutig besti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0" t="0" r="-18087" b="-23209"/>
          <a:stretch/>
        </p:blipFill>
        <p:spPr>
          <a:xfrm>
            <a:off x="4237200" y="1920960"/>
            <a:ext cx="44989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e weiteren 3 Punk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2760" y="2084040"/>
            <a:ext cx="3373560" cy="415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Dreieck J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das an F gespiegelte Mittendreieck. Folglich sind die Seiten parallel zu denen des Dreiecks ABC und halb so l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2. Strahlensatz mit Zentrum H lässt folgern, dass dann J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itte der Strecke HX (X = A,B,C)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0" t="0" r="-19111" b="-19602"/>
          <a:stretch/>
        </p:blipFill>
        <p:spPr>
          <a:xfrm>
            <a:off x="4238640" y="1862280"/>
            <a:ext cx="45385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rcRect l="0" t="0" r="-19111" b="-19602"/>
          <a:stretch/>
        </p:blipFill>
        <p:spPr>
          <a:xfrm>
            <a:off x="4122720" y="1763640"/>
            <a:ext cx="4703760" cy="4095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uerbach-Kre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6440" y="2567160"/>
            <a:ext cx="4289400" cy="22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Mittelpunkt des Feuerbach-Kreises ist X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0480" y="3075120"/>
            <a:ext cx="146160" cy="14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77000" y="4246560"/>
            <a:ext cx="158760" cy="15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2800" y="4245120"/>
            <a:ext cx="387360" cy="522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82800" y="1722600"/>
            <a:ext cx="443808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ist noch eine kleine Sach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n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weis auf (diese) Materiali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63560" y="3017880"/>
            <a:ext cx="7953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ttp://www.mevis.de./~albers/Materialien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eieckszentren der Schulgeometri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3433680" cy="26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Schnittpunkt der Seitenhal-bierenden ergibt den Schwerpunkt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70280" y="2381400"/>
            <a:ext cx="3195720" cy="2404800"/>
            <a:chOff x="4670280" y="2381400"/>
            <a:chExt cx="3195720" cy="2404800"/>
          </a:xfrm>
        </p:grpSpPr>
        <p:sp>
          <p:nvSpPr>
            <p:cNvPr id="99" name=""/>
            <p:cNvSpPr/>
            <p:nvPr/>
          </p:nvSpPr>
          <p:spPr>
            <a:xfrm>
              <a:off x="4670280" y="4764240"/>
              <a:ext cx="22320" cy="21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42240" y="4764240"/>
              <a:ext cx="23760" cy="21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83400" y="2381400"/>
              <a:ext cx="23760" cy="21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1440" y="2392200"/>
              <a:ext cx="3171960" cy="2382840"/>
            </a:xfrm>
            <a:custGeom>
              <a:avLst/>
              <a:gdLst/>
              <a:ahLst/>
              <a:rect l="l" t="t" r="r" b="b"/>
              <a:pathLst>
                <a:path w="282" h="212">
                  <a:moveTo>
                    <a:pt x="0" y="212"/>
                  </a:moveTo>
                  <a:lnTo>
                    <a:pt x="282" y="212"/>
                  </a:lnTo>
                  <a:lnTo>
                    <a:pt x="259" y="0"/>
                  </a:lnTo>
                  <a:lnTo>
                    <a:pt x="0" y="21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32600" y="3571920"/>
              <a:ext cx="21960" cy="237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56440" y="4764240"/>
              <a:ext cx="21960" cy="21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8400" y="3571920"/>
              <a:ext cx="23760" cy="237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681440" y="3582720"/>
              <a:ext cx="3036960" cy="119196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32600" y="3583080"/>
              <a:ext cx="1720800" cy="119196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67600" y="2392200"/>
              <a:ext cx="1326960" cy="238284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94560" y="3965400"/>
              <a:ext cx="23760" cy="22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04000" y="3835440"/>
            <a:ext cx="23940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eieckszentren der Schulgeometri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3240000" cy="26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Schnittpunkt der Winkelhal-bierenden ergibt den Mittelpunkt I des Inkre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84680" y="2182680"/>
            <a:ext cx="3500640" cy="2340000"/>
            <a:chOff x="4684680" y="2182680"/>
            <a:chExt cx="3500640" cy="2340000"/>
          </a:xfrm>
        </p:grpSpPr>
        <p:sp>
          <p:nvSpPr>
            <p:cNvPr id="114" name=""/>
            <p:cNvSpPr/>
            <p:nvPr/>
          </p:nvSpPr>
          <p:spPr>
            <a:xfrm>
              <a:off x="4932360" y="4297320"/>
              <a:ext cx="22320" cy="22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39160" y="4297320"/>
              <a:ext cx="22320" cy="22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13800" y="2328840"/>
              <a:ext cx="21960" cy="22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43520" y="2340000"/>
              <a:ext cx="3106800" cy="1968480"/>
            </a:xfrm>
            <a:custGeom>
              <a:avLst/>
              <a:gdLst/>
              <a:ahLst/>
              <a:rect l="l" t="t" r="r" b="b"/>
              <a:pathLst>
                <a:path w="276" h="175">
                  <a:moveTo>
                    <a:pt x="0" y="175"/>
                  </a:moveTo>
                  <a:lnTo>
                    <a:pt x="276" y="175"/>
                  </a:lnTo>
                  <a:lnTo>
                    <a:pt x="256" y="0"/>
                  </a:lnTo>
                  <a:lnTo>
                    <a:pt x="0" y="17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684680" y="3295440"/>
              <a:ext cx="3500640" cy="1091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663880" y="2182680"/>
              <a:ext cx="2521080" cy="2238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40680" y="3589200"/>
              <a:ext cx="21960" cy="22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40680" y="4297320"/>
              <a:ext cx="21960" cy="22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31120" y="2879640"/>
              <a:ext cx="1441440" cy="1440000"/>
            </a:xfrm>
            <a:prstGeom prst="ellipse">
              <a:avLst/>
            </a:prstGeom>
            <a:noFill/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823080" y="2182680"/>
              <a:ext cx="1069920" cy="2340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0040" y="3589200"/>
              <a:ext cx="1800" cy="719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331040" y="3448080"/>
            <a:ext cx="2113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eieckszentren der Schulgeometri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3240000" cy="26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Schnittpunkt H der Hö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62640" y="4869000"/>
            <a:ext cx="21960" cy="2376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9080" y="4869000"/>
            <a:ext cx="22320" cy="2376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74080" y="2557440"/>
            <a:ext cx="21960" cy="2232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3440" y="2568600"/>
            <a:ext cx="3106800" cy="2311200"/>
          </a:xfrm>
          <a:custGeom>
            <a:avLst/>
            <a:gdLst/>
            <a:ahLst/>
            <a:rect l="l" t="t" r="r" b="b"/>
            <a:pathLst>
              <a:path w="276" h="206">
                <a:moveTo>
                  <a:pt x="0" y="206"/>
                </a:moveTo>
                <a:lnTo>
                  <a:pt x="276" y="206"/>
                </a:lnTo>
                <a:lnTo>
                  <a:pt x="232" y="0"/>
                </a:lnTo>
                <a:lnTo>
                  <a:pt x="0" y="2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96040" y="3332160"/>
            <a:ext cx="22320" cy="2232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307200" y="3331800"/>
            <a:ext cx="1373040" cy="1547640"/>
          </a:xfrm>
          <a:prstGeom prst="line">
            <a:avLst/>
          </a:prstGeom>
          <a:ln w="11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34440" y="4241880"/>
            <a:ext cx="21960" cy="2232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3440" y="4241880"/>
            <a:ext cx="2961000" cy="637920"/>
          </a:xfrm>
          <a:prstGeom prst="line">
            <a:avLst/>
          </a:prstGeom>
          <a:ln w="11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74080" y="4869000"/>
            <a:ext cx="21960" cy="2376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84880" y="2568600"/>
            <a:ext cx="1800" cy="2311200"/>
          </a:xfrm>
          <a:prstGeom prst="line">
            <a:avLst/>
          </a:prstGeom>
          <a:ln w="11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74080" y="4308480"/>
            <a:ext cx="21960" cy="2232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39280" y="4151160"/>
            <a:ext cx="2563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756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eieckszentren der Schulgeometri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3240000" cy="26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Schnittpunkt der Mittelsenk-rechten ergibt den Mittelpunkt M des Umkre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066920" y="1557000"/>
            <a:ext cx="4840200" cy="4800960"/>
            <a:chOff x="4066920" y="1557000"/>
            <a:chExt cx="4840200" cy="4800960"/>
          </a:xfrm>
        </p:grpSpPr>
        <p:sp>
          <p:nvSpPr>
            <p:cNvPr id="143" name=""/>
            <p:cNvSpPr/>
            <p:nvPr/>
          </p:nvSpPr>
          <p:spPr>
            <a:xfrm>
              <a:off x="4505400" y="4959360"/>
              <a:ext cx="28440" cy="28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12120" y="4959360"/>
              <a:ext cx="27000" cy="28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28080" y="2489040"/>
              <a:ext cx="28440" cy="2880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19440" y="2503440"/>
              <a:ext cx="3905280" cy="2470320"/>
            </a:xfrm>
            <a:custGeom>
              <a:avLst/>
              <a:gdLst/>
              <a:ahLst/>
              <a:rect l="l" t="t" r="r" b="b"/>
              <a:pathLst>
                <a:path w="276" h="175">
                  <a:moveTo>
                    <a:pt x="0" y="175"/>
                  </a:moveTo>
                  <a:lnTo>
                    <a:pt x="276" y="175"/>
                  </a:lnTo>
                  <a:lnTo>
                    <a:pt x="256" y="0"/>
                  </a:lnTo>
                  <a:lnTo>
                    <a:pt x="0" y="17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477120" y="1557000"/>
              <a:ext cx="1440" cy="4800600"/>
            </a:xfrm>
            <a:prstGeom prst="line">
              <a:avLst/>
            </a:prstGeom>
            <a:ln w="14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30840" y="1557360"/>
              <a:ext cx="3282840" cy="4800600"/>
            </a:xfrm>
            <a:prstGeom prst="line">
              <a:avLst/>
            </a:prstGeom>
            <a:ln w="14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066920" y="3670200"/>
              <a:ext cx="4840200" cy="550800"/>
            </a:xfrm>
            <a:prstGeom prst="line">
              <a:avLst/>
            </a:prstGeom>
            <a:ln w="14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1240" y="1741320"/>
              <a:ext cx="4443480" cy="4418280"/>
            </a:xfrm>
            <a:prstGeom prst="ellipse">
              <a:avLst/>
            </a:prstGeom>
            <a:noFill/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58040" y="3929040"/>
              <a:ext cx="28440" cy="28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6320" y="3889440"/>
              <a:ext cx="3081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60640" y="5145120"/>
            <a:ext cx="2422440" cy="40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m Bew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eieckszentre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682800" cy="40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noch erheb-lich mehr Zent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lark Kimberling hat eine Liste veröffentlicht http:faculty.evansville.edu/ck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mmerierung von X1 bis X3026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29.5.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51480" y="3059280"/>
            <a:ext cx="22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d mit Zent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45120" y="21700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eieckszentre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433680" cy="40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ieser Liste sind die klassischen Zentren der Schulgeometrie die Zentr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weiterung des Schulstoffes, indem man auc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hand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83000" y="2076480"/>
            <a:ext cx="526572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fff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80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schender Zuga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die vier schulischen Zentren Makros schreiben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(zur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Cabri-Datei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mit weitere, in ein Dreieck einbeschriebene (Teil-)Dreiecke bet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1:18:40Z</dcterms:created>
  <dc:creator>Reimund Albers</dc:creator>
  <dc:description/>
  <dc:language>en-US</dc:language>
  <cp:lastModifiedBy>Reimund</cp:lastModifiedBy>
  <dcterms:modified xsi:type="dcterms:W3CDTF">2005-06-26T17:58:00Z</dcterms:modified>
  <cp:revision>34</cp:revision>
  <dc:subject/>
  <dc:title>PowerPoint-Präsentation</dc:title>
</cp:coreProperties>
</file>