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1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16.png" ContentType="image/png"/>
  <Override PartName="/ppt/media/image32.wmf" ContentType="image/x-wmf"/>
  <Override PartName="/ppt/media/image12.wmf" ContentType="image/x-wmf"/>
  <Override PartName="/ppt/media/image9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8.jpeg" ContentType="image/jpeg"/>
  <Override PartName="/ppt/media/image7.wmf" ContentType="image/x-wmf"/>
  <Override PartName="/ppt/media/image37.wmf" ContentType="image/x-wmf"/>
  <Override PartName="/ppt/media/image17.png" ContentType="image/png"/>
  <Override PartName="/ppt/media/image30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3F0-0693-46C6-BDC9-DDC2FFB7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A06-3BE9-4014-80FD-B5E358D2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A05-BB31-45CC-80B6-56E7E55C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6EA-F074-457E-9AB7-35C1EC06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DD5D-2381-4B29-9CFE-E9723B38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72B1-15EC-4F80-9662-D5523131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D720-E99D-49DD-B6AC-3119F60B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5CF-389C-4ED6-B81D-099A87C3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366-DB5C-40E2-91FB-5B41BB7B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136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65BC-C1AB-45A5-86C7-D2AFBDA5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DE60-A577-4046-845F-F6C84B9F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C2F-1D3C-4A05-ADC9-B4823767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26FE-87D9-46B9-95DD-8FBCC68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C5B7-A690-4A01-964F-7BF06B7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C121-14FD-4A70-993F-A3A55418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0942-8FB1-472E-B7C5-6B58E86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44C3-ADAB-4CE1-922D-F09CBA27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959-BAD2-473B-80E6-61BEE4D7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EC1-4C63-40C6-8B2E-FFF7DE47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33A-8591-4EFA-AFA4-2D0C1F2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136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578-4800-4EC9-82BE-DA70E27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54B-76B0-4174-ACDD-032EF21A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B7B-B9EE-4ECD-B925-3137958F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01B-B82E-445F-8BD9-0EC8BF22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4D16-5BBE-4F74-8A43-AEF0FA777C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hwerin Jul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767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A93-F317-40FB-BDA4-9FC2708F2F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8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8.png"/><Relationship Id="rId46" Type="http://schemas.openxmlformats.org/officeDocument/2006/relationships/image" Target="../media/image19.png"/><Relationship Id="rId47" Type="http://schemas.openxmlformats.org/officeDocument/2006/relationships/image" Target="../media/image19.png"/><Relationship Id="rId48" Type="http://schemas.openxmlformats.org/officeDocument/2006/relationships/image" Target="../media/image19.png"/><Relationship Id="rId49" Type="http://schemas.openxmlformats.org/officeDocument/2006/relationships/image" Target="../media/image18.png"/><Relationship Id="rId50" Type="http://schemas.openxmlformats.org/officeDocument/2006/relationships/image" Target="../media/image19.png"/><Relationship Id="rId51" Type="http://schemas.openxmlformats.org/officeDocument/2006/relationships/image" Target="../media/image19.png"/><Relationship Id="rId52" Type="http://schemas.openxmlformats.org/officeDocument/2006/relationships/image" Target="../media/image19.png"/><Relationship Id="rId53" Type="http://schemas.openxmlformats.org/officeDocument/2006/relationships/image" Target="../media/image19.png"/><Relationship Id="rId54" Type="http://schemas.openxmlformats.org/officeDocument/2006/relationships/image" Target="../media/image19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9.png"/><Relationship Id="rId58" Type="http://schemas.openxmlformats.org/officeDocument/2006/relationships/image" Target="../media/image19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9.png"/><Relationship Id="rId62" Type="http://schemas.openxmlformats.org/officeDocument/2006/relationships/image" Target="../media/image19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2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mevis.de/~albers" TargetMode="External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2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79600" y="620640"/>
            <a:ext cx="4762440" cy="5079960"/>
            <a:chOff x="579600" y="620640"/>
            <a:chExt cx="4762440" cy="50799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579600" y="620640"/>
              <a:ext cx="4762440" cy="5079960"/>
            </a:xfrm>
            <a:prstGeom prst="rect">
              <a:avLst/>
            </a:prstGeom>
            <a:ln w="38160">
              <a:solidFill>
                <a:srgbClr val="d8d8ec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58880" y="800280"/>
              <a:ext cx="3573360" cy="3811320"/>
            </a:xfrm>
            <a:prstGeom prst="rect">
              <a:avLst/>
            </a:prstGeom>
            <a:ln w="38160">
              <a:solidFill>
                <a:srgbClr val="d8d8ec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938160" y="979560"/>
              <a:ext cx="2678040" cy="2855880"/>
            </a:xfrm>
            <a:prstGeom prst="rect">
              <a:avLst/>
            </a:prstGeom>
            <a:ln w="38160">
              <a:solidFill>
                <a:srgbClr val="d8d8ec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17800" y="1158840"/>
              <a:ext cx="2008080" cy="2141640"/>
            </a:xfrm>
            <a:prstGeom prst="rect">
              <a:avLst/>
            </a:prstGeom>
            <a:ln w="38160">
              <a:solidFill>
                <a:srgbClr val="d8d8ec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1297080" y="1338480"/>
              <a:ext cx="1504800" cy="1604880"/>
            </a:xfrm>
            <a:prstGeom prst="rect">
              <a:avLst/>
            </a:prstGeom>
            <a:ln w="38160">
              <a:solidFill>
                <a:srgbClr val="d8d8ec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320" y="1944720"/>
            <a:ext cx="5257800" cy="782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Ite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01520" y="4327200"/>
            <a:ext cx="5257800" cy="579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e Sicht auf alte Th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onacci-Zah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perimentieren mit Variati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Startzahlen, z.B.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4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rade, ungerade, gerade, ungerade, ungerade, gerade, 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ifferenzen reproduzieren die Zahlenfol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+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Rechenarten untersuc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traktion: 1, 2, -1, 3, -4, 7, -11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kation: 2, 3, 6, 18, 108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28960" y="3882960"/>
            <a:ext cx="457380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N+1 -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 berühmtes Beispiel für das Experimentieren mit Iterati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1280" y="3573360"/>
          <a:ext cx="374472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73360"/>
                    <a:ext cx="37447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72000" y="1700280"/>
          <a:ext cx="4010040" cy="4105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700280"/>
                    <a:ext cx="4010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539640" y="51307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, 4, 2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678640"/>
            <a:ext cx="37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, 10, 5, 16, 8, 4, 2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N+1 -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8565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87280" y="5661000"/>
            <a:ext cx="72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Arial"/>
              </a:rPr>
              <a:t>Mit „when“ gibt man einfache Abfragen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Arial"/>
              </a:rPr>
              <a:t>(abschnittsweise definierte Funktio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20800" y="3429000"/>
            <a:ext cx="522792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4902120" cy="4526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delbrot-M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6920" y="1628640"/>
            <a:ext cx="7490160" cy="1800360"/>
            <a:chOff x="826920" y="1628640"/>
            <a:chExt cx="7490160" cy="1800360"/>
          </a:xfrm>
        </p:grpSpPr>
        <p:sp>
          <p:nvSpPr>
            <p:cNvPr id="151" name=""/>
            <p:cNvSpPr/>
            <p:nvPr/>
          </p:nvSpPr>
          <p:spPr>
            <a:xfrm>
              <a:off x="826920" y="2205000"/>
              <a:ext cx="74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27280" y="1628640"/>
              <a:ext cx="4032360" cy="115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43280" y="1700280"/>
              <a:ext cx="35290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de-DE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= z</a:t>
              </a:r>
              <a:r>
                <a:rPr b="0" lang="de-DE" sz="28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r>
                <a:rPr b="0" lang="de-DE" sz="2800" spc="-1" strike="noStrike" baseline="5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+ 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6920" y="1963800"/>
              <a:ext cx="936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1640" y="1989000"/>
              <a:ext cx="8654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85080" y="249228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58560" y="3429000"/>
              <a:ext cx="64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258920" y="24919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43280" y="234936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chnung in </a:t>
              </a:r>
              <a:r>
                <a:rPr b="0" lang="en-US" sz="2800" spc="-1" strike="noStrike">
                  <a:solidFill>
                    <a:srgbClr val="000000"/>
                  </a:solidFill>
                  <a:latin typeface="Euclid Math Two"/>
                  <a:ea typeface="Euclid Math Two"/>
                </a:rPr>
                <a:t>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11280" y="4653000"/>
            <a:ext cx="3527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st z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nach N Iterationen unter einer bestimmten Schranke, so färbe c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2440" cy="5079960"/>
          </a:xfrm>
          <a:prstGeom prst="rect">
            <a:avLst/>
          </a:prstGeom>
          <a:ln w="38160">
            <a:solidFill>
              <a:srgbClr val="d8d8e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3225960"/>
            <a:ext cx="2949480" cy="2697120"/>
          </a:xfrm>
          <a:prstGeom prst="rect">
            <a:avLst/>
          </a:prstGeom>
          <a:ln w="38160">
            <a:solidFill>
              <a:srgbClr val="d8d8e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3" name=""/>
          <p:cNvSpPr/>
          <p:nvPr/>
        </p:nvSpPr>
        <p:spPr>
          <a:xfrm>
            <a:off x="5106240" y="128520"/>
            <a:ext cx="26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aise 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02200" y="54468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23 - 16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9120" y="33368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6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70028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s Pascals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rei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9851600">
            <a:off x="4264200" y="455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851600">
            <a:off x="3962160" y="977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851600">
            <a:off x="4559040" y="977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851600">
            <a:off x="4276800" y="1509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851600">
            <a:off x="3974760" y="2031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851600">
            <a:off x="4571640" y="2031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851600">
            <a:off x="4863960" y="1511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851600">
            <a:off x="3683160" y="1511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851600">
            <a:off x="5168880" y="204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851600">
            <a:off x="3377880" y="2018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9851600">
            <a:off x="3083040" y="2538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9851600">
            <a:off x="2781360" y="3060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51600">
            <a:off x="3378240" y="3060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851600">
            <a:off x="3095280" y="359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9851600">
            <a:off x="2793960" y="411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9851600">
            <a:off x="3390840" y="411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9851600">
            <a:off x="3683160" y="3594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9851600">
            <a:off x="2502000" y="3594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9851600">
            <a:off x="3987360" y="4127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9851600">
            <a:off x="2197080" y="4102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851600">
            <a:off x="5457600" y="2577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9851600">
            <a:off x="5155920" y="309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9851600">
            <a:off x="5752800" y="309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9851600">
            <a:off x="5457600" y="36316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9851600">
            <a:off x="5168520" y="415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9851600">
            <a:off x="5765400" y="415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851600">
            <a:off x="6058080" y="3633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851600">
            <a:off x="4863960" y="362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851600">
            <a:off x="6362640" y="4167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9851600">
            <a:off x="4572000" y="4141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9851600">
            <a:off x="4276800" y="256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851600">
            <a:off x="3975120" y="3086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9851600">
            <a:off x="4572000" y="3086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9851600">
            <a:off x="4863960" y="2565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9851600">
            <a:off x="3670200" y="2552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9851600">
            <a:off x="4280040" y="3606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9851600">
            <a:off x="2489040" y="463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9851600">
            <a:off x="3086280" y="463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9851600">
            <a:off x="3682800" y="4646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51600">
            <a:off x="1892160" y="4621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9851600">
            <a:off x="4863600" y="4673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851600">
            <a:off x="5460480" y="4673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9851600">
            <a:off x="6058080" y="4686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9851600">
            <a:off x="4267080" y="4660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9851600">
            <a:off x="2196720" y="5154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9851600">
            <a:off x="2793600" y="5154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9851600">
            <a:off x="3390840" y="5167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9851600">
            <a:off x="1600200" y="5141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9851600">
            <a:off x="4572000" y="51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851600">
            <a:off x="5168880" y="51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851600">
            <a:off x="5765760" y="52070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851600">
            <a:off x="3974760" y="5181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851600">
            <a:off x="1891800" y="566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9851600">
            <a:off x="2488680" y="566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9851600">
            <a:off x="3086280" y="5675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9851600">
            <a:off x="1294920" y="5649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9851600">
            <a:off x="4267080" y="5702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9851600">
            <a:off x="4863960" y="5702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9851600">
            <a:off x="5460840" y="5715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851600">
            <a:off x="3669840" y="5689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851600">
            <a:off x="6058080" y="5740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9851600">
            <a:off x="6654960" y="5740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851600">
            <a:off x="7251840" y="5753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9851600">
            <a:off x="6350040" y="52070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851600">
            <a:off x="6946560" y="52192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9851600">
            <a:off x="6642000" y="4711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rot="19851600">
            <a:off x="4264200" y="455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9851600">
            <a:off x="3962160" y="977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9851600">
            <a:off x="4559040" y="977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851600">
            <a:off x="4276800" y="1509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851600">
            <a:off x="3974760" y="2031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851600">
            <a:off x="4571640" y="2031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851600">
            <a:off x="4863960" y="1511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851600">
            <a:off x="3683160" y="1511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851600">
            <a:off x="5168880" y="204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851600">
            <a:off x="3377880" y="2018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851600">
            <a:off x="3083040" y="2538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9851600">
            <a:off x="2781360" y="3060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9851600">
            <a:off x="3378240" y="3060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9851600">
            <a:off x="3095280" y="359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9851600">
            <a:off x="2793960" y="411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9851600">
            <a:off x="3390840" y="411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851600">
            <a:off x="3683160" y="3594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851600">
            <a:off x="2502000" y="3594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9851600">
            <a:off x="3987360" y="4127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9851600">
            <a:off x="2197080" y="4102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9851600">
            <a:off x="5457600" y="2577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9851600">
            <a:off x="5155920" y="309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9851600">
            <a:off x="5752800" y="309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9851600">
            <a:off x="5457600" y="36316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9851600">
            <a:off x="5168520" y="415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9851600">
            <a:off x="5765400" y="415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851600">
            <a:off x="6058080" y="3633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851600">
            <a:off x="4863960" y="362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9851600">
            <a:off x="6362640" y="4167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9851600">
            <a:off x="4572000" y="4141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9851600">
            <a:off x="4276800" y="256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851600">
            <a:off x="3975120" y="3086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9851600">
            <a:off x="4572000" y="3086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9851600">
            <a:off x="4863960" y="2565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9851600">
            <a:off x="3670200" y="2552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9851600">
            <a:off x="4280040" y="3606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851600">
            <a:off x="2489040" y="463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9851600">
            <a:off x="3086280" y="463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9851600">
            <a:off x="3682800" y="4646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9851600">
            <a:off x="1892160" y="4621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9851600">
            <a:off x="4863600" y="4673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9851600">
            <a:off x="5460480" y="4673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9851600">
            <a:off x="6058080" y="4686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9851600">
            <a:off x="4267080" y="4660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9851600">
            <a:off x="2196720" y="5154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9851600">
            <a:off x="2793600" y="5154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9851600">
            <a:off x="3390840" y="5167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9851600">
            <a:off x="1600200" y="5141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9851600">
            <a:off x="4572000" y="51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9851600">
            <a:off x="5168880" y="51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9851600">
            <a:off x="5765760" y="52070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9851600">
            <a:off x="3974760" y="5181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9851600">
            <a:off x="1891800" y="566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9851600">
            <a:off x="2488680" y="566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9851600">
            <a:off x="3086280" y="5675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9851600">
            <a:off x="1294920" y="5649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9851600">
            <a:off x="4267080" y="5702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9851600">
            <a:off x="4863960" y="5702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9851600">
            <a:off x="5460840" y="5715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9851600">
            <a:off x="3669840" y="5689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9851600">
            <a:off x="6058080" y="5740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9851600">
            <a:off x="6654960" y="5740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851600">
            <a:off x="7251840" y="5753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9851600">
            <a:off x="6350040" y="52070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9851600">
            <a:off x="6946560" y="52192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9851600">
            <a:off x="6642000" y="4711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381560" y="1396800"/>
            <a:ext cx="457200" cy="228960"/>
            <a:chOff x="4381560" y="1396800"/>
            <a:chExt cx="457200" cy="228960"/>
          </a:xfrm>
        </p:grpSpPr>
        <p:sp>
          <p:nvSpPr>
            <p:cNvPr id="300" name=""/>
            <p:cNvSpPr/>
            <p:nvPr/>
          </p:nvSpPr>
          <p:spPr>
            <a:xfrm>
              <a:off x="4381560" y="139716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0160" y="139680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19851600">
            <a:off x="4264200" y="455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9851600">
            <a:off x="3962160" y="977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9851600">
            <a:off x="4559040" y="977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9851600">
            <a:off x="4276800" y="1509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9851600">
            <a:off x="3974760" y="2031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9851600">
            <a:off x="4571640" y="2031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9851600">
            <a:off x="4863960" y="1511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9851600">
            <a:off x="3683160" y="1511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9851600">
            <a:off x="5168880" y="204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9851600">
            <a:off x="3377880" y="2018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9851600">
            <a:off x="3083040" y="2538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9851600">
            <a:off x="2781360" y="3060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9851600">
            <a:off x="3378240" y="3060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851600">
            <a:off x="3095280" y="359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851600">
            <a:off x="2793960" y="411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851600">
            <a:off x="3390840" y="411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851600">
            <a:off x="3683160" y="3594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851600">
            <a:off x="2502000" y="3594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851600">
            <a:off x="3987360" y="4127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9851600">
            <a:off x="2197080" y="4102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9851600">
            <a:off x="5457600" y="2577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9851600">
            <a:off x="5155920" y="309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9851600">
            <a:off x="5752800" y="309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9851600">
            <a:off x="5457600" y="36316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851600">
            <a:off x="5168520" y="415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9851600">
            <a:off x="5765400" y="415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9851600">
            <a:off x="6058080" y="3633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9851600">
            <a:off x="4863960" y="362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9851600">
            <a:off x="6362640" y="4167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851600">
            <a:off x="4572000" y="4141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9851600">
            <a:off x="4276800" y="256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9851600">
            <a:off x="3975120" y="3086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9851600">
            <a:off x="4572000" y="3086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9851600">
            <a:off x="4863960" y="2565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9851600">
            <a:off x="3670200" y="2552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9851600">
            <a:off x="4280040" y="3606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9851600">
            <a:off x="2489040" y="463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9851600">
            <a:off x="3086280" y="4633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9851600">
            <a:off x="3682800" y="4646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9851600">
            <a:off x="1892160" y="4621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9851600">
            <a:off x="4863600" y="4673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9851600">
            <a:off x="5460480" y="4673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9851600">
            <a:off x="6058080" y="4686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9851600">
            <a:off x="4267080" y="4660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9851600">
            <a:off x="2196720" y="5154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9851600">
            <a:off x="2793600" y="5154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9851600">
            <a:off x="3390840" y="5167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9851600">
            <a:off x="1600200" y="5141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9851600">
            <a:off x="4572000" y="51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9851600">
            <a:off x="5168880" y="51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9851600">
            <a:off x="5765760" y="52070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9851600">
            <a:off x="3974760" y="5181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9851600">
            <a:off x="1891800" y="566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9851600">
            <a:off x="2488680" y="5662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851600">
            <a:off x="3086280" y="5675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9851600">
            <a:off x="1294920" y="5649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9851600">
            <a:off x="4267080" y="5702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9851600">
            <a:off x="4863960" y="5702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851600">
            <a:off x="5460840" y="5715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9851600">
            <a:off x="3669840" y="5689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9851600">
            <a:off x="6058080" y="5740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851600">
            <a:off x="6654960" y="5740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9851600">
            <a:off x="7251840" y="5753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9851600">
            <a:off x="6350040" y="52070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9851600">
            <a:off x="6946560" y="52192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851600">
            <a:off x="6642000" y="4711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81560" y="1396800"/>
            <a:ext cx="457200" cy="228960"/>
            <a:chOff x="4381560" y="1396800"/>
            <a:chExt cx="457200" cy="228960"/>
          </a:xfrm>
        </p:grpSpPr>
        <p:sp>
          <p:nvSpPr>
            <p:cNvPr id="369" name=""/>
            <p:cNvSpPr/>
            <p:nvPr/>
          </p:nvSpPr>
          <p:spPr>
            <a:xfrm>
              <a:off x="4381560" y="139716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610160" y="139680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699080" y="1980720"/>
            <a:ext cx="457200" cy="228960"/>
            <a:chOff x="4699080" y="1980720"/>
            <a:chExt cx="457200" cy="228960"/>
          </a:xfrm>
        </p:grpSpPr>
        <p:sp>
          <p:nvSpPr>
            <p:cNvPr id="372" name=""/>
            <p:cNvSpPr/>
            <p:nvPr/>
          </p:nvSpPr>
          <p:spPr>
            <a:xfrm>
              <a:off x="4699080" y="19810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27680" y="198072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089240" y="1980720"/>
            <a:ext cx="457200" cy="228960"/>
            <a:chOff x="4089240" y="1980720"/>
            <a:chExt cx="457200" cy="228960"/>
          </a:xfrm>
        </p:grpSpPr>
        <p:sp>
          <p:nvSpPr>
            <p:cNvPr id="375" name=""/>
            <p:cNvSpPr/>
            <p:nvPr/>
          </p:nvSpPr>
          <p:spPr>
            <a:xfrm>
              <a:off x="4089240" y="19810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317840" y="198072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394160" y="2476080"/>
            <a:ext cx="457200" cy="228960"/>
            <a:chOff x="4394160" y="2476080"/>
            <a:chExt cx="457200" cy="228960"/>
          </a:xfrm>
        </p:grpSpPr>
        <p:sp>
          <p:nvSpPr>
            <p:cNvPr id="378" name=""/>
            <p:cNvSpPr/>
            <p:nvPr/>
          </p:nvSpPr>
          <p:spPr>
            <a:xfrm>
              <a:off x="4394160" y="247644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622760" y="24760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797280" y="2476080"/>
            <a:ext cx="457200" cy="228960"/>
            <a:chOff x="3797280" y="2476080"/>
            <a:chExt cx="457200" cy="228960"/>
          </a:xfrm>
        </p:grpSpPr>
        <p:sp>
          <p:nvSpPr>
            <p:cNvPr id="381" name=""/>
            <p:cNvSpPr/>
            <p:nvPr/>
          </p:nvSpPr>
          <p:spPr>
            <a:xfrm>
              <a:off x="3797280" y="247644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025880" y="24760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991040" y="2488680"/>
            <a:ext cx="457200" cy="228960"/>
            <a:chOff x="4991040" y="2488680"/>
            <a:chExt cx="457200" cy="228960"/>
          </a:xfrm>
        </p:grpSpPr>
        <p:sp>
          <p:nvSpPr>
            <p:cNvPr id="384" name=""/>
            <p:cNvSpPr/>
            <p:nvPr/>
          </p:nvSpPr>
          <p:spPr>
            <a:xfrm>
              <a:off x="4991040" y="248904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219640" y="248868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19851600">
            <a:off x="3044880" y="1928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9851600">
            <a:off x="2743200" y="245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9851600">
            <a:off x="3340080" y="245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851600">
            <a:off x="2146320" y="3479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9851600">
            <a:off x="1863360" y="4011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851600">
            <a:off x="1561680" y="4533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851600">
            <a:off x="2158560" y="4533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851600">
            <a:off x="2451240" y="4013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851600">
            <a:off x="2755440" y="4546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851600">
            <a:off x="3924000" y="35190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9851600">
            <a:off x="4226040" y="4051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9851600">
            <a:off x="3936600" y="4573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9851600">
            <a:off x="4533480" y="4573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9851600">
            <a:off x="3632040" y="4040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9851600">
            <a:off x="3340080" y="4560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851600">
            <a:off x="3044880" y="2982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851600">
            <a:off x="2743200" y="3505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851600">
            <a:off x="3340080" y="3505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9851600">
            <a:off x="3631680" y="298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9851600">
            <a:off x="2438280" y="2971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9851600">
            <a:off x="3048120" y="4025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9851600">
            <a:off x="1257480" y="5052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9851600">
            <a:off x="1854360" y="5052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851600">
            <a:off x="2450880" y="5065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9851600">
            <a:off x="3631680" y="5092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9851600">
            <a:off x="4228920" y="5092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9851600">
            <a:off x="4826160" y="51055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9851600">
            <a:off x="3035160" y="5079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9851600">
            <a:off x="965160" y="5573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9851600">
            <a:off x="1562040" y="5573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9851600">
            <a:off x="2158920" y="5586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9851600">
            <a:off x="3340080" y="5613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851600">
            <a:off x="3936960" y="5613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9851600">
            <a:off x="4533840" y="56260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851600">
            <a:off x="2743200" y="5600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851600">
            <a:off x="660240" y="6081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851600">
            <a:off x="1257480" y="6081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851600">
            <a:off x="1854360" y="60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-41760" y="746280"/>
            <a:ext cx="3864960" cy="6060960"/>
            <a:chOff x="-41760" y="746280"/>
            <a:chExt cx="3864960" cy="6060960"/>
          </a:xfrm>
        </p:grpSpPr>
        <p:sp>
          <p:nvSpPr>
            <p:cNvPr id="425" name=""/>
            <p:cNvSpPr/>
            <p:nvPr/>
          </p:nvSpPr>
          <p:spPr>
            <a:xfrm rot="19851600">
              <a:off x="3032280" y="87480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9851600">
              <a:off x="2730600" y="139716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9851600">
              <a:off x="2450880" y="192996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9851600">
              <a:off x="2145960" y="243792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9851600">
              <a:off x="1850760" y="295704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9851600">
              <a:off x="1549440" y="347976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9851600">
              <a:off x="1270080" y="401328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851600">
              <a:off x="965160" y="452124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9851600">
              <a:off x="660240" y="504036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9851600">
              <a:off x="367920" y="556056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9851600">
              <a:off x="63000" y="606852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rot="19851600">
            <a:off x="3035160" y="6121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851600">
            <a:off x="3632040" y="6121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9851600">
            <a:off x="4228920" y="61336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9851600">
            <a:off x="2438280" y="6108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9851600">
            <a:off x="4826160" y="6159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9851600">
            <a:off x="5423040" y="6159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9851600">
            <a:off x="5118120" y="56260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9851600">
            <a:off x="3327480" y="1397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9851600">
            <a:off x="3631680" y="192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9851600">
            <a:off x="3936960" y="2463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9851600">
            <a:off x="4226040" y="2997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9851600">
            <a:off x="4520880" y="35190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9851600">
            <a:off x="4826160" y="4052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9851600">
            <a:off x="5130720" y="4586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9851600">
            <a:off x="6019920" y="6172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9851600">
            <a:off x="5714640" y="56383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9851600">
            <a:off x="5409720" y="5130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68920" y="76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Koordinaten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und Reku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493440" y="0"/>
            <a:ext cx="2143440" cy="3429000"/>
            <a:chOff x="3493440" y="0"/>
            <a:chExt cx="2143440" cy="3429000"/>
          </a:xfrm>
        </p:grpSpPr>
        <p:sp>
          <p:nvSpPr>
            <p:cNvPr id="455" name=""/>
            <p:cNvSpPr/>
            <p:nvPr/>
          </p:nvSpPr>
          <p:spPr>
            <a:xfrm flipV="1">
              <a:off x="3581280" y="457200"/>
              <a:ext cx="22860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886200" y="914400"/>
              <a:ext cx="22860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191120" y="1447920"/>
              <a:ext cx="22860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495680" y="1980720"/>
              <a:ext cx="228600" cy="38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4800600" y="2514600"/>
              <a:ext cx="22860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105520" y="3048120"/>
              <a:ext cx="22860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93440" y="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k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38840" y="457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43760" y="99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48320" y="1523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8720" y="2057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58160" y="2590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7467480" y="175248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33520" y="166680"/>
            <a:ext cx="2286000" cy="3949560"/>
            <a:chOff x="533520" y="166680"/>
            <a:chExt cx="2286000" cy="3949560"/>
          </a:xfrm>
        </p:grpSpPr>
        <p:sp>
          <p:nvSpPr>
            <p:cNvPr id="469" name=""/>
            <p:cNvSpPr/>
            <p:nvPr/>
          </p:nvSpPr>
          <p:spPr>
            <a:xfrm>
              <a:off x="1066680" y="1089000"/>
              <a:ext cx="1752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66680" y="1622520"/>
              <a:ext cx="1524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66680" y="2230560"/>
              <a:ext cx="1219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66680" y="2763720"/>
              <a:ext cx="914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5320" y="828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5320" y="1362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5320" y="1971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5320" y="2505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66680" y="3321000"/>
              <a:ext cx="609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3520" y="3062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66680" y="3854520"/>
              <a:ext cx="381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5320" y="3595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166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401880" y="1157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(n,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52280" y="207000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n+1,k)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02920" y="2070000"/>
            <a:ext cx="11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n,k)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02920" y="20700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n,k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45200" y="24512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n,0)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50240" y="283212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n,n)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9851600">
            <a:off x="3034800" y="2976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9851600">
            <a:off x="3335040" y="24458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19851600">
            <a:off x="2725200" y="24616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-36720" y="751320"/>
            <a:ext cx="3864240" cy="6060600"/>
            <a:chOff x="-36720" y="751320"/>
            <a:chExt cx="3864240" cy="6060600"/>
          </a:xfrm>
        </p:grpSpPr>
        <p:sp>
          <p:nvSpPr>
            <p:cNvPr id="492" name=""/>
            <p:cNvSpPr/>
            <p:nvPr/>
          </p:nvSpPr>
          <p:spPr>
            <a:xfrm rot="19851600">
              <a:off x="3036960" y="879480"/>
              <a:ext cx="685440" cy="609480"/>
            </a:xfrm>
            <a:prstGeom prst="hexagon">
              <a:avLst>
                <a:gd name="adj" fmla="val 28116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9851600">
              <a:off x="2735280" y="1401840"/>
              <a:ext cx="685440" cy="609480"/>
            </a:xfrm>
            <a:prstGeom prst="hexagon">
              <a:avLst>
                <a:gd name="adj" fmla="val 28116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51600">
              <a:off x="2455560" y="1935000"/>
              <a:ext cx="685440" cy="609840"/>
            </a:xfrm>
            <a:prstGeom prst="hexagon">
              <a:avLst>
                <a:gd name="adj" fmla="val 28099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9851600">
              <a:off x="2150640" y="2442960"/>
              <a:ext cx="685440" cy="609840"/>
            </a:xfrm>
            <a:prstGeom prst="hexagon">
              <a:avLst>
                <a:gd name="adj" fmla="val 28099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9851600">
              <a:off x="1855440" y="2962080"/>
              <a:ext cx="685440" cy="609840"/>
            </a:xfrm>
            <a:prstGeom prst="hexagon">
              <a:avLst>
                <a:gd name="adj" fmla="val 28099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9851600">
              <a:off x="1554120" y="3484440"/>
              <a:ext cx="685440" cy="609480"/>
            </a:xfrm>
            <a:prstGeom prst="hexagon">
              <a:avLst>
                <a:gd name="adj" fmla="val 28116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9851600">
              <a:off x="1274760" y="4017960"/>
              <a:ext cx="685440" cy="609480"/>
            </a:xfrm>
            <a:prstGeom prst="hexagon">
              <a:avLst>
                <a:gd name="adj" fmla="val 28116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9851600">
              <a:off x="969840" y="4525920"/>
              <a:ext cx="685440" cy="609480"/>
            </a:xfrm>
            <a:prstGeom prst="hexagon">
              <a:avLst>
                <a:gd name="adj" fmla="val 28116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9851600">
              <a:off x="664920" y="5045040"/>
              <a:ext cx="685440" cy="609480"/>
            </a:xfrm>
            <a:prstGeom prst="hexagon">
              <a:avLst>
                <a:gd name="adj" fmla="val 28116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9851600">
              <a:off x="372600" y="5565600"/>
              <a:ext cx="685440" cy="609840"/>
            </a:xfrm>
            <a:prstGeom prst="hexagon">
              <a:avLst>
                <a:gd name="adj" fmla="val 28099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9851600">
              <a:off x="68040" y="6073560"/>
              <a:ext cx="685440" cy="609840"/>
            </a:xfrm>
            <a:prstGeom prst="hexagon">
              <a:avLst>
                <a:gd name="adj" fmla="val 28099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227400" y="1273320"/>
            <a:ext cx="3588120" cy="5641920"/>
            <a:chOff x="3227400" y="1273320"/>
            <a:chExt cx="3588120" cy="5641920"/>
          </a:xfrm>
        </p:grpSpPr>
        <p:sp>
          <p:nvSpPr>
            <p:cNvPr id="504" name=""/>
            <p:cNvSpPr/>
            <p:nvPr/>
          </p:nvSpPr>
          <p:spPr>
            <a:xfrm rot="19851600">
              <a:off x="3332160" y="140184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9851600">
              <a:off x="3637080" y="193536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9851600">
              <a:off x="3941280" y="246816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9851600">
              <a:off x="4230720" y="300204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9851600">
              <a:off x="4525920" y="352440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9851600">
              <a:off x="4830480" y="405720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9851600">
              <a:off x="5135760" y="459108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851600">
              <a:off x="6024240" y="617652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851600">
              <a:off x="5719680" y="564372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851600">
              <a:off x="5415120" y="513576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697200" y="1143000"/>
            <a:ext cx="5091120" cy="265356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Werfe m Münzen gleichzeit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Was ist die Wahrscheinlichke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ass m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 Kopf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u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m-k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rhäl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990720" y="2286000"/>
            <a:ext cx="1020600" cy="996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990720" y="1676520"/>
            <a:ext cx="1033200" cy="1017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1401840" y="3595680"/>
            <a:ext cx="1020600" cy="9968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1676520" y="1600200"/>
            <a:ext cx="1020600" cy="9968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>
            <a:lum bright="36000"/>
          </a:blip>
          <a:stretch/>
        </p:blipFill>
        <p:spPr>
          <a:xfrm>
            <a:off x="1600200" y="1143000"/>
            <a:ext cx="1036800" cy="1017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>
            <a:lum bright="36000"/>
          </a:blip>
          <a:stretch/>
        </p:blipFill>
        <p:spPr>
          <a:xfrm>
            <a:off x="441360" y="3048120"/>
            <a:ext cx="1033560" cy="1017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7">
            <a:lum bright="36000"/>
          </a:blip>
          <a:stretch/>
        </p:blipFill>
        <p:spPr>
          <a:xfrm>
            <a:off x="2941560" y="4022640"/>
            <a:ext cx="1020960" cy="9972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8">
            <a:lum bright="36000"/>
          </a:blip>
          <a:stretch/>
        </p:blipFill>
        <p:spPr>
          <a:xfrm>
            <a:off x="824040" y="3809880"/>
            <a:ext cx="1033200" cy="10177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9">
            <a:lum bright="36000"/>
          </a:blip>
          <a:stretch/>
        </p:blipFill>
        <p:spPr>
          <a:xfrm>
            <a:off x="198360" y="2163600"/>
            <a:ext cx="1020960" cy="9972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0">
            <a:lum bright="36000"/>
          </a:blip>
          <a:stretch/>
        </p:blipFill>
        <p:spPr>
          <a:xfrm>
            <a:off x="1828800" y="5029200"/>
            <a:ext cx="1036800" cy="1017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1">
            <a:lum bright="36000"/>
          </a:blip>
          <a:stretch/>
        </p:blipFill>
        <p:spPr>
          <a:xfrm>
            <a:off x="1967040" y="2712960"/>
            <a:ext cx="1017360" cy="998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12">
            <a:lum bright="36000"/>
          </a:blip>
          <a:stretch/>
        </p:blipFill>
        <p:spPr>
          <a:xfrm>
            <a:off x="1662120" y="2224080"/>
            <a:ext cx="1017720" cy="10018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13">
            <a:lum bright="36000"/>
          </a:blip>
          <a:stretch/>
        </p:blipFill>
        <p:spPr>
          <a:xfrm>
            <a:off x="304920" y="1295280"/>
            <a:ext cx="1017360" cy="10018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14">
            <a:lum bright="36000"/>
          </a:blip>
          <a:stretch/>
        </p:blipFill>
        <p:spPr>
          <a:xfrm>
            <a:off x="2362320" y="2987640"/>
            <a:ext cx="1017360" cy="9986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5">
            <a:lum bright="36000"/>
          </a:blip>
          <a:stretch/>
        </p:blipFill>
        <p:spPr>
          <a:xfrm>
            <a:off x="2362320" y="838080"/>
            <a:ext cx="1036440" cy="10177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6">
            <a:lum bright="36000"/>
          </a:blip>
          <a:stretch/>
        </p:blipFill>
        <p:spPr>
          <a:xfrm>
            <a:off x="5089680" y="4667400"/>
            <a:ext cx="1020600" cy="1001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7">
            <a:lum bright="36000"/>
          </a:blip>
          <a:stretch/>
        </p:blipFill>
        <p:spPr>
          <a:xfrm>
            <a:off x="152280" y="4560840"/>
            <a:ext cx="1020960" cy="10018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8">
            <a:lum bright="36000"/>
          </a:blip>
          <a:stretch/>
        </p:blipFill>
        <p:spPr>
          <a:xfrm>
            <a:off x="1219320" y="4572000"/>
            <a:ext cx="1020600" cy="10018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9">
            <a:lum bright="36000"/>
          </a:blip>
          <a:stretch/>
        </p:blipFill>
        <p:spPr>
          <a:xfrm>
            <a:off x="2286000" y="4572000"/>
            <a:ext cx="1020600" cy="1001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0">
            <a:lum bright="36000"/>
          </a:blip>
          <a:stretch/>
        </p:blipFill>
        <p:spPr>
          <a:xfrm>
            <a:off x="3521160" y="4876920"/>
            <a:ext cx="1036440" cy="1017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1">
            <a:lum bright="36000"/>
          </a:blip>
          <a:stretch/>
        </p:blipFill>
        <p:spPr>
          <a:xfrm>
            <a:off x="3703680" y="4011480"/>
            <a:ext cx="1020600" cy="10018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2">
            <a:lum bright="36000"/>
          </a:blip>
          <a:stretch/>
        </p:blipFill>
        <p:spPr>
          <a:xfrm>
            <a:off x="4343400" y="4575240"/>
            <a:ext cx="1036800" cy="1017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3">
            <a:lum bright="36000"/>
          </a:blip>
          <a:stretch/>
        </p:blipFill>
        <p:spPr>
          <a:xfrm>
            <a:off x="5699160" y="4800600"/>
            <a:ext cx="1020600" cy="10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1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It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378936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357720"/>
            <a:ext cx="15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3213000"/>
                <a:ext cx="12034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60800" y="3213000"/>
                <a:ext cx="169884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2627280" y="3193920"/>
            <a:ext cx="4032360" cy="1152720"/>
            <a:chOff x="2627280" y="3193920"/>
            <a:chExt cx="4032360" cy="1152720"/>
          </a:xfrm>
        </p:grpSpPr>
        <p:sp>
          <p:nvSpPr>
            <p:cNvPr id="97" name=""/>
            <p:cNvSpPr/>
            <p:nvPr/>
          </p:nvSpPr>
          <p:spPr>
            <a:xfrm>
              <a:off x="2627280" y="3193920"/>
              <a:ext cx="4032360" cy="115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3280" y="3338640"/>
              <a:ext cx="35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meln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rechnung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121520" y="3193920"/>
                <a:ext cx="16984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13873E-006 L 0.25191 -2.13873E-006 E">
                                      <p:cBhvr>
                                        <p:cTn id="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13873E-006 L 0.25191 -2.13873E-006 E">
                                      <p:cBhvr>
                                        <p:cTn id="2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L 0.00261 0.28704 L -0.7342 0.28704 L -0.7375 -0.00069 E">
                                      <p:cBhvr>
                                        <p:cTn id="30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3897360" y="307800"/>
            <a:ext cx="4925880" cy="5102280"/>
            <a:chOff x="3897360" y="307800"/>
            <a:chExt cx="4925880" cy="5102280"/>
          </a:xfrm>
        </p:grpSpPr>
        <p:sp>
          <p:nvSpPr>
            <p:cNvPr id="539" name=""/>
            <p:cNvSpPr/>
            <p:nvPr/>
          </p:nvSpPr>
          <p:spPr>
            <a:xfrm>
              <a:off x="3897360" y="700200"/>
              <a:ext cx="4925880" cy="4709880"/>
            </a:xfrm>
            <a:prstGeom prst="roundRect">
              <a:avLst>
                <a:gd name="adj" fmla="val 13921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63636"/>
                </a:gs>
              </a:gsLst>
              <a:lin ang="10800000"/>
            </a:gra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31240" y="307800"/>
              <a:ext cx="3568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9999"/>
                  </a:solidFill>
                  <a:latin typeface="Arial"/>
                </a:rPr>
                <a:t>8 </a:t>
              </a:r>
              <a:r>
                <a:rPr b="0" lang="de-DE" sz="2200" spc="-1" strike="noStrike">
                  <a:solidFill>
                    <a:srgbClr val="009999"/>
                  </a:solidFill>
                  <a:latin typeface="Arial"/>
                </a:rPr>
                <a:t>mögliche Konfiguration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>
            <a:hlinkClick r:id="" action="ppaction://hlinkshowjump?jump=endshow"/>
          </p:cNvPr>
          <p:cNvSpPr/>
          <p:nvPr/>
        </p:nvSpPr>
        <p:spPr>
          <a:xfrm>
            <a:off x="546120" y="6572160"/>
            <a:ext cx="533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2280" y="1371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</a:rPr>
              <a:t>Werf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 3 </a:t>
            </a: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</a:rPr>
              <a:t>Mü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99"/>
                </a:solidFill>
                <a:latin typeface="Arial"/>
              </a:rPr>
              <a:t>Wievie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Kop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2400" y="25797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3 Kopf 1 Mög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2040" y="32958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2 Kopf 3 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195800" y="3963960"/>
            <a:ext cx="2133720" cy="121932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95800" y="992160"/>
            <a:ext cx="2133720" cy="281952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38960" y="3962520"/>
            <a:ext cx="2133720" cy="12189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38960" y="990720"/>
            <a:ext cx="2133720" cy="28191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329000" y="4140360"/>
            <a:ext cx="1865160" cy="1043280"/>
            <a:chOff x="4329000" y="4140360"/>
            <a:chExt cx="1865160" cy="1043280"/>
          </a:xfrm>
        </p:grpSpPr>
        <p:grpSp>
          <p:nvGrpSpPr>
            <p:cNvPr id="550" name=""/>
            <p:cNvGrpSpPr/>
            <p:nvPr/>
          </p:nvGrpSpPr>
          <p:grpSpPr>
            <a:xfrm>
              <a:off x="4329000" y="4140360"/>
              <a:ext cx="1865160" cy="600120"/>
              <a:chOff x="4329000" y="4140360"/>
              <a:chExt cx="1865160" cy="60012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71840" y="4175280"/>
                <a:ext cx="5461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92480" y="4175280"/>
                <a:ext cx="5461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13120" y="4175280"/>
                <a:ext cx="54612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"/>
              <p:cNvSpPr/>
              <p:nvPr/>
            </p:nvSpPr>
            <p:spPr>
              <a:xfrm>
                <a:off x="4329000" y="4140360"/>
                <a:ext cx="1865160" cy="60012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4699800" y="47847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3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343400" y="1111320"/>
            <a:ext cx="1869840" cy="2742120"/>
            <a:chOff x="4343400" y="1111320"/>
            <a:chExt cx="1869840" cy="2742120"/>
          </a:xfrm>
        </p:grpSpPr>
        <p:sp>
          <p:nvSpPr>
            <p:cNvPr id="557" name=""/>
            <p:cNvSpPr/>
            <p:nvPr/>
          </p:nvSpPr>
          <p:spPr>
            <a:xfrm>
              <a:off x="4787280" y="34545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2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4343400" y="1111320"/>
              <a:ext cx="1869840" cy="2300400"/>
              <a:chOff x="4343400" y="1111320"/>
              <a:chExt cx="1869840" cy="2300400"/>
            </a:xfrm>
          </p:grpSpPr>
          <p:pic>
            <p:nvPicPr>
              <p:cNvPr id="5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83000" y="1144800"/>
                <a:ext cx="552600" cy="54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3640" y="114480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624280" y="114480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03640" y="1994040"/>
                <a:ext cx="552600" cy="54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83000" y="199404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24280" y="199404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624280" y="2843280"/>
                <a:ext cx="552600" cy="54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83000" y="284328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03640" y="284328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4348080" y="1111320"/>
                <a:ext cx="1865160" cy="60012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348080" y="1963800"/>
                <a:ext cx="1865160" cy="60012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343400" y="2811600"/>
                <a:ext cx="1865160" cy="60012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6615000" y="4140360"/>
            <a:ext cx="1865160" cy="1037160"/>
            <a:chOff x="6615000" y="4140360"/>
            <a:chExt cx="1865160" cy="1037160"/>
          </a:xfrm>
        </p:grpSpPr>
        <p:sp>
          <p:nvSpPr>
            <p:cNvPr id="572" name=""/>
            <p:cNvSpPr/>
            <p:nvPr/>
          </p:nvSpPr>
          <p:spPr>
            <a:xfrm>
              <a:off x="7111080" y="477864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0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6615000" y="4140360"/>
              <a:ext cx="1865160" cy="600120"/>
              <a:chOff x="6615000" y="4140360"/>
              <a:chExt cx="1865160" cy="600120"/>
            </a:xfrm>
          </p:grpSpPr>
          <p:pic>
            <p:nvPicPr>
              <p:cNvPr id="5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48120" y="4173840"/>
                <a:ext cx="55260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68760" y="4173840"/>
                <a:ext cx="55260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889760" y="4173840"/>
                <a:ext cx="5522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6615000" y="4140360"/>
                <a:ext cx="1865160" cy="60012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6567480" y="1116000"/>
            <a:ext cx="1869840" cy="2713680"/>
            <a:chOff x="6567480" y="1116000"/>
            <a:chExt cx="1869840" cy="2713680"/>
          </a:xfrm>
        </p:grpSpPr>
        <p:sp>
          <p:nvSpPr>
            <p:cNvPr id="579" name=""/>
            <p:cNvSpPr/>
            <p:nvPr/>
          </p:nvSpPr>
          <p:spPr>
            <a:xfrm>
              <a:off x="6921000" y="343080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1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6567480" y="1116000"/>
              <a:ext cx="1869840" cy="2300400"/>
              <a:chOff x="6567480" y="1116000"/>
              <a:chExt cx="1869840" cy="230040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224480" y="200664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834320" y="2006640"/>
                <a:ext cx="55224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5000" y="2006640"/>
                <a:ext cx="55080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834320" y="2845080"/>
                <a:ext cx="5461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224480" y="2845080"/>
                <a:ext cx="55260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615000" y="2845080"/>
                <a:ext cx="55080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15000" y="1144800"/>
                <a:ext cx="5461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224480" y="1144800"/>
                <a:ext cx="55116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834320" y="1144800"/>
                <a:ext cx="5522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>
                <a:off x="6572160" y="1116000"/>
                <a:ext cx="1865160" cy="60012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72160" y="1968840"/>
                <a:ext cx="1865160" cy="59976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567480" y="2816280"/>
                <a:ext cx="1865160" cy="60012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"/>
          <p:cNvSpPr/>
          <p:nvPr/>
        </p:nvSpPr>
        <p:spPr>
          <a:xfrm>
            <a:off x="572040" y="40068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1 Kopf 3 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2400" y="471960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0 Kopf 1 Mög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2" dur="1" fill="hold"/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>
            <a:hlinkClick r:id="" action="ppaction://hlinkshowjump?jump=endshow"/>
          </p:cNvPr>
          <p:cNvSpPr/>
          <p:nvPr/>
        </p:nvSpPr>
        <p:spPr>
          <a:xfrm>
            <a:off x="546120" y="6572160"/>
            <a:ext cx="533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39840" y="982800"/>
            <a:ext cx="2408040" cy="533160"/>
            <a:chOff x="339840" y="982800"/>
            <a:chExt cx="2408040" cy="53316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339840" y="98280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960480" y="98280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3"/>
            <a:stretch/>
          </p:blipFill>
          <p:spPr>
            <a:xfrm>
              <a:off x="1581120" y="98280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" descr=""/>
            <p:cNvPicPr/>
            <p:nvPr/>
          </p:nvPicPr>
          <p:blipFill>
            <a:blip r:embed="rId4"/>
            <a:stretch/>
          </p:blipFill>
          <p:spPr>
            <a:xfrm>
              <a:off x="2201760" y="982800"/>
              <a:ext cx="5461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1" name=""/>
          <p:cNvGrpSpPr/>
          <p:nvPr/>
        </p:nvGrpSpPr>
        <p:grpSpPr>
          <a:xfrm>
            <a:off x="6324480" y="3962520"/>
            <a:ext cx="2414520" cy="542880"/>
            <a:chOff x="6324480" y="3962520"/>
            <a:chExt cx="2414520" cy="542880"/>
          </a:xfrm>
        </p:grpSpPr>
        <p:pic>
          <p:nvPicPr>
            <p:cNvPr id="602" name="" descr=""/>
            <p:cNvPicPr/>
            <p:nvPr/>
          </p:nvPicPr>
          <p:blipFill>
            <a:blip r:embed="rId5"/>
            <a:stretch/>
          </p:blipFill>
          <p:spPr>
            <a:xfrm>
              <a:off x="8186400" y="396252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6"/>
            <a:stretch/>
          </p:blipFill>
          <p:spPr>
            <a:xfrm>
              <a:off x="6324480" y="396252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7"/>
            <a:stretch/>
          </p:blipFill>
          <p:spPr>
            <a:xfrm>
              <a:off x="6945120" y="396252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8"/>
            <a:stretch/>
          </p:blipFill>
          <p:spPr>
            <a:xfrm>
              <a:off x="7565760" y="3962520"/>
              <a:ext cx="55260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6" name=""/>
          <p:cNvGrpSpPr/>
          <p:nvPr/>
        </p:nvGrpSpPr>
        <p:grpSpPr>
          <a:xfrm>
            <a:off x="3341520" y="914400"/>
            <a:ext cx="2414520" cy="542880"/>
            <a:chOff x="3341520" y="914400"/>
            <a:chExt cx="2414520" cy="542880"/>
          </a:xfrm>
        </p:grpSpPr>
        <p:pic>
          <p:nvPicPr>
            <p:cNvPr id="607" name="" descr=""/>
            <p:cNvPicPr/>
            <p:nvPr/>
          </p:nvPicPr>
          <p:blipFill>
            <a:blip r:embed="rId9"/>
            <a:stretch/>
          </p:blipFill>
          <p:spPr>
            <a:xfrm>
              <a:off x="3341520" y="91440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10"/>
            <a:stretch/>
          </p:blipFill>
          <p:spPr>
            <a:xfrm>
              <a:off x="3962160" y="91440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11"/>
            <a:stretch/>
          </p:blipFill>
          <p:spPr>
            <a:xfrm>
              <a:off x="4583160" y="91440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12"/>
            <a:stretch/>
          </p:blipFill>
          <p:spPr>
            <a:xfrm>
              <a:off x="5203800" y="914400"/>
              <a:ext cx="55224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"/>
          <p:cNvGrpSpPr/>
          <p:nvPr/>
        </p:nvGrpSpPr>
        <p:grpSpPr>
          <a:xfrm>
            <a:off x="380880" y="3951360"/>
            <a:ext cx="2408040" cy="544320"/>
            <a:chOff x="380880" y="3951360"/>
            <a:chExt cx="2408040" cy="544320"/>
          </a:xfrm>
        </p:grpSpPr>
        <p:pic>
          <p:nvPicPr>
            <p:cNvPr id="612" name="" descr=""/>
            <p:cNvPicPr/>
            <p:nvPr/>
          </p:nvPicPr>
          <p:blipFill>
            <a:blip r:embed="rId13"/>
            <a:stretch/>
          </p:blipFill>
          <p:spPr>
            <a:xfrm>
              <a:off x="380880" y="3951360"/>
              <a:ext cx="55224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" descr=""/>
            <p:cNvPicPr/>
            <p:nvPr/>
          </p:nvPicPr>
          <p:blipFill>
            <a:blip r:embed="rId14"/>
            <a:stretch/>
          </p:blipFill>
          <p:spPr>
            <a:xfrm>
              <a:off x="1001520" y="395136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15"/>
            <a:stretch/>
          </p:blipFill>
          <p:spPr>
            <a:xfrm>
              <a:off x="1622160" y="395136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16"/>
            <a:stretch/>
          </p:blipFill>
          <p:spPr>
            <a:xfrm>
              <a:off x="2242800" y="3951360"/>
              <a:ext cx="5461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" name=""/>
          <p:cNvGrpSpPr/>
          <p:nvPr/>
        </p:nvGrpSpPr>
        <p:grpSpPr>
          <a:xfrm>
            <a:off x="380880" y="3316320"/>
            <a:ext cx="2408040" cy="544320"/>
            <a:chOff x="380880" y="3316320"/>
            <a:chExt cx="2408040" cy="544320"/>
          </a:xfrm>
        </p:grpSpPr>
        <p:pic>
          <p:nvPicPr>
            <p:cNvPr id="617" name="" descr=""/>
            <p:cNvPicPr/>
            <p:nvPr/>
          </p:nvPicPr>
          <p:blipFill>
            <a:blip r:embed="rId17"/>
            <a:stretch/>
          </p:blipFill>
          <p:spPr>
            <a:xfrm>
              <a:off x="1001520" y="3316320"/>
              <a:ext cx="55224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18"/>
            <a:stretch/>
          </p:blipFill>
          <p:spPr>
            <a:xfrm>
              <a:off x="380880" y="331632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19"/>
            <a:stretch/>
          </p:blipFill>
          <p:spPr>
            <a:xfrm>
              <a:off x="1622160" y="331632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20"/>
            <a:stretch/>
          </p:blipFill>
          <p:spPr>
            <a:xfrm>
              <a:off x="2242800" y="3316320"/>
              <a:ext cx="5461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1" name=""/>
          <p:cNvGrpSpPr/>
          <p:nvPr/>
        </p:nvGrpSpPr>
        <p:grpSpPr>
          <a:xfrm>
            <a:off x="380880" y="2739960"/>
            <a:ext cx="2408040" cy="544680"/>
            <a:chOff x="380880" y="2739960"/>
            <a:chExt cx="2408040" cy="544680"/>
          </a:xfrm>
        </p:grpSpPr>
        <p:pic>
          <p:nvPicPr>
            <p:cNvPr id="622" name="" descr=""/>
            <p:cNvPicPr/>
            <p:nvPr/>
          </p:nvPicPr>
          <p:blipFill>
            <a:blip r:embed="rId21"/>
            <a:stretch/>
          </p:blipFill>
          <p:spPr>
            <a:xfrm>
              <a:off x="2242800" y="273996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2"/>
            <a:stretch/>
          </p:blipFill>
          <p:spPr>
            <a:xfrm>
              <a:off x="1622160" y="2739960"/>
              <a:ext cx="5526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23"/>
            <a:stretch/>
          </p:blipFill>
          <p:spPr>
            <a:xfrm>
              <a:off x="380880" y="273996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24"/>
            <a:stretch/>
          </p:blipFill>
          <p:spPr>
            <a:xfrm>
              <a:off x="1001520" y="2739960"/>
              <a:ext cx="546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"/>
          <p:cNvGrpSpPr/>
          <p:nvPr/>
        </p:nvGrpSpPr>
        <p:grpSpPr>
          <a:xfrm>
            <a:off x="380880" y="2133720"/>
            <a:ext cx="2414520" cy="542880"/>
            <a:chOff x="380880" y="2133720"/>
            <a:chExt cx="2414520" cy="542880"/>
          </a:xfrm>
        </p:grpSpPr>
        <p:pic>
          <p:nvPicPr>
            <p:cNvPr id="627" name="" descr=""/>
            <p:cNvPicPr/>
            <p:nvPr/>
          </p:nvPicPr>
          <p:blipFill>
            <a:blip r:embed="rId25"/>
            <a:stretch/>
          </p:blipFill>
          <p:spPr>
            <a:xfrm>
              <a:off x="2242800" y="213372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6"/>
            <a:stretch/>
          </p:blipFill>
          <p:spPr>
            <a:xfrm>
              <a:off x="380880" y="2133720"/>
              <a:ext cx="54612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7"/>
            <a:stretch/>
          </p:blipFill>
          <p:spPr>
            <a:xfrm>
              <a:off x="1001520" y="2133720"/>
              <a:ext cx="54612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8"/>
            <a:stretch/>
          </p:blipFill>
          <p:spPr>
            <a:xfrm>
              <a:off x="1622160" y="2133720"/>
              <a:ext cx="54612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"/>
          <p:cNvGrpSpPr/>
          <p:nvPr/>
        </p:nvGrpSpPr>
        <p:grpSpPr>
          <a:xfrm>
            <a:off x="3341520" y="1523880"/>
            <a:ext cx="2414520" cy="542880"/>
            <a:chOff x="3341520" y="1523880"/>
            <a:chExt cx="2414520" cy="542880"/>
          </a:xfrm>
        </p:grpSpPr>
        <p:pic>
          <p:nvPicPr>
            <p:cNvPr id="632" name="" descr=""/>
            <p:cNvPicPr/>
            <p:nvPr/>
          </p:nvPicPr>
          <p:blipFill>
            <a:blip r:embed="rId29"/>
            <a:stretch/>
          </p:blipFill>
          <p:spPr>
            <a:xfrm>
              <a:off x="4583160" y="1523880"/>
              <a:ext cx="54612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30"/>
            <a:stretch/>
          </p:blipFill>
          <p:spPr>
            <a:xfrm>
              <a:off x="3341520" y="1523880"/>
              <a:ext cx="54612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31"/>
            <a:stretch/>
          </p:blipFill>
          <p:spPr>
            <a:xfrm>
              <a:off x="5203800" y="152388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2"/>
            <a:stretch/>
          </p:blipFill>
          <p:spPr>
            <a:xfrm>
              <a:off x="3962160" y="1523880"/>
              <a:ext cx="55260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6" name=""/>
          <p:cNvGrpSpPr/>
          <p:nvPr/>
        </p:nvGrpSpPr>
        <p:grpSpPr>
          <a:xfrm>
            <a:off x="3341520" y="3986280"/>
            <a:ext cx="2408400" cy="542880"/>
            <a:chOff x="3341520" y="3986280"/>
            <a:chExt cx="2408400" cy="542880"/>
          </a:xfrm>
        </p:grpSpPr>
        <p:pic>
          <p:nvPicPr>
            <p:cNvPr id="637" name="" descr=""/>
            <p:cNvPicPr/>
            <p:nvPr/>
          </p:nvPicPr>
          <p:blipFill>
            <a:blip r:embed="rId33"/>
            <a:stretch/>
          </p:blipFill>
          <p:spPr>
            <a:xfrm>
              <a:off x="5203800" y="398628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34"/>
            <a:stretch/>
          </p:blipFill>
          <p:spPr>
            <a:xfrm>
              <a:off x="3341520" y="398628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35"/>
            <a:stretch/>
          </p:blipFill>
          <p:spPr>
            <a:xfrm>
              <a:off x="4583160" y="398628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6"/>
            <a:stretch/>
          </p:blipFill>
          <p:spPr>
            <a:xfrm>
              <a:off x="3962160" y="3986280"/>
              <a:ext cx="55260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"/>
          <p:cNvGrpSpPr/>
          <p:nvPr/>
        </p:nvGrpSpPr>
        <p:grpSpPr>
          <a:xfrm>
            <a:off x="6324480" y="1590840"/>
            <a:ext cx="2381040" cy="542880"/>
            <a:chOff x="6324480" y="1590840"/>
            <a:chExt cx="2381040" cy="542880"/>
          </a:xfrm>
        </p:grpSpPr>
        <p:pic>
          <p:nvPicPr>
            <p:cNvPr id="642" name="" descr=""/>
            <p:cNvPicPr/>
            <p:nvPr/>
          </p:nvPicPr>
          <p:blipFill>
            <a:blip r:embed="rId37"/>
            <a:stretch/>
          </p:blipFill>
          <p:spPr>
            <a:xfrm>
              <a:off x="6933960" y="159084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38"/>
            <a:stretch/>
          </p:blipFill>
          <p:spPr>
            <a:xfrm>
              <a:off x="7543440" y="159084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39"/>
            <a:stretch/>
          </p:blipFill>
          <p:spPr>
            <a:xfrm>
              <a:off x="8153280" y="159084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40"/>
            <a:stretch/>
          </p:blipFill>
          <p:spPr>
            <a:xfrm>
              <a:off x="6324480" y="1590840"/>
              <a:ext cx="55080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6" name=""/>
          <p:cNvGrpSpPr/>
          <p:nvPr/>
        </p:nvGrpSpPr>
        <p:grpSpPr>
          <a:xfrm>
            <a:off x="6324480" y="979560"/>
            <a:ext cx="2381040" cy="542880"/>
            <a:chOff x="6324480" y="979560"/>
            <a:chExt cx="2381040" cy="542880"/>
          </a:xfrm>
        </p:grpSpPr>
        <p:pic>
          <p:nvPicPr>
            <p:cNvPr id="647" name="" descr=""/>
            <p:cNvPicPr/>
            <p:nvPr/>
          </p:nvPicPr>
          <p:blipFill>
            <a:blip r:embed="rId41"/>
            <a:stretch/>
          </p:blipFill>
          <p:spPr>
            <a:xfrm>
              <a:off x="7543440" y="97956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42"/>
            <a:stretch/>
          </p:blipFill>
          <p:spPr>
            <a:xfrm>
              <a:off x="8153280" y="97956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43"/>
            <a:stretch/>
          </p:blipFill>
          <p:spPr>
            <a:xfrm>
              <a:off x="6933960" y="97956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44"/>
            <a:stretch/>
          </p:blipFill>
          <p:spPr>
            <a:xfrm>
              <a:off x="6324480" y="979560"/>
              <a:ext cx="55080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"/>
          <p:cNvGrpSpPr/>
          <p:nvPr/>
        </p:nvGrpSpPr>
        <p:grpSpPr>
          <a:xfrm>
            <a:off x="6324480" y="2787480"/>
            <a:ext cx="2374920" cy="542880"/>
            <a:chOff x="6324480" y="2787480"/>
            <a:chExt cx="2374920" cy="542880"/>
          </a:xfrm>
        </p:grpSpPr>
        <p:pic>
          <p:nvPicPr>
            <p:cNvPr id="652" name="" descr=""/>
            <p:cNvPicPr/>
            <p:nvPr/>
          </p:nvPicPr>
          <p:blipFill>
            <a:blip r:embed="rId45"/>
            <a:stretch/>
          </p:blipFill>
          <p:spPr>
            <a:xfrm>
              <a:off x="8153280" y="278748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46"/>
            <a:stretch/>
          </p:blipFill>
          <p:spPr>
            <a:xfrm>
              <a:off x="7543440" y="278748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47"/>
            <a:stretch/>
          </p:blipFill>
          <p:spPr>
            <a:xfrm>
              <a:off x="6933960" y="278748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48"/>
            <a:stretch/>
          </p:blipFill>
          <p:spPr>
            <a:xfrm>
              <a:off x="6324480" y="2787480"/>
              <a:ext cx="55080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"/>
          <p:cNvGrpSpPr/>
          <p:nvPr/>
        </p:nvGrpSpPr>
        <p:grpSpPr>
          <a:xfrm>
            <a:off x="6324480" y="2200320"/>
            <a:ext cx="2381040" cy="542880"/>
            <a:chOff x="6324480" y="2200320"/>
            <a:chExt cx="2381040" cy="542880"/>
          </a:xfrm>
        </p:grpSpPr>
        <p:pic>
          <p:nvPicPr>
            <p:cNvPr id="657" name="" descr=""/>
            <p:cNvPicPr/>
            <p:nvPr/>
          </p:nvPicPr>
          <p:blipFill>
            <a:blip r:embed="rId49"/>
            <a:stretch/>
          </p:blipFill>
          <p:spPr>
            <a:xfrm>
              <a:off x="6324480" y="220032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50"/>
            <a:stretch/>
          </p:blipFill>
          <p:spPr>
            <a:xfrm>
              <a:off x="6933960" y="2200320"/>
              <a:ext cx="550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51"/>
            <a:stretch/>
          </p:blipFill>
          <p:spPr>
            <a:xfrm>
              <a:off x="7543440" y="220032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52"/>
            <a:stretch/>
          </p:blipFill>
          <p:spPr>
            <a:xfrm>
              <a:off x="8153280" y="2200320"/>
              <a:ext cx="55224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1" name=""/>
          <p:cNvGrpSpPr/>
          <p:nvPr/>
        </p:nvGrpSpPr>
        <p:grpSpPr>
          <a:xfrm>
            <a:off x="3341520" y="3363840"/>
            <a:ext cx="2408400" cy="542880"/>
            <a:chOff x="3341520" y="3363840"/>
            <a:chExt cx="2408400" cy="542880"/>
          </a:xfrm>
        </p:grpSpPr>
        <p:pic>
          <p:nvPicPr>
            <p:cNvPr id="662" name="" descr=""/>
            <p:cNvPicPr/>
            <p:nvPr/>
          </p:nvPicPr>
          <p:blipFill>
            <a:blip r:embed="rId53"/>
            <a:stretch/>
          </p:blipFill>
          <p:spPr>
            <a:xfrm>
              <a:off x="3341520" y="336384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54"/>
            <a:stretch/>
          </p:blipFill>
          <p:spPr>
            <a:xfrm>
              <a:off x="4583160" y="336384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55"/>
            <a:stretch/>
          </p:blipFill>
          <p:spPr>
            <a:xfrm>
              <a:off x="5203800" y="336384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56"/>
            <a:stretch/>
          </p:blipFill>
          <p:spPr>
            <a:xfrm>
              <a:off x="3962160" y="3363840"/>
              <a:ext cx="546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6" name=""/>
          <p:cNvGrpSpPr/>
          <p:nvPr/>
        </p:nvGrpSpPr>
        <p:grpSpPr>
          <a:xfrm>
            <a:off x="3341520" y="2743200"/>
            <a:ext cx="2408400" cy="542880"/>
            <a:chOff x="3341520" y="2743200"/>
            <a:chExt cx="2408400" cy="542880"/>
          </a:xfrm>
        </p:grpSpPr>
        <p:pic>
          <p:nvPicPr>
            <p:cNvPr id="667" name="" descr=""/>
            <p:cNvPicPr/>
            <p:nvPr/>
          </p:nvPicPr>
          <p:blipFill>
            <a:blip r:embed="rId57"/>
            <a:stretch/>
          </p:blipFill>
          <p:spPr>
            <a:xfrm>
              <a:off x="3962160" y="274320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58"/>
            <a:stretch/>
          </p:blipFill>
          <p:spPr>
            <a:xfrm>
              <a:off x="3341520" y="274320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59"/>
            <a:stretch/>
          </p:blipFill>
          <p:spPr>
            <a:xfrm>
              <a:off x="4583160" y="2743200"/>
              <a:ext cx="5461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60"/>
            <a:stretch/>
          </p:blipFill>
          <p:spPr>
            <a:xfrm>
              <a:off x="5203800" y="2743200"/>
              <a:ext cx="5461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3341520" y="2133720"/>
            <a:ext cx="2414520" cy="542880"/>
            <a:chOff x="3341520" y="2133720"/>
            <a:chExt cx="2414520" cy="542880"/>
          </a:xfrm>
        </p:grpSpPr>
        <p:pic>
          <p:nvPicPr>
            <p:cNvPr id="672" name="" descr=""/>
            <p:cNvPicPr/>
            <p:nvPr/>
          </p:nvPicPr>
          <p:blipFill>
            <a:blip r:embed="rId61"/>
            <a:stretch/>
          </p:blipFill>
          <p:spPr>
            <a:xfrm>
              <a:off x="5203800" y="2133720"/>
              <a:ext cx="5522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" descr=""/>
            <p:cNvPicPr/>
            <p:nvPr/>
          </p:nvPicPr>
          <p:blipFill>
            <a:blip r:embed="rId62"/>
            <a:stretch/>
          </p:blipFill>
          <p:spPr>
            <a:xfrm>
              <a:off x="3341520" y="2133720"/>
              <a:ext cx="5526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63"/>
            <a:stretch/>
          </p:blipFill>
          <p:spPr>
            <a:xfrm>
              <a:off x="3962160" y="2133720"/>
              <a:ext cx="5461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64"/>
            <a:stretch/>
          </p:blipFill>
          <p:spPr>
            <a:xfrm>
              <a:off x="4583160" y="2133720"/>
              <a:ext cx="5461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"/>
          <p:cNvSpPr/>
          <p:nvPr/>
        </p:nvSpPr>
        <p:spPr>
          <a:xfrm>
            <a:off x="99216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43972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396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41152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935760" y="5791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28600" y="838080"/>
            <a:ext cx="2666880" cy="1084680"/>
            <a:chOff x="228600" y="838080"/>
            <a:chExt cx="2666880" cy="1084680"/>
          </a:xfrm>
        </p:grpSpPr>
        <p:sp>
          <p:nvSpPr>
            <p:cNvPr id="682" name=""/>
            <p:cNvSpPr/>
            <p:nvPr/>
          </p:nvSpPr>
          <p:spPr>
            <a:xfrm>
              <a:off x="228600" y="838080"/>
              <a:ext cx="2666880" cy="76212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9160" y="15238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250920" y="2022480"/>
            <a:ext cx="2666880" cy="2948400"/>
            <a:chOff x="250920" y="2022480"/>
            <a:chExt cx="2666880" cy="2948400"/>
          </a:xfrm>
        </p:grpSpPr>
        <p:sp>
          <p:nvSpPr>
            <p:cNvPr id="685" name=""/>
            <p:cNvSpPr/>
            <p:nvPr/>
          </p:nvSpPr>
          <p:spPr>
            <a:xfrm>
              <a:off x="250920" y="2022480"/>
              <a:ext cx="2666880" cy="259056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760" y="457200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211560" y="838080"/>
            <a:ext cx="2666880" cy="4132800"/>
            <a:chOff x="3211560" y="838080"/>
            <a:chExt cx="2666880" cy="4132800"/>
          </a:xfrm>
        </p:grpSpPr>
        <p:sp>
          <p:nvSpPr>
            <p:cNvPr id="688" name=""/>
            <p:cNvSpPr/>
            <p:nvPr/>
          </p:nvSpPr>
          <p:spPr>
            <a:xfrm>
              <a:off x="3211560" y="838080"/>
              <a:ext cx="2666880" cy="377352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7280" y="457200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6172200" y="838080"/>
            <a:ext cx="2666880" cy="2913480"/>
            <a:chOff x="6172200" y="838080"/>
            <a:chExt cx="2666880" cy="2913480"/>
          </a:xfrm>
        </p:grpSpPr>
        <p:sp>
          <p:nvSpPr>
            <p:cNvPr id="691" name=""/>
            <p:cNvSpPr/>
            <p:nvPr/>
          </p:nvSpPr>
          <p:spPr>
            <a:xfrm>
              <a:off x="6172200" y="838080"/>
              <a:ext cx="2666880" cy="256716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35400" y="33526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183360" y="3886200"/>
            <a:ext cx="2666880" cy="1084680"/>
            <a:chOff x="6183360" y="3886200"/>
            <a:chExt cx="2666880" cy="1084680"/>
          </a:xfrm>
        </p:grpSpPr>
        <p:sp>
          <p:nvSpPr>
            <p:cNvPr id="694" name=""/>
            <p:cNvSpPr/>
            <p:nvPr/>
          </p:nvSpPr>
          <p:spPr>
            <a:xfrm>
              <a:off x="6183360" y="3886200"/>
              <a:ext cx="2666880" cy="7254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35400" y="457200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33520" y="5410080"/>
            <a:ext cx="7162560" cy="410040"/>
            <a:chOff x="533520" y="5410080"/>
            <a:chExt cx="7162560" cy="410040"/>
          </a:xfrm>
        </p:grpSpPr>
        <p:sp>
          <p:nvSpPr>
            <p:cNvPr id="697" name=""/>
            <p:cNvSpPr/>
            <p:nvPr/>
          </p:nvSpPr>
          <p:spPr>
            <a:xfrm>
              <a:off x="581760" y="542124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58120" y="54100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82360" y="54100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29920" y="54100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54160" y="541008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 Ko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3520" y="5790960"/>
              <a:ext cx="71625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55160" y="5400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pf oder 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2666880"/>
            <a:ext cx="26668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2689200"/>
            <a:ext cx="26668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2023920"/>
            <a:ext cx="0" cy="2590920"/>
          </a:xfrm>
          <a:prstGeom prst="line">
            <a:avLst/>
          </a:prstGeom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20160" y="826920"/>
            <a:ext cx="0" cy="2590920"/>
          </a:xfrm>
          <a:prstGeom prst="line">
            <a:avLst/>
          </a:prstGeom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183360" y="2743200"/>
            <a:ext cx="26668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81480" y="860400"/>
            <a:ext cx="0" cy="3733920"/>
          </a:xfrm>
          <a:prstGeom prst="line">
            <a:avLst/>
          </a:prstGeom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6840" y="822240"/>
            <a:ext cx="0" cy="777960"/>
          </a:xfrm>
          <a:prstGeom prst="line">
            <a:avLst/>
          </a:prstGeom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155080" y="3886200"/>
            <a:ext cx="0" cy="728640"/>
          </a:xfrm>
          <a:prstGeom prst="line">
            <a:avLst/>
          </a:prstGeom>
          <a:ln w="64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1902600" y="76320"/>
            <a:ext cx="5015160" cy="8254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Di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Zahl aller m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ögliche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nza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fü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k Kopf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uf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Münze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se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(m,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971800" y="3213000"/>
            <a:ext cx="2844720" cy="596880"/>
            <a:chOff x="2971800" y="3213000"/>
            <a:chExt cx="2844720" cy="596880"/>
          </a:xfrm>
        </p:grpSpPr>
        <p:sp>
          <p:nvSpPr>
            <p:cNvPr id="714" name=""/>
            <p:cNvSpPr/>
            <p:nvPr/>
          </p:nvSpPr>
          <p:spPr>
            <a:xfrm rot="5400000">
              <a:off x="4317840" y="2311200"/>
              <a:ext cx="152280" cy="2844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4160 h 2844720"/>
                <a:gd name="textAreaBottom" fmla="*/ 2770560 h 28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98680" y="321300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m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720" y="1384200"/>
            <a:ext cx="4317120" cy="1739880"/>
            <a:chOff x="720" y="1384200"/>
            <a:chExt cx="4317120" cy="1739880"/>
          </a:xfrm>
        </p:grpSpPr>
        <p:sp>
          <p:nvSpPr>
            <p:cNvPr id="717" name=""/>
            <p:cNvSpPr/>
            <p:nvPr/>
          </p:nvSpPr>
          <p:spPr>
            <a:xfrm>
              <a:off x="1752480" y="2133720"/>
              <a:ext cx="256536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figuration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k-1 Kopf in m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ünz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73120" y="2057400"/>
              <a:ext cx="152640" cy="10666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0" y="236232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(m,k-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5400000">
              <a:off x="2958840" y="622080"/>
              <a:ext cx="152280" cy="2565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6600 h 2565360"/>
                <a:gd name="textAreaBottom" fmla="*/ 2498760 h 25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20960" y="1384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82880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8108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33720" y="220968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8600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828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590920" y="220968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4320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9548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8120" y="220968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0040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5268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05320" y="220968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5760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0988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62520" y="220968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14800" y="220968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009960" y="4076640"/>
            <a:ext cx="2565360" cy="914400"/>
            <a:chOff x="3009960" y="4076640"/>
            <a:chExt cx="2565360" cy="914400"/>
          </a:xfrm>
        </p:grpSpPr>
        <p:sp>
          <p:nvSpPr>
            <p:cNvPr id="739" name=""/>
            <p:cNvSpPr/>
            <p:nvPr/>
          </p:nvSpPr>
          <p:spPr>
            <a:xfrm>
              <a:off x="3009960" y="4076640"/>
              <a:ext cx="2565360" cy="914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figuration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k-1 Kopf in m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ünz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86280" y="415296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3856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9084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43480" y="415296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69576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4804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00680" y="415296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5296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0524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57880" y="415296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1016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76244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15080" y="415296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54760" y="4152960"/>
              <a:ext cx="7596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0704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59320" y="4152960"/>
              <a:ext cx="76320" cy="7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648680" y="1371600"/>
            <a:ext cx="4038120" cy="1981080"/>
            <a:chOff x="4648680" y="1371600"/>
            <a:chExt cx="4038120" cy="1981080"/>
          </a:xfrm>
        </p:grpSpPr>
        <p:sp>
          <p:nvSpPr>
            <p:cNvPr id="757" name=""/>
            <p:cNvSpPr/>
            <p:nvPr/>
          </p:nvSpPr>
          <p:spPr>
            <a:xfrm>
              <a:off x="7164360" y="1371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40560" y="2044800"/>
              <a:ext cx="152280" cy="13078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840 h 1307880"/>
                <a:gd name="textAreaBottom" fmla="*/ 1274040 h 130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48680" y="243828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(m,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5400000">
              <a:off x="7283520" y="653760"/>
              <a:ext cx="241200" cy="256536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66600 h 2565360"/>
                <a:gd name="textAreaBottom" fmla="*/ 2498760 h 25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6121440" y="2120760"/>
              <a:ext cx="2565360" cy="1231920"/>
              <a:chOff x="6121440" y="2120760"/>
              <a:chExt cx="2565360" cy="1231920"/>
            </a:xfrm>
          </p:grpSpPr>
          <p:sp>
            <p:nvSpPr>
              <p:cNvPr id="762" name=""/>
              <p:cNvSpPr/>
              <p:nvPr/>
            </p:nvSpPr>
            <p:spPr>
              <a:xfrm>
                <a:off x="6121440" y="2120760"/>
                <a:ext cx="2565360" cy="1231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All</a:t>
                </a:r>
                <a:r>
                  <a:rPr b="0" lang="de-DE" sz="16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0" lang="de-DE" sz="16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onfiguration</a:t>
                </a:r>
                <a:r>
                  <a:rPr b="0" lang="de-DE" sz="1600" spc="-1" strike="noStrike">
                    <a:solidFill>
                      <a:srgbClr val="ffff00"/>
                    </a:solidFill>
                    <a:latin typeface="Arial"/>
                  </a:rPr>
                  <a:t>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ffff00"/>
                    </a:solidFill>
                    <a:latin typeface="Arial"/>
                  </a:rPr>
                  <a:t>Von 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k Kopf in m </a:t>
                </a:r>
                <a:r>
                  <a:rPr b="0" lang="de-DE" sz="1600" spc="-1" strike="noStrike">
                    <a:solidFill>
                      <a:srgbClr val="ffff00"/>
                    </a:solidFill>
                    <a:latin typeface="Arial"/>
                  </a:rPr>
                  <a:t>Münz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97760" y="220968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5004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0232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654960" y="220968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80724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5952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112160" y="220968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6444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41672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69360" y="220968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2164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7392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26560" y="220968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20404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56680" y="220968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508960" y="220968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3009960" y="5168880"/>
            <a:ext cx="2565360" cy="1231920"/>
            <a:chOff x="3009960" y="5168880"/>
            <a:chExt cx="2565360" cy="1231920"/>
          </a:xfrm>
        </p:grpSpPr>
        <p:sp>
          <p:nvSpPr>
            <p:cNvPr id="780" name=""/>
            <p:cNvSpPr/>
            <p:nvPr/>
          </p:nvSpPr>
          <p:spPr>
            <a:xfrm>
              <a:off x="3009960" y="5168880"/>
              <a:ext cx="2565360" cy="123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ll</a:t>
              </a:r>
              <a:r>
                <a:rPr b="0" lang="de-DE" sz="16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de-DE" sz="16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onfiguration</a:t>
              </a:r>
              <a:r>
                <a:rPr b="0" lang="de-DE" sz="1600" spc="-1" strike="noStrike">
                  <a:solidFill>
                    <a:srgbClr val="ffff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00"/>
                  </a:solidFill>
                  <a:latin typeface="Arial"/>
                </a:rPr>
                <a:t>Von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k Kopf in m </a:t>
              </a:r>
              <a:r>
                <a:rPr b="0" lang="de-DE" sz="1600" spc="-1" strike="noStrike">
                  <a:solidFill>
                    <a:srgbClr val="ffff00"/>
                  </a:solidFill>
                  <a:latin typeface="Arial"/>
                </a:rPr>
                <a:t>Münz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86280" y="525780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856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084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43480" y="525780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9576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4804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000680" y="525780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5296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0524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57880" y="525780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1016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6244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15080" y="525780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09256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45200" y="5257800"/>
              <a:ext cx="7596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97480" y="5257800"/>
              <a:ext cx="76320" cy="76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084720" y="3789360"/>
            <a:ext cx="266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Dann gil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(m+1,k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(m,k-1)+a(m,k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584680" y="4137120"/>
            <a:ext cx="389160" cy="832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589360" y="5192640"/>
            <a:ext cx="3207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856520" y="685800"/>
            <a:ext cx="58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(m,k) berechnet sich genau so w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360" y="6858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212200" y="1625760"/>
            <a:ext cx="598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r Eintrag in der m-ten Zeile 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r k-ten Diagonale im Pascalsc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eieck, we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37400" y="344340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(m,0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77720" y="405288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(m,m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0" y="4807080"/>
            <a:ext cx="46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(m+1,k) = a(m,k-1)+a(m,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981080" y="35560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ff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4651200" y="2825640"/>
          <a:ext cx="4152960" cy="31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825640"/>
                    <a:ext cx="4152960" cy="31212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282600" y="2824200"/>
          <a:ext cx="4127400" cy="30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600" y="2824200"/>
                    <a:ext cx="4127400" cy="309384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>
            <a:off x="282600" y="1073160"/>
            <a:ext cx="85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(m,k) berechnet sich genau so wie der Eintrag in der m-ten Zeile und der k-ten Diagonale im Pascalschen Dreieck, da die Rekursionsformel und die Startwerte gleich s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Rekursive Berechnung am Voyage 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63400" y="1463760"/>
            <a:ext cx="42069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(n,0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(n,n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(n,k) = a(n-1,k-1)+a(n-1,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1863720" y="2813040"/>
            <a:ext cx="608976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sch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mand nimmt jeden Morgen eine Tablette mit 10 mg Wirkstoff. Im Laufe des Tages (24 Stunden) werden 60% des Wirkstoffs abgeba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 welchen Wert pendelt sich der Wirkstoffpegel e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sch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137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ste Annäherung an d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65040" y="5475240"/>
            <a:ext cx="8062920" cy="760320"/>
            <a:chOff x="365040" y="5475240"/>
            <a:chExt cx="8062920" cy="760320"/>
          </a:xfrm>
        </p:grpSpPr>
        <p:sp>
          <p:nvSpPr>
            <p:cNvPr id="820" name=""/>
            <p:cNvSpPr/>
            <p:nvPr/>
          </p:nvSpPr>
          <p:spPr>
            <a:xfrm>
              <a:off x="6411960" y="5475240"/>
              <a:ext cx="20160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ffff"/>
                  </a:solidFill>
                  <a:latin typeface="Arial"/>
                </a:rPr>
                <a:t>(x</a:t>
              </a:r>
              <a:r>
                <a:rPr b="0" lang="de-DE" sz="22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de-DE" sz="2200" spc="-1" strike="noStrike">
                  <a:solidFill>
                    <a:srgbClr val="ffffff"/>
                  </a:solidFill>
                  <a:latin typeface="Arial"/>
                </a:rPr>
                <a:t> +10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ffffff"/>
                  </a:solidFill>
                  <a:latin typeface="Arial"/>
                </a:rPr>
                <a:t>-(x</a:t>
              </a:r>
              <a:r>
                <a:rPr b="0" lang="de-DE" sz="22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de-DE" sz="2200" spc="-1" strike="noStrike">
                  <a:solidFill>
                    <a:srgbClr val="ffffff"/>
                  </a:solidFill>
                  <a:latin typeface="Arial"/>
                </a:rPr>
                <a:t> +10)*0,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97400" y="5475240"/>
              <a:ext cx="2014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(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 +10)*0,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81400" y="5475240"/>
              <a:ext cx="20160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 +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5040" y="5475240"/>
              <a:ext cx="20163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de-DE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65040" y="4838760"/>
            <a:ext cx="8062920" cy="636480"/>
            <a:chOff x="365040" y="4838760"/>
            <a:chExt cx="8062920" cy="636480"/>
          </a:xfrm>
        </p:grpSpPr>
        <p:sp>
          <p:nvSpPr>
            <p:cNvPr id="825" name=""/>
            <p:cNvSpPr/>
            <p:nvPr/>
          </p:nvSpPr>
          <p:spPr>
            <a:xfrm>
              <a:off x="6411960" y="483876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,49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97400" y="4838760"/>
              <a:ext cx="2014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9,7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81400" y="483876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6,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5040" y="4838760"/>
              <a:ext cx="2016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,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65040" y="4202280"/>
            <a:ext cx="8062920" cy="636480"/>
            <a:chOff x="365040" y="4202280"/>
            <a:chExt cx="8062920" cy="636480"/>
          </a:xfrm>
        </p:grpSpPr>
        <p:sp>
          <p:nvSpPr>
            <p:cNvPr id="830" name=""/>
            <p:cNvSpPr/>
            <p:nvPr/>
          </p:nvSpPr>
          <p:spPr>
            <a:xfrm>
              <a:off x="6411960" y="420228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,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397400" y="4202280"/>
              <a:ext cx="2014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9,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81400" y="420228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5,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5040" y="4202280"/>
              <a:ext cx="2016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,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65040" y="3565440"/>
            <a:ext cx="8062920" cy="636480"/>
            <a:chOff x="365040" y="3565440"/>
            <a:chExt cx="8062920" cy="636480"/>
          </a:xfrm>
        </p:grpSpPr>
        <p:sp>
          <p:nvSpPr>
            <p:cNvPr id="835" name=""/>
            <p:cNvSpPr/>
            <p:nvPr/>
          </p:nvSpPr>
          <p:spPr>
            <a:xfrm>
              <a:off x="6411960" y="356544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,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97400" y="3565440"/>
              <a:ext cx="2014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81400" y="356544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5040" y="3565440"/>
              <a:ext cx="2016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65040" y="2928960"/>
            <a:ext cx="8062920" cy="636480"/>
            <a:chOff x="365040" y="2928960"/>
            <a:chExt cx="8062920" cy="636480"/>
          </a:xfrm>
        </p:grpSpPr>
        <p:sp>
          <p:nvSpPr>
            <p:cNvPr id="840" name=""/>
            <p:cNvSpPr/>
            <p:nvPr/>
          </p:nvSpPr>
          <p:spPr>
            <a:xfrm>
              <a:off x="6411960" y="292896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97400" y="2928960"/>
              <a:ext cx="2014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81400" y="2928960"/>
              <a:ext cx="2016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5040" y="2928960"/>
              <a:ext cx="20163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6411960" y="2292480"/>
            <a:ext cx="2016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397400" y="2292480"/>
            <a:ext cx="2014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on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381400" y="2292480"/>
            <a:ext cx="2016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040" y="2292480"/>
            <a:ext cx="2016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5040" y="2292480"/>
            <a:ext cx="8062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65040" y="292896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5040" y="356544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65040" y="420228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5040" y="6235560"/>
            <a:ext cx="8062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5040" y="2292480"/>
            <a:ext cx="0" cy="3943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381400" y="2292480"/>
            <a:ext cx="0" cy="39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397400" y="2292480"/>
            <a:ext cx="0" cy="39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411960" y="2292480"/>
            <a:ext cx="0" cy="39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427960" y="2292480"/>
            <a:ext cx="0" cy="3943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5040" y="483876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5040" y="547524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sch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gilt offensichtli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609480" y="2235240"/>
          <a:ext cx="5707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35240"/>
                    <a:ext cx="5707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517680" y="4770360"/>
            <a:ext cx="816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Zwischen x</a:t>
            </a:r>
            <a:r>
              <a:rPr b="0" lang="de-DE" sz="2400" spc="-1" strike="noStrike" baseline="-25000">
                <a:solidFill>
                  <a:srgbClr val="ffff66"/>
                </a:solidFill>
                <a:latin typeface="Arial"/>
              </a:rPr>
              <a:t>n+1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 und x</a:t>
            </a:r>
            <a:r>
              <a:rPr b="0" lang="de-DE" sz="2400" spc="-1" strike="noStrike" baseline="-25000">
                <a:solidFill>
                  <a:srgbClr val="ffff66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 besteht ein linearer Zusammen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sch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368360" y="1330200"/>
            <a:ext cx="0" cy="4789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368360" y="6119640"/>
            <a:ext cx="72010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08908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80836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52728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24656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96584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68476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0404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12296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42240" y="6119640"/>
            <a:ext cx="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1297080" y="5398920"/>
            <a:ext cx="71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1297080" y="4678200"/>
            <a:ext cx="71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297080" y="3957480"/>
            <a:ext cx="71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1297080" y="3236760"/>
            <a:ext cx="71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297080" y="2516040"/>
            <a:ext cx="71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1297080" y="1795320"/>
            <a:ext cx="71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22760" y="158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022760" y="23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22760" y="305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22760" y="377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22760" y="449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022760" y="52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9227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4348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36420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0849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80564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2636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24708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6780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8852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368360" y="5398920"/>
            <a:ext cx="72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368360" y="4678200"/>
            <a:ext cx="72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368360" y="3957480"/>
            <a:ext cx="72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368360" y="3236760"/>
            <a:ext cx="72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368360" y="2516040"/>
            <a:ext cx="72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368360" y="1795320"/>
            <a:ext cx="72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08908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280836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52728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24656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96584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68476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40404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712296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7842240" y="143820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368360" y="1077840"/>
            <a:ext cx="5400720" cy="21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368360" y="3238200"/>
            <a:ext cx="0" cy="287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368360" y="3238560"/>
            <a:ext cx="2879640" cy="2879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898720" y="4368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16920" y="39592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37440" y="61228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7440" y="30592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e fundamentale Idee in der Mathema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96920"/>
            <a:ext cx="8229600" cy="42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2, 3, 4  Wie geht es wei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erste mathematische Fr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, 12, 14, 15, 17   Wie geht es wei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e in einem Aufnahmete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 11, 30, 67, 128,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ausforderung an Si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ösung spä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 flipV="1">
            <a:off x="385128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sch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971640" y="1521000"/>
            <a:ext cx="0" cy="4789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71640" y="631044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6923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1128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1305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84984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687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28804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0069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72624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44552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899640" y="558972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899640" y="486900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899640" y="414828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899640" y="342756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899640" y="270684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899640" y="198612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256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25680" y="252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25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5680" y="39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25680" y="468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25680" y="540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2604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24676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96748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68820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40892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64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5036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57108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9180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971640" y="558972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971640" y="486900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71640" y="414828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71640" y="342756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71640" y="270684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971640" y="198612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6923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41128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31305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45687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528804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60069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72624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44552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971640" y="1268280"/>
            <a:ext cx="5400720" cy="21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971640" y="3428640"/>
            <a:ext cx="0" cy="287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71640" y="3429000"/>
            <a:ext cx="2879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119120" y="414972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Lös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971640" y="1267920"/>
            <a:ext cx="504036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51280" y="3429000"/>
            <a:ext cx="0" cy="287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3851280" y="2276640"/>
            <a:ext cx="0" cy="40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971280" y="2276640"/>
            <a:ext cx="2879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971640" y="2276640"/>
            <a:ext cx="40320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003640" y="2276640"/>
            <a:ext cx="0" cy="40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 flipV="1">
            <a:off x="385128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sch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971640" y="1521000"/>
            <a:ext cx="0" cy="4789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971640" y="631044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6923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1128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1305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84984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687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28804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00696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72624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445520" y="6310440"/>
            <a:ext cx="0" cy="71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899640" y="558972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899640" y="486900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899640" y="414828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899640" y="342756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899640" y="270684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899640" y="1986120"/>
            <a:ext cx="71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256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25680" y="252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5680" y="32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25680" y="39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25680" y="468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25680" y="540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52604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24676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96748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68820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40892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12964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85036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57108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291800" y="628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971640" y="558972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971640" y="486900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971640" y="414828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971640" y="342756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971640" y="270684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971640" y="1986120"/>
            <a:ext cx="720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6923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41128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1305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45687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28804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00696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672624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445520" y="1628640"/>
            <a:ext cx="0" cy="4680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971640" y="1268280"/>
            <a:ext cx="5400720" cy="21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971640" y="3428640"/>
            <a:ext cx="0" cy="287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3429000"/>
            <a:ext cx="2879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971640" y="1267920"/>
            <a:ext cx="504036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851280" y="2276280"/>
            <a:ext cx="0" cy="115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850920" y="2276640"/>
            <a:ext cx="1152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5003640" y="1807920"/>
            <a:ext cx="0" cy="4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03640" y="182088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5460840" y="1631520"/>
            <a:ext cx="0" cy="190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isch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f Grund der grafischen Iteration ist die Lösung des Anfangsproblems anschaulich und leicht durchführb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 Pegel, auf den sich die Medikamentenkonzentration einpendeln wird, ist durch den Schnittpunkt des Funktionsgraphen von y = 0,4x+4 und der Hilfsgera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x gegeb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atz: 0,4x + 4 =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,6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6,66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wird der Patient auf eine Dosis von 16,66 mg bis 6,66mg eingestel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Grafische Iteration am Voyage 2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1600200" y="1949400"/>
            <a:ext cx="6654960" cy="36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on an Funktionsgrap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5638680" cy="394956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6537240" y="2057400"/>
            <a:ext cx="192096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66960" cy="4190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6858000" y="5943600"/>
            <a:ext cx="19051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m Arbeitsbl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Grafische Iteration am Voyage 2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1341360" y="1859040"/>
            <a:ext cx="6654960" cy="36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Heronver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6316560" y="2514600"/>
            <a:ext cx="2432160" cy="2395080"/>
            <a:chOff x="6316560" y="2514600"/>
            <a:chExt cx="2432160" cy="2395080"/>
          </a:xfrm>
        </p:grpSpPr>
        <p:sp>
          <p:nvSpPr>
            <p:cNvPr id="1048" name=""/>
            <p:cNvSpPr/>
            <p:nvPr/>
          </p:nvSpPr>
          <p:spPr>
            <a:xfrm>
              <a:off x="73915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588000" y="2924280"/>
              <a:ext cx="208764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29400" y="25146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Breite + Hö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16560" y="3352680"/>
              <a:ext cx="2432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ergibt eine bessere Annäherung an die Quadratsei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1289160" y="2057400"/>
            <a:ext cx="3593880" cy="359424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89160" y="2774880"/>
            <a:ext cx="4521240" cy="2857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4915080" y="1676520"/>
            <a:ext cx="1953360" cy="1041120"/>
            <a:chOff x="4915080" y="1676520"/>
            <a:chExt cx="1953360" cy="1041120"/>
          </a:xfrm>
        </p:grpSpPr>
        <p:sp>
          <p:nvSpPr>
            <p:cNvPr id="1055" name=""/>
            <p:cNvSpPr/>
            <p:nvPr/>
          </p:nvSpPr>
          <p:spPr>
            <a:xfrm>
              <a:off x="5538960" y="1676520"/>
              <a:ext cx="132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ächengle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4915080" y="1841400"/>
              <a:ext cx="482040" cy="216000"/>
              <a:chOff x="4915080" y="1841400"/>
              <a:chExt cx="482040" cy="216000"/>
            </a:xfrm>
          </p:grpSpPr>
          <p:sp>
            <p:nvSpPr>
              <p:cNvPr id="1057" name=""/>
              <p:cNvSpPr/>
              <p:nvPr/>
            </p:nvSpPr>
            <p:spPr>
              <a:xfrm>
                <a:off x="4915080" y="1955880"/>
                <a:ext cx="139680" cy="1015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0" y="64"/>
                    </a:moveTo>
                    <a:lnTo>
                      <a:pt x="64" y="0"/>
                    </a:lnTo>
                    <a:lnTo>
                      <a:pt x="88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4927320" y="1841400"/>
                <a:ext cx="46980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5765760" y="2006640"/>
              <a:ext cx="139320" cy="711000"/>
              <a:chOff x="5765760" y="2006640"/>
              <a:chExt cx="139320" cy="711000"/>
            </a:xfrm>
          </p:grpSpPr>
          <p:sp>
            <p:nvSpPr>
              <p:cNvPr id="1060" name=""/>
              <p:cNvSpPr/>
              <p:nvPr/>
            </p:nvSpPr>
            <p:spPr>
              <a:xfrm>
                <a:off x="5765760" y="2577960"/>
                <a:ext cx="101520" cy="139680"/>
              </a:xfrm>
              <a:custGeom>
                <a:avLst/>
                <a:gdLst/>
                <a:ahLst/>
                <a:rect l="l" t="t" r="r" b="b"/>
                <a:pathLst>
                  <a:path w="64" h="88">
                    <a:moveTo>
                      <a:pt x="16" y="88"/>
                    </a:moveTo>
                    <a:lnTo>
                      <a:pt x="0" y="0"/>
                    </a:lnTo>
                    <a:lnTo>
                      <a:pt x="64" y="8"/>
                    </a:lnTo>
                    <a:lnTo>
                      <a:pt x="1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5790960" y="2006640"/>
                <a:ext cx="1141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2" name=""/>
          <p:cNvGrpSpPr/>
          <p:nvPr/>
        </p:nvGrpSpPr>
        <p:grpSpPr>
          <a:xfrm>
            <a:off x="939960" y="2781360"/>
            <a:ext cx="190440" cy="2870280"/>
            <a:chOff x="939960" y="2781360"/>
            <a:chExt cx="190440" cy="2870280"/>
          </a:xfrm>
        </p:grpSpPr>
        <p:grpSp>
          <p:nvGrpSpPr>
            <p:cNvPr id="1063" name=""/>
            <p:cNvGrpSpPr/>
            <p:nvPr/>
          </p:nvGrpSpPr>
          <p:grpSpPr>
            <a:xfrm>
              <a:off x="977760" y="2781360"/>
              <a:ext cx="101880" cy="2870280"/>
              <a:chOff x="977760" y="2781360"/>
              <a:chExt cx="101880" cy="2870280"/>
            </a:xfrm>
          </p:grpSpPr>
          <p:sp>
            <p:nvSpPr>
              <p:cNvPr id="1064" name=""/>
              <p:cNvSpPr/>
              <p:nvPr/>
            </p:nvSpPr>
            <p:spPr>
              <a:xfrm>
                <a:off x="977760" y="5511960"/>
                <a:ext cx="101880" cy="139680"/>
              </a:xfrm>
              <a:custGeom>
                <a:avLst/>
                <a:gdLst/>
                <a:ahLst/>
                <a:rect l="l" t="t" r="r" b="b"/>
                <a:pathLst>
                  <a:path w="64" h="88">
                    <a:moveTo>
                      <a:pt x="32" y="88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32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977760" y="2781360"/>
                <a:ext cx="101880" cy="139680"/>
              </a:xfrm>
              <a:custGeom>
                <a:avLst/>
                <a:gdLst/>
                <a:ahLst/>
                <a:rect l="l" t="t" r="r" b="b"/>
                <a:pathLst>
                  <a:path w="64" h="88">
                    <a:moveTo>
                      <a:pt x="32" y="0"/>
                    </a:moveTo>
                    <a:lnTo>
                      <a:pt x="64" y="88"/>
                    </a:lnTo>
                    <a:lnTo>
                      <a:pt x="0" y="8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028880" y="2806560"/>
                <a:ext cx="1440" cy="280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7" name="" descr=""/>
            <p:cNvPicPr/>
            <p:nvPr/>
          </p:nvPicPr>
          <p:blipFill>
            <a:blip r:embed="rId1"/>
            <a:stretch/>
          </p:blipFill>
          <p:spPr>
            <a:xfrm>
              <a:off x="939960" y="3695760"/>
              <a:ext cx="19044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8" name=""/>
          <p:cNvGrpSpPr/>
          <p:nvPr/>
        </p:nvGrpSpPr>
        <p:grpSpPr>
          <a:xfrm>
            <a:off x="1257480" y="5715000"/>
            <a:ext cx="4546440" cy="213480"/>
            <a:chOff x="1257480" y="5715000"/>
            <a:chExt cx="4546440" cy="213480"/>
          </a:xfrm>
        </p:grpSpPr>
        <p:sp>
          <p:nvSpPr>
            <p:cNvPr id="1069" name=""/>
            <p:cNvSpPr/>
            <p:nvPr/>
          </p:nvSpPr>
          <p:spPr>
            <a:xfrm>
              <a:off x="1257480" y="5778360"/>
              <a:ext cx="139680" cy="10188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0" y="32"/>
                  </a:moveTo>
                  <a:lnTo>
                    <a:pt x="88" y="0"/>
                  </a:lnTo>
                  <a:lnTo>
                    <a:pt x="88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64240" y="5778360"/>
              <a:ext cx="139680" cy="10188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88" y="32"/>
                  </a:moveTo>
                  <a:lnTo>
                    <a:pt x="0" y="64"/>
                  </a:lnTo>
                  <a:lnTo>
                    <a:pt x="0" y="0"/>
                  </a:lnTo>
                  <a:lnTo>
                    <a:pt x="8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1282320" y="5829480"/>
              <a:ext cx="4483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85720" y="5715000"/>
              <a:ext cx="7156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u la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76360" y="259920"/>
            <a:ext cx="806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Heronver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990720" y="2379600"/>
            <a:ext cx="20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Arial"/>
              </a:rPr>
              <a:t>Das Rechen-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4040280" y="1754280"/>
          <a:ext cx="3768480" cy="302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0280" y="1754280"/>
                    <a:ext cx="376848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"/>
          <p:cNvSpPr/>
          <p:nvPr/>
        </p:nvSpPr>
        <p:spPr>
          <a:xfrm>
            <a:off x="3564000" y="5516640"/>
            <a:ext cx="19047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m Arbeitsbl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as Heronverfahren auf dem</a:t>
            </a:r>
            <a:br>
              <a:rPr sz="3600"/>
            </a:b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CAS-Rechn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1386000" y="1630440"/>
            <a:ext cx="6654600" cy="36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onstruktion zum Heron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960480" y="4159080"/>
            <a:ext cx="4327560" cy="14320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56680" y="4159080"/>
            <a:ext cx="2862720" cy="286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960480" y="5586480"/>
            <a:ext cx="5759280" cy="85680"/>
            <a:chOff x="960480" y="5586480"/>
            <a:chExt cx="5759280" cy="85680"/>
          </a:xfrm>
        </p:grpSpPr>
        <p:sp>
          <p:nvSpPr>
            <p:cNvPr id="1084" name=""/>
            <p:cNvSpPr/>
            <p:nvPr/>
          </p:nvSpPr>
          <p:spPr>
            <a:xfrm flipH="1">
              <a:off x="960480" y="5591520"/>
              <a:ext cx="57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843360" y="5586480"/>
              <a:ext cx="648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6064200" y="169056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te herunterkl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3854520" y="3196800"/>
            <a:ext cx="0" cy="23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068160" y="221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 halb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068160" y="27464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krechte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961920" y="3444480"/>
            <a:ext cx="4324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286240" y="3444480"/>
            <a:ext cx="0" cy="21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68520" y="3273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Höhe besti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952560" y="3444480"/>
            <a:ext cx="0" cy="21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52560" y="3444840"/>
            <a:ext cx="43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068520" y="38019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s Rechteck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952560" y="3444840"/>
            <a:ext cx="2897280" cy="21463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1, 2, 3, 5, 8, 13,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495680" y="1643040"/>
          <a:ext cx="387504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43040"/>
                    <a:ext cx="38750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8360" y="2492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9, 16, 25,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221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, 11, 30, 67, 128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3, 7, 15, 31, 63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2475000"/>
          <a:ext cx="11527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475000"/>
                    <a:ext cx="1152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495680" y="3327480"/>
          <a:ext cx="140040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327480"/>
                    <a:ext cx="14004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495680" y="4143240"/>
          <a:ext cx="165600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143240"/>
                    <a:ext cx="16560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39640" y="508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 Menschen fällt eine rekursive Analyse erheblich leichter als eine expliz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218280" y="3341520"/>
          <a:ext cx="2790720" cy="49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8280" y="3341520"/>
                    <a:ext cx="27907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wei Fr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16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Warum konvergiert das Heronverfahren so stabi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Warum konvergiert das Heronverfahren so schne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549440" y="3886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587600" y="4584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587600" y="5270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374920" y="38862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489040" y="4584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374920" y="52704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1905120" y="3936960"/>
            <a:ext cx="355320" cy="127080"/>
            <a:chOff x="1905120" y="3936960"/>
            <a:chExt cx="355320" cy="127080"/>
          </a:xfrm>
        </p:grpSpPr>
        <p:sp>
          <p:nvSpPr>
            <p:cNvPr id="1107" name=""/>
            <p:cNvSpPr/>
            <p:nvPr/>
          </p:nvSpPr>
          <p:spPr>
            <a:xfrm>
              <a:off x="2108160" y="3936960"/>
              <a:ext cx="152280" cy="12708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4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9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1905120" y="4000680"/>
              <a:ext cx="304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05120" y="4635360"/>
            <a:ext cx="355320" cy="127080"/>
            <a:chOff x="1905120" y="4635360"/>
            <a:chExt cx="355320" cy="127080"/>
          </a:xfrm>
        </p:grpSpPr>
        <p:sp>
          <p:nvSpPr>
            <p:cNvPr id="1110" name=""/>
            <p:cNvSpPr/>
            <p:nvPr/>
          </p:nvSpPr>
          <p:spPr>
            <a:xfrm>
              <a:off x="2108160" y="4635360"/>
              <a:ext cx="152280" cy="12708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4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9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1905120" y="4699080"/>
              <a:ext cx="304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1866600" y="5321160"/>
            <a:ext cx="356040" cy="127080"/>
            <a:chOff x="1866600" y="5321160"/>
            <a:chExt cx="356040" cy="127080"/>
          </a:xfrm>
        </p:grpSpPr>
        <p:sp>
          <p:nvSpPr>
            <p:cNvPr id="1113" name=""/>
            <p:cNvSpPr/>
            <p:nvPr/>
          </p:nvSpPr>
          <p:spPr>
            <a:xfrm>
              <a:off x="2070000" y="5321160"/>
              <a:ext cx="152640" cy="12708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96" y="40"/>
                  </a:moveTo>
                  <a:lnTo>
                    <a:pt x="0" y="80"/>
                  </a:lnTo>
                  <a:lnTo>
                    <a:pt x="0" y="0"/>
                  </a:lnTo>
                  <a:lnTo>
                    <a:pt x="9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1866600" y="5384880"/>
              <a:ext cx="30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492360" y="4292640"/>
                <a:ext cx="1008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6" name=""/>
          <p:cNvSpPr/>
          <p:nvPr/>
        </p:nvSpPr>
        <p:spPr>
          <a:xfrm>
            <a:off x="2917800" y="4508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724360" y="3284640"/>
            <a:ext cx="1657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,99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,75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,7459677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,7459666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869080" y="5229360"/>
                <a:ext cx="10792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 instabiles Newton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rcRect l="26054" t="0" r="0" b="26068"/>
          <a:stretch/>
        </p:blipFill>
        <p:spPr>
          <a:xfrm>
            <a:off x="838080" y="1600200"/>
            <a:ext cx="7162920" cy="416736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6858000" y="5943600"/>
            <a:ext cx="19051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m Arbeitsbl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teration mit der Heronfunk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2971800" cy="100152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6858000" y="5943600"/>
            <a:ext cx="19051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m Arbeitsbl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858000" y="5943600"/>
            <a:ext cx="19051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m Arbeitsbl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vis.de/~al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66"/>
                </a:solidFill>
                <a:latin typeface="Wingdings"/>
                <a:ea typeface="Wingdings"/>
              </a:rPr>
              <a:t></a:t>
            </a: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Material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PowerPoint-Stack 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66"/>
                </a:solidFill>
                <a:latin typeface="Arial"/>
              </a:rPr>
              <a:t>Skript für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fische Analyse von Iteratio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nachfolgende Iterationsfolge enthält einen Feh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4648320" y="3938760"/>
          <a:ext cx="4038480" cy="10350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6515280" y="1752480"/>
          <a:ext cx="1434960" cy="467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1752480"/>
                    <a:ext cx="143496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324000" y="2936880"/>
          <a:ext cx="5832360" cy="3156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936880"/>
                    <a:ext cx="583236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fische Analyse von Iteratio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6084720" y="1557360"/>
          <a:ext cx="253872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557360"/>
                    <a:ext cx="2538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9" name=""/>
          <p:cNvGraphicFramePr/>
          <p:nvPr/>
        </p:nvGraphicFramePr>
        <p:xfrm>
          <a:off x="539640" y="1773360"/>
          <a:ext cx="5184720" cy="389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5184720" cy="38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1" name=""/>
          <p:cNvSpPr/>
          <p:nvPr/>
        </p:nvSpPr>
        <p:spPr>
          <a:xfrm flipV="1">
            <a:off x="6659640" y="1773000"/>
            <a:ext cx="79200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6732720" y="5805000"/>
            <a:ext cx="79200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763640" y="3573360"/>
            <a:ext cx="504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971640" y="4292640"/>
            <a:ext cx="360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4076640"/>
            <a:ext cx="9352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 rot="19851600">
            <a:off x="3032280" y="874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rot="19851600">
            <a:off x="2730600" y="1397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9851600">
            <a:off x="3327480" y="1397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19851600">
            <a:off x="3044880" y="1928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rot="19851600">
            <a:off x="2743200" y="245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19851600">
            <a:off x="3340080" y="245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rot="19851600">
            <a:off x="3631680" y="192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19851600">
            <a:off x="2450880" y="1929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rot="19851600">
            <a:off x="3936960" y="2463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19851600">
            <a:off x="2145960" y="24379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rot="19851600">
            <a:off x="1850760" y="2957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19851600">
            <a:off x="1549440" y="3479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rot="19851600">
            <a:off x="2146320" y="3479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19851600">
            <a:off x="1863360" y="4011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rot="19851600">
            <a:off x="1561680" y="4533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19851600">
            <a:off x="2158560" y="4533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rot="19851600">
            <a:off x="2451240" y="4013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rot="19851600">
            <a:off x="1270080" y="4013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19851600">
            <a:off x="2755440" y="4546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rot="19851600">
            <a:off x="965160" y="4521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rot="19851600">
            <a:off x="4226040" y="2997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rot="19851600">
            <a:off x="3924000" y="35190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rot="19851600">
            <a:off x="4520880" y="35190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rot="19851600">
            <a:off x="4226040" y="4051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rot="19851600">
            <a:off x="3936600" y="4573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rot="19851600">
            <a:off x="4533480" y="4573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rot="19851600">
            <a:off x="4826160" y="4052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rot="19851600">
            <a:off x="3632040" y="4040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rot="19851600">
            <a:off x="5130720" y="4586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9851600">
            <a:off x="3340080" y="4560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rot="19851600">
            <a:off x="3044880" y="2982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9851600">
            <a:off x="2743200" y="3505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rot="19851600">
            <a:off x="3340080" y="3505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rot="19851600">
            <a:off x="3631680" y="29840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rot="19851600">
            <a:off x="2438280" y="2971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rot="19851600">
            <a:off x="3048120" y="4025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rot="19851600">
            <a:off x="1257480" y="5052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9851600">
            <a:off x="1854360" y="5052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9851600">
            <a:off x="2450880" y="5065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rot="19851600">
            <a:off x="660240" y="5040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rot="19851600">
            <a:off x="3631680" y="5092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rot="19851600">
            <a:off x="4228920" y="5092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rot="19851600">
            <a:off x="4826160" y="51055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rot="19851600">
            <a:off x="3035160" y="5079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rot="19851600">
            <a:off x="965160" y="5573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19851600">
            <a:off x="1562040" y="5573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rot="19851600">
            <a:off x="2158920" y="5586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rot="19851600">
            <a:off x="367920" y="55605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19851600">
            <a:off x="3340080" y="5613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9851600">
            <a:off x="3936960" y="5613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19851600">
            <a:off x="4533840" y="56260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rot="19851600">
            <a:off x="2743200" y="5600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rot="19851600">
            <a:off x="660240" y="6081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9851600">
            <a:off x="1257480" y="6081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19851600">
            <a:off x="1854360" y="6094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19851600">
            <a:off x="63000" y="60685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rot="19851600">
            <a:off x="3035160" y="6121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rot="19851600">
            <a:off x="3632040" y="6121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9851600">
            <a:off x="4228920" y="61336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rot="19851600">
            <a:off x="2438280" y="6108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rot="19851600">
            <a:off x="4826160" y="6159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rot="19851600">
            <a:off x="5423040" y="6159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9851600">
            <a:off x="6019920" y="6172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19851600">
            <a:off x="5118120" y="56260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19851600">
            <a:off x="5714640" y="56383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19851600">
            <a:off x="5409720" y="5130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768920" y="7632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oordinaten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066680" y="114300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066680" y="167652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066680" y="220968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066680" y="274320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35320" y="8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35320" y="136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35320" y="197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35320" y="2505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581280" y="45720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3886200" y="91440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191120" y="144792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495680" y="1980720"/>
            <a:ext cx="22860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800600" y="251460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105520" y="3048120"/>
            <a:ext cx="22860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73392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038840" y="45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343760" y="990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648320" y="152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066680" y="32767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3520" y="3062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87872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066680" y="380988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35320" y="35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258160" y="2590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467480" y="175248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3880" y="1666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486400" y="313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255640" y="838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m+1,k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47320" y="83808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m,k)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541280" y="83808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m,k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443920" y="12952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m,0)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446800" y="167652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m,m)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 rot="19851600">
            <a:off x="3032280" y="798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rot="19851600">
            <a:off x="2730600" y="1320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rot="19851600">
            <a:off x="3327480" y="1320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rot="19851600">
            <a:off x="3044880" y="1852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rot="19851600">
            <a:off x="2743200" y="2374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rot="19851600">
            <a:off x="3340080" y="2374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rot="19851600">
            <a:off x="3632040" y="185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9851600">
            <a:off x="2451240" y="185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rot="19851600">
            <a:off x="3936600" y="2387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rot="19851600">
            <a:off x="2146320" y="23623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rot="19851600">
            <a:off x="1851120" y="2881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rot="19851600">
            <a:off x="1549080" y="3403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rot="19851600">
            <a:off x="2145960" y="3403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rot="19851600">
            <a:off x="1863720" y="39355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rot="19851600">
            <a:off x="1562040" y="4457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rot="19851600">
            <a:off x="2158920" y="4457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rot="19851600">
            <a:off x="1270080" y="3936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rot="19851600">
            <a:off x="2755800" y="4470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rot="19851600">
            <a:off x="964800" y="44445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rot="19851600">
            <a:off x="4226040" y="29210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rot="19851600">
            <a:off x="3924360" y="3443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rot="19851600">
            <a:off x="4521240" y="34434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rot="19851600">
            <a:off x="4226040" y="3975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rot="19851600">
            <a:off x="3936960" y="44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rot="19851600">
            <a:off x="4533840" y="44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rot="19851600">
            <a:off x="4825800" y="3976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rot="19851600">
            <a:off x="3632040" y="3963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rot="19851600">
            <a:off x="5130720" y="45100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rot="19851600">
            <a:off x="3339720" y="44841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rot="19851600">
            <a:off x="3044520" y="29062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rot="19851600">
            <a:off x="2743200" y="3429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rot="19851600">
            <a:off x="3340080" y="3429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rot="19851600">
            <a:off x="3632040" y="29084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rot="19851600">
            <a:off x="2437920" y="28951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rot="19851600">
            <a:off x="3047760" y="39492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rot="19851600">
            <a:off x="1257120" y="49762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rot="19851600">
            <a:off x="1854000" y="49762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rot="19851600">
            <a:off x="2451240" y="4989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rot="19851600">
            <a:off x="659880" y="49636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rot="19851600">
            <a:off x="3632040" y="5016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rot="19851600">
            <a:off x="4229280" y="5016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9851600">
            <a:off x="4826160" y="5029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rot="19851600">
            <a:off x="3034800" y="50032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rot="19851600">
            <a:off x="965160" y="5497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rot="19851600">
            <a:off x="1562040" y="5497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rot="19851600">
            <a:off x="2158920" y="5510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rot="19851600">
            <a:off x="368280" y="5484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rot="19851600">
            <a:off x="3340080" y="5537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rot="19851600">
            <a:off x="3936960" y="5537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rot="19851600">
            <a:off x="4533480" y="5549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rot="19851600">
            <a:off x="2743200" y="5524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rot="19851600">
            <a:off x="660240" y="60055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rot="19851600">
            <a:off x="1257480" y="60055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rot="19851600">
            <a:off x="1854000" y="60177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9851600">
            <a:off x="63360" y="5992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9851600">
            <a:off x="3034800" y="60447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rot="19851600">
            <a:off x="3631680" y="60447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rot="19851600">
            <a:off x="4229280" y="60580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rot="19851600">
            <a:off x="2438280" y="60325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rot="19851600">
            <a:off x="4826160" y="6083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rot="19851600">
            <a:off x="5423040" y="6083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rot="19851600">
            <a:off x="6019560" y="60955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rot="19851600">
            <a:off x="5117760" y="5549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rot="19851600">
            <a:off x="5715000" y="5562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rot="19851600">
            <a:off x="5410080" y="5054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886200" y="1028880"/>
            <a:ext cx="2819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191120" y="1562040"/>
            <a:ext cx="2514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495680" y="2171880"/>
            <a:ext cx="2210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800600" y="270504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3238560"/>
            <a:ext cx="1600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410080" y="377208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715000" y="4305240"/>
            <a:ext cx="99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700800" y="196920"/>
            <a:ext cx="45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Wahrscheinlichke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088040" y="574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088040" y="1184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7088040" y="1793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088040" y="2327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087680" y="28605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087680" y="3394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087680" y="39276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066680" y="1066680"/>
            <a:ext cx="1752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066680" y="160020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066680" y="213372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066680" y="26668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34960" y="654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34960" y="118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34960" y="179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34960" y="233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rot="19851600">
            <a:off x="2463840" y="39369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2223000" y="2920320"/>
            <a:ext cx="6081840" cy="2643480"/>
            <a:chOff x="2223000" y="2920320"/>
            <a:chExt cx="6081840" cy="2643480"/>
          </a:xfrm>
        </p:grpSpPr>
        <p:sp>
          <p:nvSpPr>
            <p:cNvPr id="1335" name=""/>
            <p:cNvSpPr/>
            <p:nvPr/>
          </p:nvSpPr>
          <p:spPr>
            <a:xfrm rot="19851600">
              <a:off x="2450880" y="3938040"/>
              <a:ext cx="685800" cy="609840"/>
            </a:xfrm>
            <a:prstGeom prst="hexagon">
              <a:avLst>
                <a:gd name="adj" fmla="val 28114"/>
                <a:gd name="vf" fmla="val 115470"/>
              </a:avLst>
            </a:prstGeom>
            <a:solidFill>
              <a:srgbClr val="1bffc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979680" y="4921200"/>
              <a:ext cx="1325160" cy="642600"/>
            </a:xfrm>
            <a:prstGeom prst="rect">
              <a:avLst/>
            </a:prstGeom>
            <a:solidFill>
              <a:srgbClr val="1bffc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5/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223000" y="2920320"/>
              <a:ext cx="4780440" cy="6426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6 M</a:t>
              </a:r>
              <a:r>
                <a:rPr b="0" lang="de-DE" sz="3600" spc="-1" strike="noStrike">
                  <a:solidFill>
                    <a:srgbClr val="ffff00"/>
                  </a:solidFill>
                  <a:latin typeface="Arial"/>
                </a:rPr>
                <a:t>ünzen  und  2 Kop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Zahlenfolgen am Voyage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44520" y="1413000"/>
            <a:ext cx="68565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2920" y="4292640"/>
            <a:ext cx="3529080" cy="865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4560" y="5713560"/>
            <a:ext cx="83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Arial"/>
              </a:rPr>
              <a:t>Für rekursive Definitionen im Home-Bildschirm gibt es die ans-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Zahlenfolgen am Voyage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5805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66"/>
                </a:solidFill>
                <a:latin typeface="Arial"/>
              </a:rPr>
              <a:t>Folgen können im Sequence-mode sowohl explizit als auch rekursiv definie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85980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und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72360" cy="3791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42920" y="55897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ellenkalkulationsprogramme basieren stark auf dem iterativen De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3720" y="3367080"/>
            <a:ext cx="413064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 Formeln „runterziehen“ will, muss oft iterativ (rekursiv) de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onacci-Zah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1, 1, 2, 3, 5, 8, 13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erende Eigenschaft: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Regelmäßigke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rade, ungerade, gerade, ungerade, ungerade, gerade, 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Differenzen reproduzieren die Zahlenfol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onacci-Zah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perimentieren mit Variati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ere Startzahlen, z.B.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4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lich viele Glieder, z.B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4, 7, 11, 18,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 gibt eine End- bzw. Zielzahl, hier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passiert mit der Zielzahl, wenn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1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e erste Startzahl um 1 erhö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1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e erste Startzahl um 1 verring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1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e zweite Startzahl um 1 erhö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0640" indent="1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e Startzahlen vertaus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t welchen Zahlen muss/kann man starten, um die Zielzahl 100 zu errei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9:35:59Z</dcterms:created>
  <dc:creator>Reimund</dc:creator>
  <dc:description/>
  <dc:language>en-US</dc:language>
  <cp:lastModifiedBy>Reimund</cp:lastModifiedBy>
  <dcterms:modified xsi:type="dcterms:W3CDTF">2004-06-30T12:06:45Z</dcterms:modified>
  <cp:revision>81</cp:revision>
  <dc:subject/>
  <dc:title>Iteration</dc:title>
</cp:coreProperties>
</file>